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C8F-CBDD-4DB3-B7A1-456FDB9F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600-818C-4B8B-9DE5-DBB92BC4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C3D-DAD9-481F-873F-6381F6B4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5E7-B073-4A2E-91FC-9F0D41C8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2B1-7A52-47F5-9A99-CDFF439E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107-1458-4820-8F0E-4F3ADFA3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EC4-FC12-4E22-9833-08BEE0C3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AFA-295B-4A93-A59B-956F65FC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41E-9B7F-4A64-959E-78D84DD7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D77-DDB1-4393-9953-B1088AF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227-5B05-4DEE-85C7-D1726B41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4E5-8547-44AA-9DB5-749ED914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yongchen@purdue.ed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8878-6B08-473A-898F-3A486EB9D9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48FC-8C37-42FB-8CDF-A1825937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45440"/>
            <a:ext cx="914400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     Spring 20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Yong P. Chen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ongchen@purdue.ed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Lecture 9     (2/10/2016)         Slide </a:t>
            </a:r>
            <a:fld id="{EA7383CC-9DDD-4A3A-B980-E9E4DDD59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596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Quantum Photonics &amp; Quantum Op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990720" y="-76320"/>
            <a:ext cx="87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PHYS5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7431120" y="-6192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169d"/>
                </a:solidFill>
                <a:latin typeface="Times New Roman"/>
              </a:rPr>
              <a:t>ECE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8" descr=""/>
          <p:cNvPicPr/>
          <p:nvPr/>
        </p:nvPicPr>
        <p:blipFill>
          <a:blip r:embed="rId3"/>
          <a:stretch/>
        </p:blipFill>
        <p:spPr>
          <a:xfrm>
            <a:off x="441360" y="-41400"/>
            <a:ext cx="384120" cy="341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9" descr=""/>
          <p:cNvPicPr/>
          <p:nvPr/>
        </p:nvPicPr>
        <p:blipFill>
          <a:blip r:embed="rId4"/>
          <a:stretch/>
        </p:blipFill>
        <p:spPr>
          <a:xfrm>
            <a:off x="-20520" y="-3024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"/>
          <p:cNvPicPr/>
          <p:nvPr/>
        </p:nvPicPr>
        <p:blipFill>
          <a:blip r:embed="rId5"/>
          <a:stretch/>
        </p:blipFill>
        <p:spPr>
          <a:xfrm>
            <a:off x="8763120" y="-15840"/>
            <a:ext cx="407880" cy="6094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1" descr=""/>
          <p:cNvPicPr/>
          <p:nvPr/>
        </p:nvPicPr>
        <p:blipFill>
          <a:blip r:embed="rId6"/>
          <a:stretch/>
        </p:blipFill>
        <p:spPr>
          <a:xfrm>
            <a:off x="8248680" y="0"/>
            <a:ext cx="514440" cy="42228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25"/>
          <p:cNvSpPr/>
          <p:nvPr/>
        </p:nvSpPr>
        <p:spPr>
          <a:xfrm>
            <a:off x="8229600" y="304920"/>
            <a:ext cx="533520" cy="152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4"/>
          <p:cNvSpPr/>
          <p:nvPr/>
        </p:nvSpPr>
        <p:spPr>
          <a:xfrm>
            <a:off x="396720" y="31752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“Coherent Optics &amp; Quantum Electronics”) http://www.physics.purdue.edu/academic_programs/courses/phys522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ecture 9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itons (cont.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minescence (Interband Emis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: FS 4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57360" y="843120"/>
            <a:ext cx="741024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520560" y="900000"/>
            <a:ext cx="758988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85640" y="800280"/>
            <a:ext cx="8172720" cy="525780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1" descr=""/>
          <p:cNvPicPr/>
          <p:nvPr/>
        </p:nvPicPr>
        <p:blipFill>
          <a:blip r:embed="rId3"/>
          <a:stretch/>
        </p:blipFill>
        <p:spPr>
          <a:xfrm>
            <a:off x="6705720" y="5711760"/>
            <a:ext cx="22557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880920" y="824040"/>
            <a:ext cx="7382160" cy="52099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1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26701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961920" y="919080"/>
            <a:ext cx="7220160" cy="5019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33840" y="342252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809640" y="905040"/>
            <a:ext cx="75247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61720" y="1905120"/>
            <a:ext cx="3480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inescence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(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732120" y="1447920"/>
            <a:ext cx="5254560" cy="343836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6"/>
          <p:cNvCxnSpPr/>
          <p:nvPr/>
        </p:nvCxnSpPr>
        <p:spPr>
          <a:xfrm flipH="1" flipV="1">
            <a:off x="3504600" y="2688480"/>
            <a:ext cx="610200" cy="478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7" name="TextBox 7"/>
          <p:cNvSpPr/>
          <p:nvPr/>
        </p:nvSpPr>
        <p:spPr>
          <a:xfrm>
            <a:off x="218880" y="4896000"/>
            <a:ext cx="5618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spin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echanisms:  SOC such as EY, DP; BAP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Box 9" descr=""/>
          <p:cNvPicPr/>
          <p:nvPr/>
        </p:nvPicPr>
        <p:blipFill>
          <a:blip r:embed="rId2"/>
          <a:stretch/>
        </p:blipFill>
        <p:spPr>
          <a:xfrm>
            <a:off x="231840" y="3833640"/>
            <a:ext cx="2620800" cy="671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511560" y="4502160"/>
            <a:ext cx="14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355680" y="3633840"/>
            <a:ext cx="11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le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52400" y="909720"/>
            <a:ext cx="7639200" cy="5038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6781680" y="11430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s iss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nd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tice matc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ing n&amp;p (esp.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76160" y="795240"/>
            <a:ext cx="7591680" cy="52675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6440" y="5856120"/>
            <a:ext cx="78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ater:  new opportunities with Van der Waals (vd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cked” heterostructure of 2D material semiconductors: no lattice match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type doping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228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. Wide gap semiconductor (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ep acceptable level -&gt; few holes in room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for p-n junction and optoelectronics (LED, las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type GaN breakthrough: ann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kamura et al.’95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bel pr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&amp; all-color LED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id state ligh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729144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1: M. Fox “Optical Properties of Solids”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, Ox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4280" y="6156360"/>
            <a:ext cx="47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nline pdf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ed) seems to be available (goog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6960" y="1905120"/>
            <a:ext cx="790560" cy="459720"/>
          </a:xfrm>
          <a:prstGeom prst="rect">
            <a:avLst/>
          </a:prstGeom>
          <a:noFill/>
          <a:ln w="9360">
            <a:solidFill>
              <a:srgbClr val="1016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93960" y="2514600"/>
            <a:ext cx="32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e’ll cover a good portion of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 selected modern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8"/>
          <p:cNvSpPr/>
          <p:nvPr/>
        </p:nvSpPr>
        <p:spPr>
          <a:xfrm>
            <a:off x="4267080" y="5486400"/>
            <a:ext cx="1067040" cy="669960"/>
          </a:xfrm>
          <a:prstGeom prst="line">
            <a:avLst/>
          </a:prstGeom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700200" y="728640"/>
            <a:ext cx="7743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776160" y="604800"/>
            <a:ext cx="7591680" cy="5648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29520" y="6087960"/>
            <a:ext cx="87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lso: scintillators (X/gamma rays, neutrons, any high energy particles), cf. Glenn Knoll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0 &amp; 11 (Thurs &amp; next Tues) by guest lectur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 Tongcang Li, Lec 10 on light source and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David Blasing, Lec. 11 on Bloch 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K 3 posted, due Thurs 2/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93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 Table of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icture 7"/>
          <p:cNvPicPr/>
          <p:nvPr/>
        </p:nvPicPr>
        <p:blipFill>
          <a:blip r:embed="rId1"/>
          <a:stretch/>
        </p:blipFill>
        <p:spPr>
          <a:xfrm>
            <a:off x="7920" y="1143000"/>
            <a:ext cx="9188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itons:  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hysics in Solid State Phys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06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 Chap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3336840" y="1477800"/>
            <a:ext cx="5643720" cy="385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152280" y="2449440"/>
            <a:ext cx="2516400" cy="25243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145160" y="4237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162800" y="3403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1160640" y="3479760"/>
            <a:ext cx="250560" cy="12193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295160" y="1898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small g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7265160" y="191772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large gap mate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http://t0.gstatic.com/images?q=tbn:ANd9GcSiTaru2-kRBINFHwWe7YdktUn6GrOkbHb2_DY74oqWVpKw-vYP"/>
          <p:cNvPicPr/>
          <p:nvPr/>
        </p:nvPicPr>
        <p:blipFill>
          <a:blip r:embed="rId3"/>
          <a:stretch/>
        </p:blipFill>
        <p:spPr>
          <a:xfrm>
            <a:off x="3886200" y="5638680"/>
            <a:ext cx="2276640" cy="893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0880" y="5513400"/>
            <a:ext cx="393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Excitons are (bosonic)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tom lik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objec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Caveat/challenge: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usually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short lif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PGothic"/>
              </a:rPr>
              <a:t>&amp; in a “complex”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932200" y="101448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n exciting frontier in quantum phot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143000" y="2187720"/>
            <a:ext cx="246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Coulomb attraction b/t e-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 </a:t>
            </a:r>
            <a:r>
              <a:rPr b="0" i="1" lang="en-US" sz="1400" spc="-1" strike="noStrike">
                <a:solidFill>
                  <a:srgbClr val="ffc000"/>
                </a:solidFill>
                <a:latin typeface="Times New Roman"/>
                <a:ea typeface="MS PGothic"/>
              </a:rPr>
              <a:t>Can increase opt. trans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429000" y="4237200"/>
            <a:ext cx="619200" cy="334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153200" y="4237200"/>
            <a:ext cx="619200" cy="334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329160" y="5175360"/>
            <a:ext cx="28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like excitation inside atom/m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6200640" y="5486400"/>
            <a:ext cx="2038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Important for excit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Binding energy;  siz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life time </a:t>
            </a:r>
            <a:r>
              <a:rPr b="0" lang="en-US" sz="16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 line 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  <a:ea typeface="MS PGothic"/>
              </a:rPr>
              <a:t>(kT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7095960" cy="5448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807800" y="54086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tt densit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Straight Arrow Connector 5"/>
          <p:cNvCxnSpPr/>
          <p:nvPr/>
        </p:nvCxnSpPr>
        <p:spPr>
          <a:xfrm>
            <a:off x="1904760" y="2247840"/>
            <a:ext cx="1080" cy="4115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1" name="TextBox 6"/>
          <p:cNvSpPr/>
          <p:nvPr/>
        </p:nvSpPr>
        <p:spPr>
          <a:xfrm>
            <a:off x="101520" y="2089080"/>
            <a:ext cx="1771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xcit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iexciton/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if dissoci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-h plas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quid/drop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EC(?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ution: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057400" y="5173560"/>
            <a:ext cx="1981080" cy="4111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://t0.gstatic.com/images?q=tbn:ANd9GcSiTaru2-kRBINFHwWe7YdktUn6GrOkbHb2_DY74oqWVpKw-vYP"/>
          <p:cNvPicPr/>
          <p:nvPr/>
        </p:nvPicPr>
        <p:blipFill>
          <a:blip r:embed="rId2"/>
          <a:stretch/>
        </p:blipFill>
        <p:spPr>
          <a:xfrm>
            <a:off x="2057400" y="5776920"/>
            <a:ext cx="1614600" cy="633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3429000" y="6278400"/>
            <a:ext cx="198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ature. 443 , 409 (2006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870200" y="183204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Exciton density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 laser 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7398720" y="38131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 vs reco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on BEC (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&amp; CuCl  (large gap semicondu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led GaAs quantum well  [Chap FS 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Emerging: Stacked 2D semiconductors (TMD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iton-polariton (exciton+photon) 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059360" y="578952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. Kasprzak et al.  Nature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4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409 (2006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[CdTe QWs in microcavit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79600" y="4836960"/>
            <a:ext cx="62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e review in T. Byrnes et al. Nature Physics 10, 803–813 (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267080" y="32004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://butovgroup.ucsd.edu/condensatio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762120" y="26449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se-Einstein Condensation of Excitons and Biexcitons, S.A.Moskalenko, D. W. Snoke, Cambridge Univ Press'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http://t0.gstatic.com/images?q=tbn:ANd9GcSiTaru2-kRBINFHwWe7YdktUn6GrOkbHb2_DY74oqWVpKw-vYP"/>
          <p:cNvPicPr/>
          <p:nvPr/>
        </p:nvPicPr>
        <p:blipFill>
          <a:blip r:embed="rId1"/>
          <a:stretch/>
        </p:blipFill>
        <p:spPr>
          <a:xfrm>
            <a:off x="1833480" y="5562720"/>
            <a:ext cx="2224080" cy="873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7086600" y="9907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May come back th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019240" y="1050840"/>
            <a:ext cx="7353360" cy="5305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4200" y="1523880"/>
            <a:ext cx="250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ightly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~Room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om/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ranspo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pping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att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rong “polaroni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phonon) self-tr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ff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125040" y="4916520"/>
            <a:ext cx="324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mportant in conj polymers eg. PDA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rganic LED/laser…  biolog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224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4400" y="3262320"/>
            <a:ext cx="4495680" cy="32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4575240" y="762120"/>
            <a:ext cx="4572000" cy="215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4343400" y="5241960"/>
            <a:ext cx="2419200" cy="123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5"/>
          <a:stretch/>
        </p:blipFill>
        <p:spPr>
          <a:xfrm>
            <a:off x="4495680" y="3436920"/>
            <a:ext cx="2210040" cy="18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6"/>
          <a:stretch/>
        </p:blipFill>
        <p:spPr>
          <a:xfrm>
            <a:off x="6705720" y="3405240"/>
            <a:ext cx="2230200" cy="29862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5128200" y="300996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flectivity measurement on different thic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distinguish Interference eff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152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95320" y="833400"/>
            <a:ext cx="7353360" cy="5191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3020040" y="17082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&lt;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8:34Z</dcterms:created>
  <dc:creator>Norbert Neumeister</dc:creator>
  <dc:description/>
  <cp:keywords/>
  <dc:language>en-US</dc:language>
  <cp:lastModifiedBy>Yong P. Chen</cp:lastModifiedBy>
  <cp:lastPrinted>2006-01-11T03:05:51Z</cp:lastPrinted>
  <dcterms:modified xsi:type="dcterms:W3CDTF">2016-02-09T14:03:51Z</dcterms:modified>
  <cp:revision>497</cp:revision>
  <dc:subject>Physics 272H, Spring 2007</dc:subject>
  <dc:title>Lecture 2</dc:title>
</cp:coreProperties>
</file>