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FFC-7CA1-4900-89A9-5767B5FB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85F-762B-47C8-B436-26635E02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A73-4250-4B12-8D4F-3E66410C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55C-A65C-4579-B921-2D4B59E6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159-D4BB-4E0F-8569-51C6824C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3B6-D503-4216-95E3-5E32D4AE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BEB-B0AB-419C-AAFA-DCE6197B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348-3F2D-4C41-8099-FCE1A096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C50-B199-4093-B3B6-801B450A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7AE-4942-4D9F-8E9F-5ED146C5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B5E-06F1-4CFD-8AF4-C6A95589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9A0-93AD-4489-AF0F-148B290B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9115-8F0C-4220-BB81-7189D8C6A5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161D-4845-477C-99E8-5B9685F47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9     (2/10/2016)         Slide </a:t>
            </a:r>
            <a:fld id="{9CA6FE8A-35A2-4788-A3DB-ED6CF1134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9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itons (cont.)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minescence (Interband Emis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4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57360" y="843120"/>
            <a:ext cx="741024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520560" y="900000"/>
            <a:ext cx="758988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85640" y="800280"/>
            <a:ext cx="8172720" cy="525780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1" descr=""/>
          <p:cNvPicPr/>
          <p:nvPr/>
        </p:nvPicPr>
        <p:blipFill>
          <a:blip r:embed="rId3"/>
          <a:stretch/>
        </p:blipFill>
        <p:spPr>
          <a:xfrm>
            <a:off x="6705720" y="5711760"/>
            <a:ext cx="22557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880920" y="824040"/>
            <a:ext cx="7382160" cy="520992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1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26701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961920" y="919080"/>
            <a:ext cx="7220160" cy="5019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33840" y="342252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809640" y="905040"/>
            <a:ext cx="75247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61720" y="1905120"/>
            <a:ext cx="3480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inescence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254560" cy="343836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6"/>
          <p:cNvCxnSpPr/>
          <p:nvPr/>
        </p:nvCxnSpPr>
        <p:spPr>
          <a:xfrm flipH="1" flipV="1">
            <a:off x="3504600" y="2688480"/>
            <a:ext cx="610200" cy="478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7" name="TextBox 7"/>
          <p:cNvSpPr/>
          <p:nvPr/>
        </p:nvSpPr>
        <p:spPr>
          <a:xfrm>
            <a:off x="218880" y="4896000"/>
            <a:ext cx="5618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spin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echanisms:  SOC such as EY, DP; BAP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xtBox 9" descr=""/>
          <p:cNvPicPr/>
          <p:nvPr/>
        </p:nvPicPr>
        <p:blipFill>
          <a:blip r:embed="rId2"/>
          <a:stretch/>
        </p:blipFill>
        <p:spPr>
          <a:xfrm>
            <a:off x="231840" y="3833640"/>
            <a:ext cx="2620800" cy="671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511560" y="4502160"/>
            <a:ext cx="14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355680" y="3633840"/>
            <a:ext cx="117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le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752400" y="909720"/>
            <a:ext cx="7639200" cy="50385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6781680" y="11430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ls iss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tice matc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ping n&amp;p (esp.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76160" y="795240"/>
            <a:ext cx="7591680" cy="52675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6440" y="5856120"/>
            <a:ext cx="78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ater:  new opportunities with Van der Waals (vd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cked” heterostructure of 2D material semiconductors: no lattice match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type doping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228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. Wide gap semiconductor (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ep acceptable level -&gt; few holes in room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for p-n junction and optoelectronics (LED, lase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type GaN breakthrough: ann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kamura et al.’95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bel pr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&amp; all-color LED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id state ligh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700200" y="728640"/>
            <a:ext cx="77436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776160" y="604800"/>
            <a:ext cx="7591680" cy="5648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29520" y="6087960"/>
            <a:ext cx="87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so: scintillators (X/gamma rays, neutrons, any high energy particles), cf. Glenn Knoll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0 &amp; 11 (Thurs &amp; next Tues) by guest lectur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 Tongcang Li, Lec 10 on light source and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David Blasing, Lec. 11 on Bloch 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K 3 posted, due Thurs 2/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itons:  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hysics in Solid State Phys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06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 Chap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3336840" y="1477800"/>
            <a:ext cx="5643720" cy="385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152280" y="2449440"/>
            <a:ext cx="2516400" cy="25243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145160" y="4237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162800" y="3403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1160640" y="3479760"/>
            <a:ext cx="250560" cy="12193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295160" y="1898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mall g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7265160" y="191772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arge gap mater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http://t0.gstatic.com/images?q=tbn:ANd9GcSiTaru2-kRBINFHwWe7YdktUn6GrOkbHb2_DY74oqWVpKw-vYP"/>
          <p:cNvPicPr/>
          <p:nvPr/>
        </p:nvPicPr>
        <p:blipFill>
          <a:blip r:embed="rId3"/>
          <a:stretch/>
        </p:blipFill>
        <p:spPr>
          <a:xfrm>
            <a:off x="3886200" y="5638680"/>
            <a:ext cx="2276640" cy="893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0880" y="5513400"/>
            <a:ext cx="393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Excitons are (bosonic)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tom lik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obj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aveat/challenge: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usually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short lif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&amp; in a “complex”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932200" y="101448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n exciting frontier in quantum phot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143000" y="2187720"/>
            <a:ext cx="246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Coulomb attraction b/t e-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 </a:t>
            </a: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Can increase opt. transi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429000" y="4237200"/>
            <a:ext cx="619200" cy="334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7153200" y="4237200"/>
            <a:ext cx="619200" cy="334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329160" y="5175360"/>
            <a:ext cx="28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like excitation inside atom/m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6200640" y="5486400"/>
            <a:ext cx="2038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Important for excit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Binding energy;  siz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fe time </a:t>
            </a:r>
            <a:r>
              <a:rPr b="0" lang="en-US" sz="16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 line wid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kT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7095960" cy="5448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807800" y="54086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tt densit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Straight Arrow Connector 5"/>
          <p:cNvCxnSpPr/>
          <p:nvPr/>
        </p:nvCxnSpPr>
        <p:spPr>
          <a:xfrm>
            <a:off x="1904760" y="2247840"/>
            <a:ext cx="1080" cy="4115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1" name="TextBox 6"/>
          <p:cNvSpPr/>
          <p:nvPr/>
        </p:nvSpPr>
        <p:spPr>
          <a:xfrm>
            <a:off x="101520" y="2089080"/>
            <a:ext cx="1771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it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iexciton/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f dissoci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-h plas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quid/drop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EC(?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ution: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057400" y="5173560"/>
            <a:ext cx="1981080" cy="4111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http://t0.gstatic.com/images?q=tbn:ANd9GcSiTaru2-kRBINFHwWe7YdktUn6GrOkbHb2_DY74oqWVpKw-vYP"/>
          <p:cNvPicPr/>
          <p:nvPr/>
        </p:nvPicPr>
        <p:blipFill>
          <a:blip r:embed="rId2"/>
          <a:stretch/>
        </p:blipFill>
        <p:spPr>
          <a:xfrm>
            <a:off x="2057400" y="5776920"/>
            <a:ext cx="1614600" cy="633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3429000" y="6278400"/>
            <a:ext cx="198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ature. 443 , 409 (2006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870200" y="183204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Exciton density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laser 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7398720" y="38131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 vs reco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on BEC (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&amp; CuCl  (large gap semicondu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led GaAs quantum well  [Chap FS 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Emerging: Stacked 2D semiconductors (TMD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iton-polariton (exciton+photon) 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059360" y="5789520"/>
            <a:ext cx="40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. Kasprzak et al.  Nature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4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409 (2006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CdTe QWs in microcavit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79600" y="4836960"/>
            <a:ext cx="62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e review in T. Byrnes et al. Nature Physics 10, 803–813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267080" y="32004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butovgroup.ucsd.edu/condensation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762120" y="26449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ose-Einstein Condensation of Excitons and Biexcitons, S.A.Moskalenko, D. W. Snoke, Cambridge Univ Press'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http://t0.gstatic.com/images?q=tbn:ANd9GcSiTaru2-kRBINFHwWe7YdktUn6GrOkbHb2_DY74oqWVpKw-vYP"/>
          <p:cNvPicPr/>
          <p:nvPr/>
        </p:nvPicPr>
        <p:blipFill>
          <a:blip r:embed="rId1"/>
          <a:stretch/>
        </p:blipFill>
        <p:spPr>
          <a:xfrm>
            <a:off x="1833480" y="5562720"/>
            <a:ext cx="2224080" cy="873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7086600" y="9907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ay come back th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019240" y="1050840"/>
            <a:ext cx="7353360" cy="5305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4200" y="1523880"/>
            <a:ext cx="2500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ightly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Room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/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anspo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pping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tt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rong “polaroni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honon) self-tr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ff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125040" y="4916520"/>
            <a:ext cx="324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mportant in conj polymers eg. PDA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ganic LED/laser…  biolog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224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14400" y="3262320"/>
            <a:ext cx="4495680" cy="32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4575240" y="762120"/>
            <a:ext cx="4572000" cy="215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4343400" y="5241960"/>
            <a:ext cx="2419200" cy="1235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5"/>
          <a:stretch/>
        </p:blipFill>
        <p:spPr>
          <a:xfrm>
            <a:off x="4495680" y="3436920"/>
            <a:ext cx="2210040" cy="18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6"/>
          <a:stretch/>
        </p:blipFill>
        <p:spPr>
          <a:xfrm>
            <a:off x="6705720" y="3405240"/>
            <a:ext cx="2230200" cy="29862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5128200" y="300996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lectivity measurement on different thick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distinguish Interference eff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152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895320" y="833400"/>
            <a:ext cx="7353360" cy="5191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3020040" y="17082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lt;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9T14:03:51Z</dcterms:modified>
  <cp:revision>497</cp:revision>
  <dc:subject>Physics 272H, Spring 2007</dc:subject>
  <dc:title>Lecture 2</dc:title>
</cp:coreProperties>
</file>