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49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50.png" ContentType="image/png"/>
  <Override PartName="/ppt/media/image13.png" ContentType="image/png"/>
  <Override PartName="/ppt/media/image8.wmf" ContentType="image/x-wmf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56.png" ContentType="image/png"/>
  <Override PartName="/ppt/media/image38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0B895-74C3-4EB2-B84E-027E5B09C2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2998E-1BEB-4FDA-84B6-124C23A51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AA5-E94C-4ED9-9F91-D5C2F192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99A-04EB-4149-A2AC-5CFBC22A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58B-F93D-409D-802A-CE2F710C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CE3-1D68-4FD3-9C79-55C41912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331-8E2B-4FEA-8426-FA659E59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ADBC-4495-4DB2-B4E0-3EBC7E2D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F5E-046A-49BC-B01F-753C861B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322-F6FA-4666-863D-6FDA88AF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D88-6D71-44DF-BAF7-F0447496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AC7-4FBA-4E87-B01B-0EB813F6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E21-9121-4C03-9785-BC7DBE75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84BA-6394-4028-BB07-A3405319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D242-A3D3-4D2F-ADC2-217A0FBAE6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3AAB-9664-4172-983B-EA0EDB872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6     (1/28/2016)         Slide </a:t>
            </a:r>
            <a:fld id="{3AEF67EB-5CD6-48C9-85E1-9EC790288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9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7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ative Transition in Insulators/Semicond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946600" cy="5052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www.rp-photonics.com/img/gain_in_semiconductor.png"/>
          <p:cNvPicPr/>
          <p:nvPr/>
        </p:nvPicPr>
        <p:blipFill>
          <a:blip r:embed="rId2"/>
          <a:stretch/>
        </p:blipFill>
        <p:spPr>
          <a:xfrm>
            <a:off x="3886200" y="1649520"/>
            <a:ext cx="4635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583840" cy="57913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4805280" y="586728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M.Fox’s FS Chap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adiative Transition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5840" y="1905120"/>
            <a:ext cx="7229520" cy="1247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11880" y="152244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ermi Golde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70200" y="314784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O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hoton) </a:t>
            </a:r>
            <a:r>
              <a:rPr b="0" lang="en-US" sz="2400" spc="-1" strike="noStrike">
                <a:solidFill>
                  <a:srgbClr val="7f7f7f"/>
                </a:solidFill>
                <a:latin typeface="Times New Roman"/>
              </a:rPr>
              <a:t>+</a:t>
            </a:r>
            <a:r>
              <a:rPr b="0" lang="en-US" sz="2400" spc="-1" strike="noStrike" u="sng">
                <a:solidFill>
                  <a:srgbClr val="7f7f7f"/>
                </a:solidFill>
                <a:uFillTx/>
                <a:latin typeface="Times New Roman"/>
              </a:rPr>
              <a:t>matter</a:t>
            </a:r>
            <a:r>
              <a:rPr b="0" lang="en-US" sz="2400" spc="-1" strike="noStrike">
                <a:solidFill>
                  <a:srgbClr val="7f7f7f"/>
                </a:solidFill>
                <a:latin typeface="Times New Roman"/>
              </a:rPr>
              <a:t> [neglect if discrete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6705720" y="3672000"/>
            <a:ext cx="2151000" cy="278748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152280" y="3710160"/>
            <a:ext cx="4191120" cy="561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4"/>
          <a:stretch/>
        </p:blipFill>
        <p:spPr>
          <a:xfrm>
            <a:off x="365040" y="4287960"/>
            <a:ext cx="3295800" cy="333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5"/>
          <a:stretch/>
        </p:blipFill>
        <p:spPr>
          <a:xfrm>
            <a:off x="365040" y="4621320"/>
            <a:ext cx="1362240" cy="390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6"/>
          <a:stretch/>
        </p:blipFill>
        <p:spPr>
          <a:xfrm>
            <a:off x="2308320" y="4687920"/>
            <a:ext cx="857160" cy="323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7"/>
          <a:stretch/>
        </p:blipFill>
        <p:spPr>
          <a:xfrm>
            <a:off x="76320" y="5376960"/>
            <a:ext cx="3886200" cy="1112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8"/>
          <a:stretch/>
        </p:blipFill>
        <p:spPr>
          <a:xfrm>
            <a:off x="411120" y="5011560"/>
            <a:ext cx="2325600" cy="328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9"/>
          <a:stretch/>
        </p:blipFill>
        <p:spPr>
          <a:xfrm>
            <a:off x="3675240" y="5192640"/>
            <a:ext cx="2725560" cy="36828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32" name="TextBox 5"/>
          <p:cNvSpPr/>
          <p:nvPr/>
        </p:nvSpPr>
        <p:spPr>
          <a:xfrm>
            <a:off x="3740040" y="48164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-polariz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10"/>
          <a:stretch/>
        </p:blipFill>
        <p:spPr>
          <a:xfrm>
            <a:off x="2971800" y="5621400"/>
            <a:ext cx="3556080" cy="271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11"/>
          <a:stretch/>
        </p:blipFill>
        <p:spPr>
          <a:xfrm>
            <a:off x="4830840" y="3666960"/>
            <a:ext cx="1549440" cy="11480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sity of States (DO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DOS for parabolic b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2895480" y="2362320"/>
          <a:ext cx="3100680" cy="9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362320"/>
                    <a:ext cx="310068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Box 4"/>
          <p:cNvSpPr/>
          <p:nvPr/>
        </p:nvSpPr>
        <p:spPr>
          <a:xfrm>
            <a:off x="2378160" y="342432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3D DOS per unit volu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>
            <a:off x="4103640" y="4191120"/>
            <a:ext cx="4572000" cy="2046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http://britneyspears.ac/physics/dos/images/Image118.gif"/>
          <p:cNvPicPr/>
          <p:nvPr/>
        </p:nvPicPr>
        <p:blipFill>
          <a:blip r:embed="rId4"/>
          <a:stretch/>
        </p:blipFill>
        <p:spPr>
          <a:xfrm>
            <a:off x="0" y="3800520"/>
            <a:ext cx="27957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6786360" cy="4876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7205760" y="4648320"/>
            <a:ext cx="133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f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676520" y="5562720"/>
          <a:ext cx="216360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5562720"/>
                    <a:ext cx="21636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5"/>
          <p:cNvGraphicFramePr/>
          <p:nvPr/>
        </p:nvGraphicFramePr>
        <p:xfrm>
          <a:off x="5411880" y="5562720"/>
          <a:ext cx="2490840" cy="48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1880" y="5562720"/>
                    <a:ext cx="24908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Box 6"/>
          <p:cNvSpPr/>
          <p:nvPr/>
        </p:nvSpPr>
        <p:spPr>
          <a:xfrm>
            <a:off x="2110680" y="595476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S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6480360" y="259092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4503240" y="5985000"/>
            <a:ext cx="40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phonon absorption/emission assis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7097760" y="510048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MS PGothic"/>
              </a:rPr>
              <a:t>Near band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4"/>
          <p:cNvGrpSpPr/>
          <p:nvPr/>
        </p:nvGrpSpPr>
        <p:grpSpPr>
          <a:xfrm>
            <a:off x="3428640" y="4114080"/>
            <a:ext cx="5457600" cy="2531160"/>
            <a:chOff x="3428640" y="4114080"/>
            <a:chExt cx="5457600" cy="2531160"/>
          </a:xfrm>
        </p:grpSpPr>
        <p:sp>
          <p:nvSpPr>
            <p:cNvPr id="156" name="TextBox 11"/>
            <p:cNvSpPr/>
            <p:nvPr/>
          </p:nvSpPr>
          <p:spPr>
            <a:xfrm>
              <a:off x="4066560" y="6185520"/>
              <a:ext cx="481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0169d"/>
                  </a:solidFill>
                  <a:latin typeface="Times New Roman"/>
                  <a:ea typeface="MS PGothic"/>
                </a:rPr>
                <a:t>Sufficiently large </a:t>
              </a:r>
              <a:r>
                <a:rPr b="0" lang="en-US" sz="2400" spc="-1" strike="noStrike">
                  <a:solidFill>
                    <a:srgbClr val="10169d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10169d"/>
                  </a:solidFill>
                  <a:latin typeface="Times New Roman"/>
                  <a:ea typeface="MS PGothic"/>
                </a:rPr>
                <a:t>: direct absor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" name="Straight Arrow Connector 12"/>
            <p:cNvCxnSpPr>
              <a:stCxn id="156" idx="1"/>
            </p:cNvCxnSpPr>
            <p:nvPr/>
          </p:nvCxnSpPr>
          <p:spPr>
            <a:xfrm flipH="1" flipV="1">
              <a:off x="3428640" y="4114080"/>
              <a:ext cx="629280" cy="230292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</p:grpSp>
      <p:sp>
        <p:nvSpPr>
          <p:cNvPr id="158" name="TextBox 1"/>
          <p:cNvSpPr/>
          <p:nvPr/>
        </p:nvSpPr>
        <p:spPr>
          <a:xfrm>
            <a:off x="7267320" y="1944720"/>
            <a:ext cx="1935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direct trans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ill possib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&gt;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0" y="685800"/>
            <a:ext cx="5715000" cy="3220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3"/>
          <a:stretch/>
        </p:blipFill>
        <p:spPr>
          <a:xfrm>
            <a:off x="228600" y="3865680"/>
            <a:ext cx="3809880" cy="2678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4"/>
          <a:stretch/>
        </p:blipFill>
        <p:spPr>
          <a:xfrm>
            <a:off x="4343400" y="3852720"/>
            <a:ext cx="4267080" cy="2691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5"/>
          <a:stretch/>
        </p:blipFill>
        <p:spPr>
          <a:xfrm>
            <a:off x="5562720" y="1219320"/>
            <a:ext cx="3568680" cy="259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6"/>
          <a:stretch/>
        </p:blipFill>
        <p:spPr>
          <a:xfrm>
            <a:off x="6019920" y="685800"/>
            <a:ext cx="31240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685800" y="1066680"/>
            <a:ext cx="7791480" cy="48294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"/>
          <p:cNvSpPr/>
          <p:nvPr/>
        </p:nvSpPr>
        <p:spPr>
          <a:xfrm>
            <a:off x="1147680" y="566568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=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3357360" y="464832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=3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3205080" y="281952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=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2897640" y="60786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oint electron-hole DOS: reduced mass b/t e &amp;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258320" cy="45435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"/>
          <p:cNvSpPr/>
          <p:nvPr/>
        </p:nvSpPr>
        <p:spPr>
          <a:xfrm>
            <a:off x="6329520" y="548640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S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Straight Arrow Connector 5"/>
          <p:cNvCxnSpPr>
            <a:stCxn id="176" idx="0"/>
          </p:cNvCxnSpPr>
          <p:nvPr/>
        </p:nvCxnSpPr>
        <p:spPr>
          <a:xfrm flipH="1" flipV="1">
            <a:off x="7109640" y="4799880"/>
            <a:ext cx="1080" cy="686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385920" y="690480"/>
            <a:ext cx="8372160" cy="54770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"/>
          <p:cNvSpPr/>
          <p:nvPr/>
        </p:nvSpPr>
        <p:spPr>
          <a:xfrm>
            <a:off x="9720" y="2362320"/>
            <a:ext cx="1290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or cubic/Z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622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309600" y="609480"/>
            <a:ext cx="8524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8174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380880" y="865080"/>
            <a:ext cx="8394840" cy="5443560"/>
          </a:xfrm>
          <a:prstGeom prst="rect">
            <a:avLst/>
          </a:prstGeom>
          <a:ln w="0">
            <a:noFill/>
          </a:ln>
        </p:spPr>
      </p:pic>
      <p:sp>
        <p:nvSpPr>
          <p:cNvPr id="193" name="TextBox 3"/>
          <p:cNvSpPr/>
          <p:nvPr/>
        </p:nvSpPr>
        <p:spPr>
          <a:xfrm>
            <a:off x="3552120" y="618804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Hs is a way to enhance optical intera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7858080" cy="4790880"/>
          </a:xfrm>
          <a:prstGeom prst="rect">
            <a:avLst/>
          </a:prstGeom>
          <a:ln w="0">
            <a:noFill/>
          </a:ln>
        </p:spPr>
      </p:pic>
      <p:sp>
        <p:nvSpPr>
          <p:cNvPr id="197" name="Straight Connector 4"/>
          <p:cNvSpPr/>
          <p:nvPr/>
        </p:nvSpPr>
        <p:spPr>
          <a:xfrm>
            <a:off x="6705720" y="5181480"/>
            <a:ext cx="228600" cy="3049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6981480" y="502452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is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880" y="18284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band Absorption, particularl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undoped) semicondu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S Chap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terband) Emission (different from absorption) will be discuss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953240" cy="2438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27000" y="4678200"/>
            <a:ext cx="199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o learn m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available P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b on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move on to quantum (semiclassic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58840" y="3065400"/>
            <a:ext cx="3781440" cy="1366920"/>
          </a:xfrm>
          <a:prstGeom prst="rect">
            <a:avLst/>
          </a:prstGeom>
          <a:ln w="0">
            <a:noFill/>
          </a:ln>
        </p:spPr>
      </p:pic>
      <p:sp>
        <p:nvSpPr>
          <p:cNvPr id="73" name="Oval 5"/>
          <p:cNvSpPr/>
          <p:nvPr/>
        </p:nvSpPr>
        <p:spPr>
          <a:xfrm>
            <a:off x="1477800" y="3451320"/>
            <a:ext cx="1295640" cy="909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6"/>
          <p:cNvSpPr/>
          <p:nvPr/>
        </p:nvSpPr>
        <p:spPr>
          <a:xfrm>
            <a:off x="1554120" y="37242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7"/>
          <p:cNvSpPr/>
          <p:nvPr/>
        </p:nvSpPr>
        <p:spPr>
          <a:xfrm>
            <a:off x="1554120" y="413244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97279"/>
          <p:cNvGraphicFramePr/>
          <p:nvPr/>
        </p:nvGraphicFramePr>
        <p:xfrm>
          <a:off x="201600" y="335592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9727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1600" y="335592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Freeform 9"/>
          <p:cNvSpPr/>
          <p:nvPr/>
        </p:nvSpPr>
        <p:spPr>
          <a:xfrm flipH="1">
            <a:off x="2081160" y="3724200"/>
            <a:ext cx="44640" cy="40824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97279"/>
          <p:cNvGraphicFramePr/>
          <p:nvPr/>
        </p:nvGraphicFramePr>
        <p:xfrm>
          <a:off x="4551480" y="3362400"/>
          <a:ext cx="114120" cy="17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" name="Object 9727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51480" y="336240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Picture 3" descr=""/>
          <p:cNvPicPr/>
          <p:nvPr/>
        </p:nvPicPr>
        <p:blipFill>
          <a:blip r:embed="rId6"/>
          <a:stretch/>
        </p:blipFill>
        <p:spPr>
          <a:xfrm>
            <a:off x="4487760" y="3025800"/>
            <a:ext cx="4013280" cy="1446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7"/>
          <a:stretch/>
        </p:blipFill>
        <p:spPr>
          <a:xfrm>
            <a:off x="5862600" y="3525840"/>
            <a:ext cx="1212840" cy="76032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14" descr=""/>
          <p:cNvPicPr/>
          <p:nvPr/>
        </p:nvPicPr>
        <p:blipFill>
          <a:blip r:embed="rId8"/>
          <a:stretch/>
        </p:blipFill>
        <p:spPr>
          <a:xfrm>
            <a:off x="6467400" y="4968720"/>
            <a:ext cx="426960" cy="273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http://t2.gstatic.com/images?q=tbn:ANd9GcRVhWSvl1rZtdHH37NwFmaVUYEHKwgOIyzLs3ICfgyozeQ7v_f4qg"/>
          <p:cNvPicPr/>
          <p:nvPr/>
        </p:nvPicPr>
        <p:blipFill>
          <a:blip r:embed="rId9"/>
          <a:stretch/>
        </p:blipFill>
        <p:spPr>
          <a:xfrm>
            <a:off x="6012000" y="4361040"/>
            <a:ext cx="965160" cy="77148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19"/>
          <p:cNvSpPr/>
          <p:nvPr/>
        </p:nvSpPr>
        <p:spPr>
          <a:xfrm>
            <a:off x="1727280" y="3525840"/>
            <a:ext cx="711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0"/>
          <a:stretch/>
        </p:blipFill>
        <p:spPr>
          <a:xfrm>
            <a:off x="1563840" y="4572000"/>
            <a:ext cx="1407960" cy="1846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22"/>
          <p:cNvSpPr/>
          <p:nvPr/>
        </p:nvSpPr>
        <p:spPr>
          <a:xfrm>
            <a:off x="310680" y="5494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basic band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237200" y="1494000"/>
            <a:ext cx="4876560" cy="2476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0" y="4267080"/>
            <a:ext cx="4809960" cy="2086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5181480" y="4495680"/>
            <a:ext cx="3324240" cy="714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4"/>
          <a:stretch/>
        </p:blipFill>
        <p:spPr>
          <a:xfrm>
            <a:off x="5264280" y="5562720"/>
            <a:ext cx="1485720" cy="24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5"/>
          <a:stretch/>
        </p:blipFill>
        <p:spPr>
          <a:xfrm>
            <a:off x="5288040" y="6019920"/>
            <a:ext cx="1305000" cy="257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Documents and Settings\Pedram\Desktop\Arts\gallery\ch10\figure_10_17.jpg"/>
          <p:cNvPicPr/>
          <p:nvPr/>
        </p:nvPicPr>
        <p:blipFill>
          <a:blip r:embed="rId6"/>
          <a:stretch/>
        </p:blipFill>
        <p:spPr>
          <a:xfrm>
            <a:off x="152280" y="1463760"/>
            <a:ext cx="3618000" cy="2465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131400" y="4267080"/>
            <a:ext cx="20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loch wav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6847560" y="5310360"/>
            <a:ext cx="20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f. FS Appendix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Klingshirn Chap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r Kitt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r Ashcroft-Mer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facstaff.gpc.edu/~pgore/PhysicalScience/periodic-table.gif"/>
          <p:cNvPicPr/>
          <p:nvPr/>
        </p:nvPicPr>
        <p:blipFill>
          <a:blip r:embed="rId2"/>
          <a:stretch/>
        </p:blipFill>
        <p:spPr>
          <a:xfrm>
            <a:off x="168120" y="685800"/>
            <a:ext cx="8344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857160" y="828720"/>
            <a:ext cx="7429680" cy="52005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-12960" y="6029280"/>
            <a:ext cx="60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ere are important exceptions to this orde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1"/>
          <p:cNvSpPr/>
          <p:nvPr/>
        </p:nvSpPr>
        <p:spPr>
          <a:xfrm>
            <a:off x="228600" y="6053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C:\Documents and Settings\Pedram\Desktop\Arts\gallery\ch10\figure_10_19.jpg"/>
          <p:cNvPicPr/>
          <p:nvPr/>
        </p:nvPicPr>
        <p:blipFill>
          <a:blip r:embed="rId1"/>
          <a:stretch/>
        </p:blipFill>
        <p:spPr>
          <a:xfrm>
            <a:off x="-152280" y="2557440"/>
            <a:ext cx="5105160" cy="3481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Documents and Settings\Pedram\Desktop\Arts\gallery\ch10\figure_10_17.jpg"/>
          <p:cNvPicPr/>
          <p:nvPr/>
        </p:nvPicPr>
        <p:blipFill>
          <a:blip r:embed="rId2"/>
          <a:stretch/>
        </p:blipFill>
        <p:spPr>
          <a:xfrm>
            <a:off x="228600" y="615960"/>
            <a:ext cx="3618000" cy="24652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"/>
          <p:cNvSpPr/>
          <p:nvPr/>
        </p:nvSpPr>
        <p:spPr>
          <a:xfrm>
            <a:off x="3235320" y="603900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early free electrons (weak periodic potent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4735080" y="601560"/>
            <a:ext cx="362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loch wav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ciprocal lattice v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rillouin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ffective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3"/>
          <a:stretch/>
        </p:blipFill>
        <p:spPr>
          <a:xfrm>
            <a:off x="5181480" y="2814480"/>
            <a:ext cx="22892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54568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2-02T13:58:53Z</dcterms:modified>
  <cp:revision>447</cp:revision>
  <dc:subject>Physics 272H, Spring 2007</dc:subject>
  <dc:title>Lecture 2</dc:title>
</cp:coreProperties>
</file>