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8C58-763D-42BF-A6E9-674973D75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E33A6-33B3-49FD-81FB-F433771E6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C32-E58B-4796-B4D0-FA26A551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785-1154-475F-9142-9730953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CF4-FC3D-413E-8D86-FA5BD7E6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619-76AB-4502-85AE-CE789BC3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2CC-9A78-4892-AEF9-6CC696F3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C24-6779-4C99-BAD7-E860F3E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EA9-24E9-4EFE-8409-BB63498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505-3B87-4E1E-8CE2-6513431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E12-15EB-4FA7-B4C9-33C83D8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DAC-A36F-4BBA-9D6A-112A6D1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918-4781-402E-9681-0F41EDF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EFB-3AAD-4D4E-9C0C-C5CE4B8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02F1-DC5D-45CA-9C93-4E8D0CC83B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DA9-813B-4105-B7A5-14B329BF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6     (1/28/2016)         Slide </a:t>
            </a:r>
            <a:fld id="{F5E60EA0-3345-4793-8382-C4937B74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ative Transition in Insulators/Semicond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946600" cy="505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rp-photonics.com/img/gain_in_semiconductor.png"/>
          <p:cNvPicPr/>
          <p:nvPr/>
        </p:nvPicPr>
        <p:blipFill>
          <a:blip r:embed="rId2"/>
          <a:stretch/>
        </p:blipFill>
        <p:spPr>
          <a:xfrm>
            <a:off x="3886200" y="1649520"/>
            <a:ext cx="463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58384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805280" y="586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.Fox’s FS Cha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diative Transition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5840" y="1905120"/>
            <a:ext cx="7229520" cy="124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11880" y="152244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ermi Golde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0200" y="314784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hoton) 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Times New Roman"/>
              </a:rPr>
              <a:t>matter</a:t>
            </a: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 [neglect if discret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705720" y="3672000"/>
            <a:ext cx="2151000" cy="2787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191120" cy="5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365040" y="4287960"/>
            <a:ext cx="329580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365040" y="4621320"/>
            <a:ext cx="1362240" cy="39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6"/>
          <a:stretch/>
        </p:blipFill>
        <p:spPr>
          <a:xfrm>
            <a:off x="2308320" y="468792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7"/>
          <a:stretch/>
        </p:blipFill>
        <p:spPr>
          <a:xfrm>
            <a:off x="76320" y="5376960"/>
            <a:ext cx="3886200" cy="111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8"/>
          <a:stretch/>
        </p:blipFill>
        <p:spPr>
          <a:xfrm>
            <a:off x="411120" y="5011560"/>
            <a:ext cx="23256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9"/>
          <a:stretch/>
        </p:blipFill>
        <p:spPr>
          <a:xfrm>
            <a:off x="3675240" y="5192640"/>
            <a:ext cx="2725560" cy="368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32" name="TextBox 5"/>
          <p:cNvSpPr/>
          <p:nvPr/>
        </p:nvSpPr>
        <p:spPr>
          <a:xfrm>
            <a:off x="3740040" y="4816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X-polariz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2971800" y="5621400"/>
            <a:ext cx="3556080" cy="2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4830840" y="3666960"/>
            <a:ext cx="1549440" cy="1148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y of States (D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OS for parabolic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895480" y="2362320"/>
          <a:ext cx="31006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362320"/>
                    <a:ext cx="31006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4"/>
          <p:cNvSpPr/>
          <p:nvPr/>
        </p:nvSpPr>
        <p:spPr>
          <a:xfrm>
            <a:off x="2378160" y="34243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D DOS per unit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4103640" y="419112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britneyspears.ac/physics/dos/images/Image118.gif"/>
          <p:cNvPicPr/>
          <p:nvPr/>
        </p:nvPicPr>
        <p:blipFill>
          <a:blip r:embed="rId4"/>
          <a:stretch/>
        </p:blipFill>
        <p:spPr>
          <a:xfrm>
            <a:off x="0" y="3800520"/>
            <a:ext cx="2795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6786360" cy="487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7205760" y="4648320"/>
            <a:ext cx="13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f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676520" y="5562720"/>
          <a:ext cx="216360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562720"/>
                    <a:ext cx="2163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5411880" y="5562720"/>
          <a:ext cx="24908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1880" y="5562720"/>
                    <a:ext cx="24908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6"/>
          <p:cNvSpPr/>
          <p:nvPr/>
        </p:nvSpPr>
        <p:spPr>
          <a:xfrm>
            <a:off x="2110680" y="595476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480360" y="259092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03240" y="59850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 absorption/emission assis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7097760" y="51004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MS PGothic"/>
              </a:rPr>
              <a:t>Near band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3428640" y="4114080"/>
            <a:ext cx="5457600" cy="2531160"/>
            <a:chOff x="3428640" y="4114080"/>
            <a:chExt cx="5457600" cy="2531160"/>
          </a:xfrm>
        </p:grpSpPr>
        <p:sp>
          <p:nvSpPr>
            <p:cNvPr id="156" name="TextBox 11"/>
            <p:cNvSpPr/>
            <p:nvPr/>
          </p:nvSpPr>
          <p:spPr>
            <a:xfrm>
              <a:off x="4066560" y="6185520"/>
              <a:ext cx="48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Sufficiently large </a:t>
              </a:r>
              <a:r>
                <a:rPr b="0" lang="en-US" sz="2400" spc="-1" strike="noStrike">
                  <a:solidFill>
                    <a:srgbClr val="10169d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10169d"/>
                  </a:solidFill>
                  <a:latin typeface="Times New Roman"/>
                  <a:ea typeface="MS PGothic"/>
                </a:rPr>
                <a:t>: direct absor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Straight Arrow Connector 12"/>
            <p:cNvCxnSpPr>
              <a:stCxn id="156" idx="1"/>
            </p:cNvCxnSpPr>
            <p:nvPr/>
          </p:nvCxnSpPr>
          <p:spPr>
            <a:xfrm flipH="1" flipV="1">
              <a:off x="3428640" y="4114080"/>
              <a:ext cx="629280" cy="230292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</p:grpSp>
      <p:sp>
        <p:nvSpPr>
          <p:cNvPr id="158" name="TextBox 1"/>
          <p:cNvSpPr/>
          <p:nvPr/>
        </p:nvSpPr>
        <p:spPr>
          <a:xfrm>
            <a:off x="7267320" y="1944720"/>
            <a:ext cx="1935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rect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ill poss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&gt;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PGothic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685800"/>
            <a:ext cx="5715000" cy="322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228600" y="3865680"/>
            <a:ext cx="3809880" cy="267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343400" y="3852720"/>
            <a:ext cx="4267080" cy="269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5562720" y="1219320"/>
            <a:ext cx="3568680" cy="25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019920" y="685800"/>
            <a:ext cx="31240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91480" cy="482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147680" y="5665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357360" y="46483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05080" y="281952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897640" y="60786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oint electron-hole DOS: reduced mass b/t e &amp;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58320" cy="4543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6329520" y="54864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Straight Arrow Connector 5"/>
          <p:cNvCxnSpPr>
            <a:stCxn id="176" idx="0"/>
          </p:cNvCxnSpPr>
          <p:nvPr/>
        </p:nvCxnSpPr>
        <p:spPr>
          <a:xfrm flipH="1" flipV="1">
            <a:off x="7109640" y="4799880"/>
            <a:ext cx="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85920" y="690480"/>
            <a:ext cx="8372160" cy="54770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9720" y="2362320"/>
            <a:ext cx="129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or cubic/Z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2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09600" y="609480"/>
            <a:ext cx="8524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17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80880" y="865080"/>
            <a:ext cx="8394840" cy="54435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3552120" y="61880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Hs is a way to enhance optical intera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858080" cy="479088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4"/>
          <p:cNvSpPr/>
          <p:nvPr/>
        </p:nvSpPr>
        <p:spPr>
          <a:xfrm>
            <a:off x="6705720" y="5181480"/>
            <a:ext cx="228600" cy="304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981480" y="50245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8284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band Absorption, particularl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ndoped) semicond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 Chap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rband) Emission (different from absorption) will be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953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7000" y="4678200"/>
            <a:ext cx="19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learn m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available P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b on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move on to quantum (semiclassi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8840" y="3065400"/>
            <a:ext cx="378144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1477800" y="3451320"/>
            <a:ext cx="1295640" cy="909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1554120" y="3724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7"/>
          <p:cNvSpPr/>
          <p:nvPr/>
        </p:nvSpPr>
        <p:spPr>
          <a:xfrm>
            <a:off x="1554120" y="41324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7279"/>
          <p:cNvGraphicFramePr/>
          <p:nvPr/>
        </p:nvGraphicFramePr>
        <p:xfrm>
          <a:off x="201600" y="33559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727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600" y="33559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Freeform 9"/>
          <p:cNvSpPr/>
          <p:nvPr/>
        </p:nvSpPr>
        <p:spPr>
          <a:xfrm flipH="1">
            <a:off x="2081160" y="3724200"/>
            <a:ext cx="44640" cy="408240"/>
          </a:xfrm>
          <a:custGeom>
            <a:avLst/>
            <a:gdLst/>
            <a:ahLst/>
            <a:rect l="l" t="t" r="r" b="b"/>
            <a:pathLst>
              <a:path w="291746" h="1510145">
                <a:moveTo>
                  <a:pt x="55936" y="1510145"/>
                </a:moveTo>
                <a:cubicBezTo>
                  <a:pt x="177163" y="1420090"/>
                  <a:pt x="298390" y="1330036"/>
                  <a:pt x="291463" y="1246909"/>
                </a:cubicBezTo>
                <a:cubicBezTo>
                  <a:pt x="284536" y="1163782"/>
                  <a:pt x="16681" y="1087581"/>
                  <a:pt x="14372" y="1011381"/>
                </a:cubicBezTo>
                <a:cubicBezTo>
                  <a:pt x="12063" y="935181"/>
                  <a:pt x="279918" y="861291"/>
                  <a:pt x="277609" y="789709"/>
                </a:cubicBezTo>
                <a:cubicBezTo>
                  <a:pt x="275300" y="718127"/>
                  <a:pt x="12064" y="653473"/>
                  <a:pt x="518" y="581891"/>
                </a:cubicBezTo>
                <a:cubicBezTo>
                  <a:pt x="-11028" y="510309"/>
                  <a:pt x="173700" y="457200"/>
                  <a:pt x="208336" y="360218"/>
                </a:cubicBezTo>
                <a:cubicBezTo>
                  <a:pt x="242972" y="263236"/>
                  <a:pt x="208336" y="0"/>
                  <a:pt x="208336" y="0"/>
                </a:cubicBezTo>
                <a:lnTo>
                  <a:pt x="208336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97279"/>
          <p:cNvGraphicFramePr/>
          <p:nvPr/>
        </p:nvGraphicFramePr>
        <p:xfrm>
          <a:off x="4551480" y="3362400"/>
          <a:ext cx="114120" cy="1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9727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51480" y="33624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Picture 3" descr=""/>
          <p:cNvPicPr/>
          <p:nvPr/>
        </p:nvPicPr>
        <p:blipFill>
          <a:blip r:embed="rId6"/>
          <a:stretch/>
        </p:blipFill>
        <p:spPr>
          <a:xfrm>
            <a:off x="4487760" y="3025800"/>
            <a:ext cx="401328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7"/>
          <a:stretch/>
        </p:blipFill>
        <p:spPr>
          <a:xfrm>
            <a:off x="5862600" y="3525840"/>
            <a:ext cx="1212840" cy="7603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4" descr=""/>
          <p:cNvPicPr/>
          <p:nvPr/>
        </p:nvPicPr>
        <p:blipFill>
          <a:blip r:embed="rId8"/>
          <a:stretch/>
        </p:blipFill>
        <p:spPr>
          <a:xfrm>
            <a:off x="6467400" y="4968720"/>
            <a:ext cx="426960" cy="27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ttp://t2.gstatic.com/images?q=tbn:ANd9GcRVhWSvl1rZtdHH37NwFmaVUYEHKwgOIyzLs3ICfgyozeQ7v_f4qg"/>
          <p:cNvPicPr/>
          <p:nvPr/>
        </p:nvPicPr>
        <p:blipFill>
          <a:blip r:embed="rId9"/>
          <a:stretch/>
        </p:blipFill>
        <p:spPr>
          <a:xfrm>
            <a:off x="6012000" y="4361040"/>
            <a:ext cx="96516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9"/>
          <p:cNvSpPr/>
          <p:nvPr/>
        </p:nvSpPr>
        <p:spPr>
          <a:xfrm>
            <a:off x="1727280" y="352584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0"/>
          <a:stretch/>
        </p:blipFill>
        <p:spPr>
          <a:xfrm>
            <a:off x="1563840" y="4572000"/>
            <a:ext cx="140796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2"/>
          <p:cNvSpPr/>
          <p:nvPr/>
        </p:nvSpPr>
        <p:spPr>
          <a:xfrm>
            <a:off x="310680" y="5494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basic band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37200" y="1494000"/>
            <a:ext cx="48765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4267080"/>
            <a:ext cx="4809960" cy="208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2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64280" y="5562720"/>
            <a:ext cx="1485720" cy="2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5288040" y="6019920"/>
            <a:ext cx="1305000" cy="25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Pedram\Desktop\Arts\gallery\ch10\figure_10_17.jpg"/>
          <p:cNvPicPr/>
          <p:nvPr/>
        </p:nvPicPr>
        <p:blipFill>
          <a:blip r:embed="rId6"/>
          <a:stretch/>
        </p:blipFill>
        <p:spPr>
          <a:xfrm>
            <a:off x="152280" y="14637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131400" y="42670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847560" y="531036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f. FS Appendix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lingshirn Chap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Kitt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 Ashcroft-Mer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cstaff.gpc.edu/~pgore/PhysicalScience/periodic-table.gif"/>
          <p:cNvPicPr/>
          <p:nvPr/>
        </p:nvPicPr>
        <p:blipFill>
          <a:blip r:embed="rId2"/>
          <a:stretch/>
        </p:blipFill>
        <p:spPr>
          <a:xfrm>
            <a:off x="168120" y="685800"/>
            <a:ext cx="834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57160" y="828720"/>
            <a:ext cx="7429680" cy="5200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-12960" y="6029280"/>
            <a:ext cx="60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re are important exceptions to this orde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228600" y="6053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©2008 </a:t>
            </a:r>
            <a:r>
              <a:rPr b="0" lang="en-US" sz="1400" spc="-1" strike="noStrike">
                <a:solidFill>
                  <a:srgbClr val="000000"/>
                </a:solidFill>
                <a:latin typeface="Palatino-Roman"/>
                <a:ea typeface="MS PGothic"/>
              </a:rPr>
              <a:t>by W.H. Freeman and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Pedram\Desktop\Arts\gallery\ch10\figure_10_19.jpg"/>
          <p:cNvPicPr/>
          <p:nvPr/>
        </p:nvPicPr>
        <p:blipFill>
          <a:blip r:embed="rId1"/>
          <a:stretch/>
        </p:blipFill>
        <p:spPr>
          <a:xfrm>
            <a:off x="-152280" y="2557440"/>
            <a:ext cx="5105160" cy="348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Pedram\Desktop\Arts\gallery\ch10\figure_10_17.jpg"/>
          <p:cNvPicPr/>
          <p:nvPr/>
        </p:nvPicPr>
        <p:blipFill>
          <a:blip r:embed="rId2"/>
          <a:stretch/>
        </p:blipFill>
        <p:spPr>
          <a:xfrm>
            <a:off x="228600" y="615960"/>
            <a:ext cx="3618000" cy="24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3235320" y="603900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arly free electrons (weak periodic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735080" y="601560"/>
            <a:ext cx="362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loch wa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iprocal lattice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llouin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iv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3"/>
          <a:stretch/>
        </p:blipFill>
        <p:spPr>
          <a:xfrm>
            <a:off x="5181480" y="2814480"/>
            <a:ext cx="2289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4568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2T13:58:53Z</dcterms:modified>
  <cp:revision>447</cp:revision>
  <dc:subject>Physics 272H, Spring 2007</dc:subject>
  <dc:title>Lecture 2</dc:title>
</cp:coreProperties>
</file>