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6319D-013C-48DD-973D-BDF9C657B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FD12-1229-47D3-87F4-2450233C3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E3E-543D-481C-BAE3-A5CA47F8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6B6-0FAE-44F4-BF14-06F438A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A4F-ED5D-4411-BD4D-E8BB0829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45A-5915-4FFE-9054-E1E0E611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44E-B5CF-4DAF-A3CA-609396E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745-F176-4561-8D6B-72779094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143-93E5-49C0-A67A-1E1D33A3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2D1-EC00-4769-8869-90F1362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DEC-66CC-4850-851D-573ADC17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A4F-9DFF-4E0C-8E82-369D1A3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57D-626E-434B-8A44-3827EA7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8A7-0B3D-47D9-8688-65A4AED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3A45-2005-4BE4-9A14-D780C0F562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A56-91CE-4017-B53C-63B3289F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46EDE15D-127A-42A8-92D8-5A5F55F6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58384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805280" y="586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.Fox’s FS Cha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32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of States (D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OS for parabolic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895480" y="2362320"/>
          <a:ext cx="31006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362320"/>
                    <a:ext cx="31006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4"/>
          <p:cNvSpPr/>
          <p:nvPr/>
        </p:nvSpPr>
        <p:spPr>
          <a:xfrm>
            <a:off x="2378160" y="34243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D DOS per unit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4103640" y="419112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britneyspears.ac/physics/dos/images/Image118.gif"/>
          <p:cNvPicPr/>
          <p:nvPr/>
        </p:nvPicPr>
        <p:blipFill>
          <a:blip r:embed="rId4"/>
          <a:stretch/>
        </p:blipFill>
        <p:spPr>
          <a:xfrm>
            <a:off x="0" y="3800520"/>
            <a:ext cx="2795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6786360" cy="487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7205760" y="4648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f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676520" y="5562720"/>
          <a:ext cx="216360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562720"/>
                    <a:ext cx="2163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411880" y="5562720"/>
          <a:ext cx="24908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1880" y="5562720"/>
                    <a:ext cx="24908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6"/>
          <p:cNvSpPr/>
          <p:nvPr/>
        </p:nvSpPr>
        <p:spPr>
          <a:xfrm>
            <a:off x="2110680" y="59547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480360" y="25909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03240" y="59850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 absorption/emission assi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7097760" y="51004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Near band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3428640" y="4114080"/>
            <a:ext cx="5457600" cy="2531160"/>
            <a:chOff x="3428640" y="4114080"/>
            <a:chExt cx="5457600" cy="2531160"/>
          </a:xfrm>
        </p:grpSpPr>
        <p:sp>
          <p:nvSpPr>
            <p:cNvPr id="156" name="TextBox 11"/>
            <p:cNvSpPr/>
            <p:nvPr/>
          </p:nvSpPr>
          <p:spPr>
            <a:xfrm>
              <a:off x="4066560" y="6185520"/>
              <a:ext cx="48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Sufficiently large </a:t>
              </a:r>
              <a:r>
                <a:rPr b="0" lang="en-US" sz="2400" spc="-1" strike="noStrike">
                  <a:solidFill>
                    <a:srgbClr val="10169d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: direct absor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Straight Arrow Connector 12"/>
            <p:cNvCxnSpPr>
              <a:stCxn id="156" idx="1"/>
            </p:cNvCxnSpPr>
            <p:nvPr/>
          </p:nvCxnSpPr>
          <p:spPr>
            <a:xfrm flipH="1" flipV="1">
              <a:off x="3428640" y="4114080"/>
              <a:ext cx="629280" cy="23029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158" name="TextBox 1"/>
          <p:cNvSpPr/>
          <p:nvPr/>
        </p:nvSpPr>
        <p:spPr>
          <a:xfrm>
            <a:off x="7267320" y="1944720"/>
            <a:ext cx="1935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rect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ill poss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&gt;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685800"/>
            <a:ext cx="5715000" cy="322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228600" y="3865680"/>
            <a:ext cx="3809880" cy="267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343400" y="3852720"/>
            <a:ext cx="4267080" cy="269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5562720" y="1219320"/>
            <a:ext cx="3568680" cy="25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019920" y="685800"/>
            <a:ext cx="31240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91480" cy="482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147680" y="5665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357360" y="46483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05080" y="28195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897640" y="60786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electron-hole DOS: reduced mass b/t e &amp;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58320" cy="4543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6329520" y="54864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5"/>
          <p:cNvCxnSpPr>
            <a:stCxn id="176" idx="0"/>
          </p:cNvCxnSpPr>
          <p:nvPr/>
        </p:nvCxnSpPr>
        <p:spPr>
          <a:xfrm flipH="1" flipV="1">
            <a:off x="7109640" y="4799880"/>
            <a:ext cx="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85920" y="690480"/>
            <a:ext cx="8372160" cy="5477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9720" y="2362320"/>
            <a:ext cx="129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or cubic/Z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2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9600" y="609480"/>
            <a:ext cx="8524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17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80880" y="865080"/>
            <a:ext cx="8394840" cy="54435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3552120" y="61880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Hs is a way to enhance optical inter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858080" cy="479088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4"/>
          <p:cNvSpPr/>
          <p:nvPr/>
        </p:nvSpPr>
        <p:spPr>
          <a:xfrm>
            <a:off x="6705720" y="5181480"/>
            <a:ext cx="22860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981480" y="50245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band Absorption, particularl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ndoped) semicond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 Chap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band) Emission (different from absorption) will be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953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basic band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37200" y="1494000"/>
            <a:ext cx="48765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4267080"/>
            <a:ext cx="4809960" cy="20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2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64280" y="5562720"/>
            <a:ext cx="1485720" cy="2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5288040" y="6019920"/>
            <a:ext cx="1305000" cy="25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Pedram\Desktop\Arts\gallery\ch10\figure_10_17.jpg"/>
          <p:cNvPicPr/>
          <p:nvPr/>
        </p:nvPicPr>
        <p:blipFill>
          <a:blip r:embed="rId6"/>
          <a:stretch/>
        </p:blipFill>
        <p:spPr>
          <a:xfrm>
            <a:off x="152280" y="14637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31400" y="42670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847560" y="531036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f. FS Appendix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lingshirn Chap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Kitt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Ashcroft-M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cstaff.gpc.edu/~pgore/PhysicalScience/periodic-table.gif"/>
          <p:cNvPicPr/>
          <p:nvPr/>
        </p:nvPicPr>
        <p:blipFill>
          <a:blip r:embed="rId2"/>
          <a:stretch/>
        </p:blipFill>
        <p:spPr>
          <a:xfrm>
            <a:off x="168120" y="685800"/>
            <a:ext cx="834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57160" y="828720"/>
            <a:ext cx="7429680" cy="5200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-12960" y="602928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re are important exceptions to this orde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228600" y="6053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-152280" y="2557440"/>
            <a:ext cx="5105160" cy="348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228600" y="6159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3235320" y="603900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arly free electrons (weak periodic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735080" y="601560"/>
            <a:ext cx="362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iprocal lattice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llouin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iv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3"/>
          <a:stretch/>
        </p:blipFill>
        <p:spPr>
          <a:xfrm>
            <a:off x="5181480" y="2814480"/>
            <a:ext cx="2289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456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2T13:58:53Z</dcterms:modified>
  <cp:revision>447</cp:revision>
  <dc:subject>Physics 272H, Spring 2007</dc:subject>
  <dc:title>Lecture 2</dc:title>
</cp:coreProperties>
</file>