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16.png" ContentType="image/png"/>
  <Override PartName="/ppt/media/image49.jpeg" ContentType="image/jpe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31.png" ContentType="image/png"/>
  <Override PartName="/ppt/media/image66.wmf" ContentType="image/x-wmf"/>
  <Override PartName="/ppt/media/image26.png" ContentType="image/png"/>
  <Override PartName="/ppt/media/image65.wmf" ContentType="image/x-wmf"/>
  <Override PartName="/ppt/media/image25.png" ContentType="image/png"/>
  <Override PartName="/ppt/media/image64.wmf" ContentType="image/x-wmf"/>
  <Override PartName="/ppt/media/image24.png" ContentType="image/png"/>
  <Override PartName="/ppt/media/image63.png" ContentType="image/png"/>
  <Override PartName="/ppt/media/image62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57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9.png" ContentType="image/png"/>
  <Override PartName="/ppt/media/image39.png" ContentType="image/png"/>
  <Override PartName="/ppt/media/image8.wmf" ContentType="image/x-wmf"/>
  <Override PartName="/ppt/media/image40.png" ContentType="image/png"/>
  <Override PartName="/ppt/media/image1.png" ContentType="image/png"/>
  <Override PartName="/ppt/media/image13.png" ContentType="image/png"/>
  <Override PartName="/ppt/media/image30.png" ContentType="image/png"/>
  <Override PartName="/ppt/media/image20.png" ContentType="image/png"/>
  <Override PartName="/ppt/media/image37.jpeg" ContentType="image/jpeg"/>
  <Override PartName="/ppt/media/image38.png" ContentType="image/png"/>
  <Override PartName="/ppt/media/image41.jpeg" ContentType="image/jpeg"/>
  <Override PartName="/ppt/media/image54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D28C7D-C92E-42A1-A601-4370E8D74F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hyperlink" Target="http://www.molphys.leidenuniv.nl/monos/smo/index.html?basics/photophysics.htm" TargetMode="External"/><Relationship Id="rId2" Type="http://schemas.openxmlformats.org/officeDocument/2006/relationships/slide" Target="../slides/slide10.xml"/><Relationship Id="rId3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molphys.leidenuniv.nl/monos/smo/index.html?basics/photophysic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C81721-ADE9-4995-92BA-B18861A5E6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A55E4-B722-4CA0-B40A-E98441990E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when will spin change (delta ms) be allowed? [SOC?  Magnetic, NMR? 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2A39D-C5EA-4684-8F9F-C5C9932758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CB31-555D-449C-B111-6A571827D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2FF0-4DE2-4F6C-9871-4FF6DCDB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2411-3765-4AE3-B907-819C33210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570F-EFBD-4055-AED8-5737D26FB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03DB-0CF1-47AC-B056-E1C1A9C0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73C2-B36E-49EC-B811-60395AAC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F378-F92D-4794-82D4-D919E03E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C325-1A8F-425D-B515-7D3F8CAB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58A0-BB4F-4799-93AC-8E09A468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C625-E39F-4B45-935F-F6DE4F27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6086-AF69-4612-8F5E-C00DC1F0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ABF4-DEA1-499E-AAC2-F419BAC5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50F5-6BCF-4EB2-9CCF-840CF290343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C49A-F2AC-4693-BB55-0A2C6042E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6     (1/28/2016)         Slide </a:t>
            </a:r>
            <a:fld id="{80741B5A-76E1-49CA-BB22-32EE60232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49.jpe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jpe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ecture 6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diative Transition in Atoms, Molecules &amp; Insulators/Semicond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FQ 4, FS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lecules &amp; molecular sol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http://www.molphys.leidenuniv.nl/monos/smo/basics/images/spectrum.gif"/>
          <p:cNvPicPr/>
          <p:nvPr/>
        </p:nvPicPr>
        <p:blipFill>
          <a:blip r:embed="rId1"/>
          <a:stretch/>
        </p:blipFill>
        <p:spPr>
          <a:xfrm>
            <a:off x="4495680" y="2209680"/>
            <a:ext cx="4534200" cy="3868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the pi orbitals of benzene"/>
          <p:cNvPicPr/>
          <p:nvPr/>
        </p:nvPicPr>
        <p:blipFill>
          <a:blip r:embed="rId2"/>
          <a:stretch/>
        </p:blipFill>
        <p:spPr>
          <a:xfrm>
            <a:off x="0" y="569880"/>
            <a:ext cx="128592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blonski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http://upload.wikimedia.org/wikipedia/commons/thumb/7/71/JablonskiSimple.png/300px-JablonskiSimple.png"/>
          <p:cNvPicPr/>
          <p:nvPr/>
        </p:nvPicPr>
        <p:blipFill>
          <a:blip r:embed="rId1"/>
          <a:stretch/>
        </p:blipFill>
        <p:spPr>
          <a:xfrm>
            <a:off x="-15840" y="2209680"/>
            <a:ext cx="4838760" cy="3757680"/>
          </a:xfrm>
          <a:prstGeom prst="rect">
            <a:avLst/>
          </a:prstGeom>
          <a:ln w="0">
            <a:noFill/>
          </a:ln>
        </p:spPr>
      </p:pic>
      <p:sp>
        <p:nvSpPr>
          <p:cNvPr id="145" name="TextBox 3"/>
          <p:cNvSpPr/>
          <p:nvPr/>
        </p:nvSpPr>
        <p:spPr>
          <a:xfrm>
            <a:off x="4320" y="577692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ing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-11520" y="196200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ing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3046680" y="320040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ri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3141360" y="213372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O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4" descr="http://www.texample.net/media/tikz/examples/PNG/the-perrin-jablonski-diagram.png"/>
          <p:cNvPicPr/>
          <p:nvPr/>
        </p:nvPicPr>
        <p:blipFill>
          <a:blip r:embed="rId2"/>
          <a:stretch/>
        </p:blipFill>
        <p:spPr>
          <a:xfrm>
            <a:off x="4411800" y="2324160"/>
            <a:ext cx="476244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Chart 2" descr=""/>
          <p:cNvPicPr/>
          <p:nvPr/>
        </p:nvPicPr>
        <p:blipFill>
          <a:blip r:embed="rId1"/>
          <a:stretch/>
        </p:blipFill>
        <p:spPr>
          <a:xfrm>
            <a:off x="0" y="49320"/>
            <a:ext cx="9144000" cy="6759360"/>
          </a:xfrm>
          <a:prstGeom prst="rect">
            <a:avLst/>
          </a:prstGeom>
          <a:ln w="0">
            <a:noFill/>
          </a:ln>
        </p:spPr>
      </p:pic>
      <p:sp>
        <p:nvSpPr>
          <p:cNvPr id="151" name="TextBox 3"/>
          <p:cNvSpPr/>
          <p:nvPr/>
        </p:nvSpPr>
        <p:spPr>
          <a:xfrm>
            <a:off x="4728600" y="5181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MS PGothic"/>
              </a:rPr>
              <a:t>(X) 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alibri"/>
                <a:ea typeface="MS PGothic"/>
              </a:rPr>
              <a:t>1</a:t>
            </a:r>
            <a:r>
              <a:rPr b="1" lang="el-GR" sz="2400" spc="-1" strike="noStrike">
                <a:solidFill>
                  <a:srgbClr val="ff0000"/>
                </a:solidFill>
                <a:latin typeface="Calibri"/>
                <a:ea typeface="MS PGothic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578480" y="26668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MS PGothic"/>
              </a:rPr>
              <a:t>(2) 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alibri"/>
                <a:ea typeface="MS PGothic"/>
              </a:rPr>
              <a:t>1</a:t>
            </a:r>
            <a:r>
              <a:rPr b="1" lang="el-GR" sz="2400" spc="-1" strike="noStrike">
                <a:solidFill>
                  <a:srgbClr val="ff0000"/>
                </a:solidFill>
                <a:latin typeface="Calibri"/>
                <a:ea typeface="MS PGothic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3892680" y="25146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MS PGothic"/>
              </a:rPr>
              <a:t>(2) 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alibri"/>
                <a:ea typeface="MS PGothic"/>
              </a:rPr>
              <a:t>3</a:t>
            </a:r>
            <a:r>
              <a:rPr b="1" lang="el-GR" sz="2400" spc="-1" strike="noStrike">
                <a:solidFill>
                  <a:srgbClr val="ff0000"/>
                </a:solidFill>
                <a:latin typeface="Calibri"/>
                <a:ea typeface="MS PGothic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Box 6"/>
          <p:cNvSpPr/>
          <p:nvPr/>
        </p:nvSpPr>
        <p:spPr>
          <a:xfrm>
            <a:off x="4273560" y="41911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MS PGothic"/>
              </a:rPr>
              <a:t>(1) 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alibri"/>
                <a:ea typeface="MS PGothic"/>
              </a:rPr>
              <a:t>3</a:t>
            </a:r>
            <a:r>
              <a:rPr b="1" lang="el-GR" sz="2400" spc="-1" strike="noStrike">
                <a:solidFill>
                  <a:srgbClr val="ff0000"/>
                </a:solidFill>
                <a:latin typeface="Calibri"/>
                <a:ea typeface="MS PGothic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7"/>
          <p:cNvSpPr/>
          <p:nvPr/>
        </p:nvSpPr>
        <p:spPr>
          <a:xfrm>
            <a:off x="4959360" y="12952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MS PGothic"/>
              </a:rPr>
              <a:t>(3) 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alibri"/>
                <a:ea typeface="MS PGothic"/>
              </a:rPr>
              <a:t>1</a:t>
            </a:r>
            <a:r>
              <a:rPr b="1" lang="el-GR" sz="2400" spc="-1" strike="noStrike">
                <a:solidFill>
                  <a:srgbClr val="ff0000"/>
                </a:solidFill>
                <a:latin typeface="Calibri"/>
                <a:ea typeface="MS PGothic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5866200" y="33130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3462840" y="480060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xc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4267080" y="1905120"/>
            <a:ext cx="762120" cy="38088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Group 13"/>
          <p:cNvGrpSpPr/>
          <p:nvPr/>
        </p:nvGrpSpPr>
        <p:grpSpPr>
          <a:xfrm>
            <a:off x="3809520" y="1905120"/>
            <a:ext cx="2057760" cy="3962160"/>
            <a:chOff x="3809520" y="1905120"/>
            <a:chExt cx="2057760" cy="3962160"/>
          </a:xfrm>
        </p:grpSpPr>
        <p:sp>
          <p:nvSpPr>
            <p:cNvPr id="160" name="Line 11"/>
            <p:cNvSpPr/>
            <p:nvPr/>
          </p:nvSpPr>
          <p:spPr>
            <a:xfrm flipH="1" flipV="1">
              <a:off x="4114800" y="1905120"/>
              <a:ext cx="1752480" cy="2666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12"/>
            <p:cNvSpPr/>
            <p:nvPr/>
          </p:nvSpPr>
          <p:spPr>
            <a:xfrm flipH="1">
              <a:off x="3809520" y="1905120"/>
              <a:ext cx="304920" cy="396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rcRect l="4376" t="49790" r="10001" b="29003"/>
          <a:stretch/>
        </p:blipFill>
        <p:spPr>
          <a:xfrm>
            <a:off x="1523880" y="1447920"/>
            <a:ext cx="5511960" cy="853920"/>
          </a:xfrm>
          <a:prstGeom prst="rect">
            <a:avLst/>
          </a:prstGeom>
          <a:ln w="0">
            <a:noFill/>
          </a:ln>
        </p:spPr>
      </p:pic>
      <p:sp>
        <p:nvSpPr>
          <p:cNvPr id="163" name="TextBox 2"/>
          <p:cNvSpPr/>
          <p:nvPr/>
        </p:nvSpPr>
        <p:spPr>
          <a:xfrm>
            <a:off x="3905640" y="1143000"/>
            <a:ext cx="92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3984480" y="2209680"/>
            <a:ext cx="70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L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550 ̊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Box 4"/>
          <p:cNvSpPr/>
          <p:nvPr/>
        </p:nvSpPr>
        <p:spPr>
          <a:xfrm>
            <a:off x="3070080" y="2209680"/>
            <a:ext cx="70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R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300 ̊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4746600" y="2209680"/>
            <a:ext cx="70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R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300 ̊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traight Connector 20"/>
          <p:cNvSpPr/>
          <p:nvPr/>
        </p:nvSpPr>
        <p:spPr>
          <a:xfrm flipH="1" flipV="1">
            <a:off x="7009920" y="2057400"/>
            <a:ext cx="1752840" cy="76320"/>
          </a:xfrm>
          <a:prstGeom prst="line">
            <a:avLst/>
          </a:prstGeom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Isosceles Triangle 27"/>
          <p:cNvSpPr/>
          <p:nvPr/>
        </p:nvSpPr>
        <p:spPr>
          <a:xfrm rot="5400000">
            <a:off x="2747520" y="452160"/>
            <a:ext cx="295200" cy="30481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Straight Arrow Connector 28"/>
          <p:cNvCxnSpPr/>
          <p:nvPr/>
        </p:nvCxnSpPr>
        <p:spPr>
          <a:xfrm flipH="1" flipV="1">
            <a:off x="151560" y="1751760"/>
            <a:ext cx="4953960" cy="229320"/>
          </a:xfrm>
          <a:prstGeom prst="straightConnector1">
            <a:avLst/>
          </a:prstGeom>
          <a:ln w="5400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70" name="Isosceles Triangle 32"/>
          <p:cNvSpPr/>
          <p:nvPr/>
        </p:nvSpPr>
        <p:spPr>
          <a:xfrm rot="15154800">
            <a:off x="1103760" y="1867320"/>
            <a:ext cx="304920" cy="3031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34"/>
          <p:cNvSpPr/>
          <p:nvPr/>
        </p:nvSpPr>
        <p:spPr>
          <a:xfrm>
            <a:off x="1143000" y="2057400"/>
            <a:ext cx="304920" cy="609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traight Connector 35"/>
          <p:cNvSpPr/>
          <p:nvPr/>
        </p:nvSpPr>
        <p:spPr>
          <a:xfrm flipH="1">
            <a:off x="990720" y="18288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Isosceles Triangle 37"/>
          <p:cNvSpPr/>
          <p:nvPr/>
        </p:nvSpPr>
        <p:spPr>
          <a:xfrm rot="10800000">
            <a:off x="1142640" y="2666880"/>
            <a:ext cx="304920" cy="6098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38"/>
          <p:cNvSpPr/>
          <p:nvPr/>
        </p:nvSpPr>
        <p:spPr>
          <a:xfrm>
            <a:off x="990720" y="2590920"/>
            <a:ext cx="609480" cy="152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Box 39"/>
          <p:cNvSpPr/>
          <p:nvPr/>
        </p:nvSpPr>
        <p:spPr>
          <a:xfrm>
            <a:off x="2315160" y="990720"/>
            <a:ext cx="15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Cooling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Box 40"/>
          <p:cNvSpPr/>
          <p:nvPr/>
        </p:nvSpPr>
        <p:spPr>
          <a:xfrm>
            <a:off x="5134680" y="990720"/>
            <a:ext cx="15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Cooling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Straight Arrow Connector 42"/>
          <p:cNvCxnSpPr/>
          <p:nvPr/>
        </p:nvCxnSpPr>
        <p:spPr>
          <a:xfrm flipH="1">
            <a:off x="2971440" y="1295280"/>
            <a:ext cx="2160" cy="153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8" name="Straight Arrow Connector 43"/>
          <p:cNvCxnSpPr/>
          <p:nvPr/>
        </p:nvCxnSpPr>
        <p:spPr>
          <a:xfrm flipH="1">
            <a:off x="5562360" y="1295280"/>
            <a:ext cx="2160" cy="153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9" name="Rectangle 44"/>
          <p:cNvSpPr/>
          <p:nvPr/>
        </p:nvSpPr>
        <p:spPr>
          <a:xfrm>
            <a:off x="1066680" y="3276720"/>
            <a:ext cx="1067040" cy="152388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rc 47"/>
          <p:cNvSpPr/>
          <p:nvPr/>
        </p:nvSpPr>
        <p:spPr>
          <a:xfrm rot="8469000">
            <a:off x="1615680" y="4164120"/>
            <a:ext cx="577800" cy="498240"/>
          </a:xfrm>
          <a:custGeom>
            <a:avLst/>
            <a:gdLst/>
            <a:ahLst/>
            <a:rect l="l" t="t" r="r" b="b"/>
            <a:pathLst>
              <a:path stroke="0" w="577850" h="498475">
                <a:moveTo>
                  <a:pt x="288925" y="0"/>
                </a:moveTo>
                <a:cubicBezTo>
                  <a:pt x="448494" y="0"/>
                  <a:pt x="577850" y="111588"/>
                  <a:pt x="577850" y="249238"/>
                </a:cubicBezTo>
                <a:lnTo>
                  <a:pt x="288925" y="249238"/>
                </a:lnTo>
                <a:lnTo>
                  <a:pt x="288925" y="0"/>
                </a:lnTo>
                <a:close/>
              </a:path>
              <a:path fill="none" w="577850" h="498475">
                <a:moveTo>
                  <a:pt x="288925" y="0"/>
                </a:moveTo>
                <a:cubicBezTo>
                  <a:pt x="448494" y="0"/>
                  <a:pt x="577850" y="111588"/>
                  <a:pt x="577850" y="249238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rc 49"/>
          <p:cNvSpPr/>
          <p:nvPr/>
        </p:nvSpPr>
        <p:spPr>
          <a:xfrm rot="8469000">
            <a:off x="1012320" y="4119120"/>
            <a:ext cx="641520" cy="540000"/>
          </a:xfrm>
          <a:custGeom>
            <a:avLst/>
            <a:gdLst/>
            <a:ahLst/>
            <a:rect l="l" t="t" r="r" b="b"/>
            <a:pathLst>
              <a:path stroke="0" w="641350" h="539750">
                <a:moveTo>
                  <a:pt x="320675" y="0"/>
                </a:moveTo>
                <a:cubicBezTo>
                  <a:pt x="497779" y="0"/>
                  <a:pt x="641350" y="120827"/>
                  <a:pt x="641350" y="269875"/>
                </a:cubicBezTo>
                <a:lnTo>
                  <a:pt x="320675" y="269875"/>
                </a:lnTo>
                <a:lnTo>
                  <a:pt x="320675" y="0"/>
                </a:lnTo>
                <a:close/>
              </a:path>
              <a:path fill="none" w="641350" h="539750">
                <a:moveTo>
                  <a:pt x="320675" y="0"/>
                </a:moveTo>
                <a:cubicBezTo>
                  <a:pt x="497779" y="0"/>
                  <a:pt x="641350" y="120827"/>
                  <a:pt x="641350" y="269875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4"/>
          <p:cNvSpPr/>
          <p:nvPr/>
        </p:nvSpPr>
        <p:spPr>
          <a:xfrm rot="20815800">
            <a:off x="1363680" y="3422520"/>
            <a:ext cx="461880" cy="4464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Isosceles Triangle 69"/>
          <p:cNvSpPr/>
          <p:nvPr/>
        </p:nvSpPr>
        <p:spPr>
          <a:xfrm rot="9997800">
            <a:off x="1379160" y="3488760"/>
            <a:ext cx="152280" cy="75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Isosceles Triangle 70"/>
          <p:cNvSpPr/>
          <p:nvPr/>
        </p:nvSpPr>
        <p:spPr>
          <a:xfrm rot="9997800">
            <a:off x="1530000" y="3444480"/>
            <a:ext cx="152280" cy="763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Isosceles Triangle 71"/>
          <p:cNvSpPr/>
          <p:nvPr/>
        </p:nvSpPr>
        <p:spPr>
          <a:xfrm rot="9997800">
            <a:off x="1682640" y="3412800"/>
            <a:ext cx="152640" cy="763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traight Connector 74"/>
          <p:cNvSpPr/>
          <p:nvPr/>
        </p:nvSpPr>
        <p:spPr>
          <a:xfrm flipV="1">
            <a:off x="1294560" y="3276720"/>
            <a:ext cx="1800" cy="1440"/>
          </a:xfrm>
          <a:prstGeom prst="line">
            <a:avLst/>
          </a:prstGeom>
          <a:ln w="381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traight Connector 76"/>
          <p:cNvSpPr/>
          <p:nvPr/>
        </p:nvSpPr>
        <p:spPr>
          <a:xfrm>
            <a:off x="1219320" y="3276720"/>
            <a:ext cx="152280" cy="1440"/>
          </a:xfrm>
          <a:prstGeom prst="line">
            <a:avLst/>
          </a:prstGeom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traight Connector 79"/>
          <p:cNvSpPr/>
          <p:nvPr/>
        </p:nvSpPr>
        <p:spPr>
          <a:xfrm>
            <a:off x="1981080" y="3276720"/>
            <a:ext cx="76320" cy="1440"/>
          </a:xfrm>
          <a:prstGeom prst="line">
            <a:avLst/>
          </a:prstGeom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traight Connector 113"/>
          <p:cNvSpPr/>
          <p:nvPr/>
        </p:nvSpPr>
        <p:spPr>
          <a:xfrm flipV="1">
            <a:off x="1750320" y="2897280"/>
            <a:ext cx="324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traight Connector 115"/>
          <p:cNvSpPr/>
          <p:nvPr/>
        </p:nvSpPr>
        <p:spPr>
          <a:xfrm>
            <a:off x="1752480" y="2895480"/>
            <a:ext cx="381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traight Connector 117"/>
          <p:cNvSpPr/>
          <p:nvPr/>
        </p:nvSpPr>
        <p:spPr>
          <a:xfrm flipH="1">
            <a:off x="2131560" y="2895480"/>
            <a:ext cx="1800" cy="38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Box 119"/>
          <p:cNvSpPr/>
          <p:nvPr/>
        </p:nvSpPr>
        <p:spPr>
          <a:xfrm>
            <a:off x="2064600" y="289548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P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Box 120"/>
          <p:cNvSpPr/>
          <p:nvPr/>
        </p:nvSpPr>
        <p:spPr>
          <a:xfrm>
            <a:off x="1919160" y="4038480"/>
            <a:ext cx="25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Monochrom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traight Connector 123"/>
          <p:cNvSpPr/>
          <p:nvPr/>
        </p:nvSpPr>
        <p:spPr>
          <a:xfrm flipH="1">
            <a:off x="7010280" y="1752480"/>
            <a:ext cx="609840" cy="6098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Straight Arrow Connector 126"/>
          <p:cNvCxnSpPr/>
          <p:nvPr/>
        </p:nvCxnSpPr>
        <p:spPr>
          <a:xfrm flipH="1">
            <a:off x="7314840" y="2057040"/>
            <a:ext cx="2160" cy="53244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96" name="Rectangle 45"/>
          <p:cNvSpPr/>
          <p:nvPr/>
        </p:nvSpPr>
        <p:spPr>
          <a:xfrm>
            <a:off x="6705720" y="2590920"/>
            <a:ext cx="1371600" cy="60948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Box 48"/>
          <p:cNvSpPr/>
          <p:nvPr/>
        </p:nvSpPr>
        <p:spPr>
          <a:xfrm>
            <a:off x="6806880" y="26668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-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2"/>
          <p:cNvSpPr/>
          <p:nvPr/>
        </p:nvSpPr>
        <p:spPr>
          <a:xfrm>
            <a:off x="711000" y="549360"/>
            <a:ext cx="790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 Rounded MT Bold"/>
                <a:ea typeface="MS PGothic"/>
              </a:rPr>
              <a:t>Molecular Spectroscopy in a heat-pipe (</a:t>
            </a:r>
            <a:r>
              <a:rPr b="0" lang="en-US" sz="2800" spc="-1" strike="noStrike" baseline="30000">
                <a:solidFill>
                  <a:srgbClr val="002060"/>
                </a:solidFill>
                <a:latin typeface="Arial Rounded MT Bold"/>
                <a:ea typeface="MS PGothic"/>
              </a:rPr>
              <a:t>7</a:t>
            </a:r>
            <a:r>
              <a:rPr b="0" lang="en-US" sz="2800" spc="-1" strike="noStrike">
                <a:solidFill>
                  <a:srgbClr val="002060"/>
                </a:solidFill>
                <a:latin typeface="Arial Rounded MT Bold"/>
                <a:ea typeface="MS PGothic"/>
              </a:rPr>
              <a:t>Li</a:t>
            </a:r>
            <a:r>
              <a:rPr b="0" lang="en-US" sz="2800" spc="-1" strike="noStrike" baseline="30000">
                <a:solidFill>
                  <a:srgbClr val="002060"/>
                </a:solidFill>
                <a:latin typeface="Arial Rounded MT Bold"/>
                <a:ea typeface="MS PGothic"/>
              </a:rPr>
              <a:t>85</a:t>
            </a:r>
            <a:r>
              <a:rPr b="0" lang="en-US" sz="2800" spc="-1" strike="noStrike">
                <a:solidFill>
                  <a:srgbClr val="002060"/>
                </a:solidFill>
                <a:latin typeface="Arial Rounded MT Bold"/>
                <a:ea typeface="MS PGothic"/>
              </a:rPr>
              <a:t>R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3"/>
          <p:cNvSpPr/>
          <p:nvPr/>
        </p:nvSpPr>
        <p:spPr>
          <a:xfrm>
            <a:off x="637200" y="5334120"/>
            <a:ext cx="53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(A) Laser Induced Fluorescence (L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4"/>
          <p:cNvSpPr/>
          <p:nvPr/>
        </p:nvSpPr>
        <p:spPr>
          <a:xfrm>
            <a:off x="600840" y="6019920"/>
            <a:ext cx="40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(B) Excitation Spectrosc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Box 54"/>
          <p:cNvSpPr/>
          <p:nvPr/>
        </p:nvSpPr>
        <p:spPr>
          <a:xfrm>
            <a:off x="7783200" y="1143000"/>
            <a:ext cx="95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La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Curved Connector 57"/>
          <p:cNvCxnSpPr/>
          <p:nvPr/>
        </p:nvCxnSpPr>
        <p:spPr>
          <a:xfrm flipH="1" rot="16200000">
            <a:off x="8038080" y="1714320"/>
            <a:ext cx="534240" cy="153000"/>
          </a:xfrm>
          <a:prstGeom prst="curvedConnector5">
            <a:avLst>
              <a:gd name="adj1" fmla="val 49966"/>
              <a:gd name="adj2" fmla="val 50000"/>
              <a:gd name="adj3" fmla="val 49966"/>
            </a:avLst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03" name="Picture 5" descr="new_logo"/>
          <p:cNvPicPr/>
          <p:nvPr/>
        </p:nvPicPr>
        <p:blipFill>
          <a:blip r:embed="rId2"/>
          <a:stretch/>
        </p:blipFill>
        <p:spPr>
          <a:xfrm>
            <a:off x="7505640" y="0"/>
            <a:ext cx="1638360" cy="549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C:\Users\Sourav\Desktop\Pic2.tif"/>
          <p:cNvPicPr/>
          <p:nvPr/>
        </p:nvPicPr>
        <p:blipFill>
          <a:blip r:embed="rId3"/>
          <a:srcRect l="3447" t="0" r="3357" b="0"/>
          <a:stretch/>
        </p:blipFill>
        <p:spPr>
          <a:xfrm>
            <a:off x="6324480" y="3276720"/>
            <a:ext cx="2619360" cy="3200400"/>
          </a:xfrm>
          <a:prstGeom prst="rect">
            <a:avLst/>
          </a:prstGeom>
          <a:ln w="0">
            <a:noFill/>
          </a:ln>
        </p:spPr>
      </p:pic>
      <p:cxnSp>
        <p:nvCxnSpPr>
          <p:cNvPr id="205" name="Straight Arrow Connector 48"/>
          <p:cNvCxnSpPr/>
          <p:nvPr/>
        </p:nvCxnSpPr>
        <p:spPr>
          <a:xfrm flipV="1">
            <a:off x="7009200" y="4144320"/>
            <a:ext cx="1080" cy="2104200"/>
          </a:xfrm>
          <a:prstGeom prst="straightConnector1">
            <a:avLst/>
          </a:prstGeom>
          <a:ln w="3168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206" name="Straight Connector 50"/>
          <p:cNvSpPr/>
          <p:nvPr/>
        </p:nvSpPr>
        <p:spPr>
          <a:xfrm>
            <a:off x="7010280" y="4191120"/>
            <a:ext cx="3812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traight Connector 51"/>
          <p:cNvSpPr/>
          <p:nvPr/>
        </p:nvSpPr>
        <p:spPr>
          <a:xfrm>
            <a:off x="6934320" y="6248520"/>
            <a:ext cx="228600" cy="1440"/>
          </a:xfrm>
          <a:prstGeom prst="line">
            <a:avLst/>
          </a:prstGeom>
          <a:ln w="19080">
            <a:solidFill>
              <a:srgbClr val="007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Straight Arrow Connector 52"/>
          <p:cNvCxnSpPr/>
          <p:nvPr/>
        </p:nvCxnSpPr>
        <p:spPr>
          <a:xfrm flipH="1">
            <a:off x="7389000" y="4192560"/>
            <a:ext cx="3960" cy="1753200"/>
          </a:xfrm>
          <a:prstGeom prst="straightConnector1">
            <a:avLst/>
          </a:prstGeom>
          <a:ln w="3168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sp>
        <p:nvSpPr>
          <p:cNvPr id="209" name="Straight Connector 53"/>
          <p:cNvSpPr/>
          <p:nvPr/>
        </p:nvSpPr>
        <p:spPr>
          <a:xfrm flipH="1" flipV="1">
            <a:off x="6858000" y="5943600"/>
            <a:ext cx="533520" cy="1440"/>
          </a:xfrm>
          <a:prstGeom prst="line">
            <a:avLst/>
          </a:prstGeom>
          <a:ln w="19080">
            <a:solidFill>
              <a:srgbClr val="00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Box 65"/>
          <p:cNvSpPr/>
          <p:nvPr/>
        </p:nvSpPr>
        <p:spPr>
          <a:xfrm>
            <a:off x="956880" y="220968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L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Box 66"/>
          <p:cNvSpPr/>
          <p:nvPr/>
        </p:nvSpPr>
        <p:spPr>
          <a:xfrm>
            <a:off x="7357680" y="495288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L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Box 54"/>
          <p:cNvSpPr/>
          <p:nvPr/>
        </p:nvSpPr>
        <p:spPr>
          <a:xfrm>
            <a:off x="6106680" y="5867280"/>
            <a:ext cx="95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La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" descr="C:\Users\Sourav\Desktop\Pic2.tif"/>
          <p:cNvPicPr/>
          <p:nvPr/>
        </p:nvPicPr>
        <p:blipFill>
          <a:blip r:embed="rId1"/>
          <a:srcRect l="3450" t="0" r="3360" b="0"/>
          <a:stretch/>
        </p:blipFill>
        <p:spPr>
          <a:xfrm>
            <a:off x="5253120" y="1219320"/>
            <a:ext cx="3890880" cy="4754520"/>
          </a:xfrm>
          <a:prstGeom prst="rect">
            <a:avLst/>
          </a:prstGeom>
          <a:ln w="0">
            <a:noFill/>
          </a:ln>
        </p:spPr>
      </p:pic>
      <p:cxnSp>
        <p:nvCxnSpPr>
          <p:cNvPr id="214" name="Straight Arrow Connector 18"/>
          <p:cNvCxnSpPr/>
          <p:nvPr/>
        </p:nvCxnSpPr>
        <p:spPr>
          <a:xfrm flipV="1">
            <a:off x="6323400" y="2285280"/>
            <a:ext cx="1080" cy="2972520"/>
          </a:xfrm>
          <a:prstGeom prst="straightConnector1">
            <a:avLst/>
          </a:prstGeom>
          <a:ln w="3168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215" name="Straight Connector 19"/>
          <p:cNvSpPr/>
          <p:nvPr/>
        </p:nvSpPr>
        <p:spPr>
          <a:xfrm>
            <a:off x="6324480" y="2286000"/>
            <a:ext cx="3812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traight Connector 20"/>
          <p:cNvSpPr/>
          <p:nvPr/>
        </p:nvSpPr>
        <p:spPr>
          <a:xfrm>
            <a:off x="6172200" y="5257800"/>
            <a:ext cx="380880" cy="1440"/>
          </a:xfrm>
          <a:prstGeom prst="line">
            <a:avLst/>
          </a:prstGeom>
          <a:ln w="19080">
            <a:solidFill>
              <a:srgbClr val="007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Straight Arrow Connector 28"/>
          <p:cNvCxnSpPr/>
          <p:nvPr/>
        </p:nvCxnSpPr>
        <p:spPr>
          <a:xfrm flipH="1">
            <a:off x="6780960" y="2286000"/>
            <a:ext cx="2520" cy="2667240"/>
          </a:xfrm>
          <a:prstGeom prst="straightConnector1">
            <a:avLst/>
          </a:prstGeom>
          <a:ln w="3168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sp>
        <p:nvSpPr>
          <p:cNvPr id="218" name="Straight Connector 30"/>
          <p:cNvSpPr/>
          <p:nvPr/>
        </p:nvSpPr>
        <p:spPr>
          <a:xfrm flipH="1" flipV="1">
            <a:off x="6095520" y="4952520"/>
            <a:ext cx="685800" cy="1800"/>
          </a:xfrm>
          <a:prstGeom prst="line">
            <a:avLst/>
          </a:prstGeom>
          <a:ln w="19080">
            <a:solidFill>
              <a:srgbClr val="00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Box 36"/>
          <p:cNvSpPr/>
          <p:nvPr/>
        </p:nvSpPr>
        <p:spPr>
          <a:xfrm>
            <a:off x="7571880" y="4876920"/>
            <a:ext cx="140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Korek et al.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Chem Phys 256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21"/>
          <p:cNvSpPr/>
          <p:nvPr/>
        </p:nvSpPr>
        <p:spPr>
          <a:xfrm>
            <a:off x="340200" y="500040"/>
            <a:ext cx="49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MS PGothic"/>
              </a:rPr>
              <a:t>Laser Induced Fluorescence (LI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5" descr="new_logo"/>
          <p:cNvPicPr/>
          <p:nvPr/>
        </p:nvPicPr>
        <p:blipFill>
          <a:blip r:embed="rId2"/>
          <a:stretch/>
        </p:blipFill>
        <p:spPr>
          <a:xfrm>
            <a:off x="7505640" y="0"/>
            <a:ext cx="1638360" cy="549360"/>
          </a:xfrm>
          <a:prstGeom prst="rect">
            <a:avLst/>
          </a:prstGeom>
          <a:ln w="0">
            <a:noFill/>
          </a:ln>
        </p:spPr>
      </p:pic>
      <p:sp>
        <p:nvSpPr>
          <p:cNvPr id="222" name="TextBox 23"/>
          <p:cNvSpPr/>
          <p:nvPr/>
        </p:nvSpPr>
        <p:spPr>
          <a:xfrm>
            <a:off x="5791320" y="6027840"/>
            <a:ext cx="33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Rounded MT Bold"/>
                <a:ea typeface="MS PGothic"/>
              </a:rPr>
              <a:t>Dutta </a:t>
            </a:r>
            <a:r>
              <a:rPr b="0" i="1" lang="en-US" sz="1400" spc="-1" strike="noStrike">
                <a:solidFill>
                  <a:srgbClr val="ff0000"/>
                </a:solidFill>
                <a:latin typeface="Arial Rounded MT Bold"/>
                <a:ea typeface="MS PGothic"/>
              </a:rPr>
              <a:t>et al., </a:t>
            </a:r>
            <a:r>
              <a:rPr b="0" lang="en-US" sz="1400" spc="-1" strike="noStrike">
                <a:solidFill>
                  <a:srgbClr val="ff0000"/>
                </a:solidFill>
                <a:latin typeface="Arial Rounded MT Bold"/>
                <a:ea typeface="MS PGothic"/>
              </a:rPr>
              <a:t>Chem Phys Lett (2011)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Rounded MT Bold"/>
                <a:ea typeface="MS PGothic"/>
              </a:rPr>
              <a:t>doi:10.1016/j.cplett.2011.05.059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Box 31"/>
          <p:cNvSpPr/>
          <p:nvPr/>
        </p:nvSpPr>
        <p:spPr>
          <a:xfrm>
            <a:off x="2860200" y="835200"/>
            <a:ext cx="38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From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Rounded MT Bold"/>
                <a:ea typeface="MS PGothic"/>
              </a:rPr>
              <a:t>low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v’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  levels of B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 Rounded MT Bold"/>
                <a:ea typeface="MS PGothic"/>
              </a:rPr>
              <a:t>1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Π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2" descr="D:\Igor Experiments\LIF-v0-small.tif"/>
          <p:cNvPicPr/>
          <p:nvPr/>
        </p:nvPicPr>
        <p:blipFill>
          <a:blip r:embed="rId3"/>
          <a:srcRect l="5634" t="0" r="5629" b="-5397"/>
          <a:stretch/>
        </p:blipFill>
        <p:spPr>
          <a:xfrm>
            <a:off x="76320" y="1143000"/>
            <a:ext cx="4556160" cy="1920960"/>
          </a:xfrm>
          <a:prstGeom prst="rect">
            <a:avLst/>
          </a:prstGeom>
          <a:ln w="0">
            <a:noFill/>
          </a:ln>
        </p:spPr>
      </p:pic>
      <p:sp>
        <p:nvSpPr>
          <p:cNvPr id="225" name="Freeform 23"/>
          <p:cNvSpPr/>
          <p:nvPr/>
        </p:nvSpPr>
        <p:spPr>
          <a:xfrm>
            <a:off x="1371600" y="1414440"/>
            <a:ext cx="2514600" cy="822240"/>
          </a:xfrm>
          <a:custGeom>
            <a:avLst/>
            <a:gdLst/>
            <a:ahLst/>
            <a:rect l="l" t="t" r="r" b="b"/>
            <a:pathLst>
              <a:path w="3000316" h="943384">
                <a:moveTo>
                  <a:pt x="0" y="943384"/>
                </a:moveTo>
                <a:lnTo>
                  <a:pt x="258051" y="920944"/>
                </a:lnTo>
                <a:cubicBezTo>
                  <a:pt x="344068" y="913464"/>
                  <a:pt x="422606" y="912529"/>
                  <a:pt x="516103" y="898505"/>
                </a:cubicBezTo>
                <a:cubicBezTo>
                  <a:pt x="609600" y="884481"/>
                  <a:pt x="719926" y="864846"/>
                  <a:pt x="819033" y="836797"/>
                </a:cubicBezTo>
                <a:cubicBezTo>
                  <a:pt x="918140" y="808748"/>
                  <a:pt x="1000417" y="787244"/>
                  <a:pt x="1110743" y="730211"/>
                </a:cubicBezTo>
                <a:cubicBezTo>
                  <a:pt x="1221069" y="673178"/>
                  <a:pt x="1362250" y="580615"/>
                  <a:pt x="1480991" y="494598"/>
                </a:cubicBezTo>
                <a:cubicBezTo>
                  <a:pt x="1599732" y="408581"/>
                  <a:pt x="1823190" y="214108"/>
                  <a:pt x="1823190" y="214108"/>
                </a:cubicBezTo>
                <a:cubicBezTo>
                  <a:pt x="1912012" y="141181"/>
                  <a:pt x="1953151" y="92562"/>
                  <a:pt x="2013924" y="57033"/>
                </a:cubicBezTo>
                <a:cubicBezTo>
                  <a:pt x="2074697" y="21504"/>
                  <a:pt x="2132665" y="1870"/>
                  <a:pt x="2187828" y="935"/>
                </a:cubicBezTo>
                <a:cubicBezTo>
                  <a:pt x="2242991" y="0"/>
                  <a:pt x="2293480" y="25244"/>
                  <a:pt x="2344903" y="51423"/>
                </a:cubicBezTo>
                <a:cubicBezTo>
                  <a:pt x="2396326" y="77602"/>
                  <a:pt x="2444945" y="115935"/>
                  <a:pt x="2496368" y="158009"/>
                </a:cubicBezTo>
                <a:cubicBezTo>
                  <a:pt x="2547791" y="200083"/>
                  <a:pt x="2578646" y="226263"/>
                  <a:pt x="2653443" y="303865"/>
                </a:cubicBezTo>
                <a:cubicBezTo>
                  <a:pt x="2728240" y="381467"/>
                  <a:pt x="2889990" y="561916"/>
                  <a:pt x="2945153" y="623624"/>
                </a:cubicBezTo>
                <a:cubicBezTo>
                  <a:pt x="3000316" y="685332"/>
                  <a:pt x="2992369" y="679722"/>
                  <a:pt x="2984422" y="674112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3" descr="D:\Igor Experiments\LIF-v1-small.tif"/>
          <p:cNvPicPr/>
          <p:nvPr/>
        </p:nvPicPr>
        <p:blipFill>
          <a:blip r:embed="rId4"/>
          <a:srcRect l="5654" t="8140" r="5367" b="-1766"/>
          <a:stretch/>
        </p:blipFill>
        <p:spPr>
          <a:xfrm>
            <a:off x="76320" y="2438280"/>
            <a:ext cx="4572000" cy="1646280"/>
          </a:xfrm>
          <a:prstGeom prst="rect">
            <a:avLst/>
          </a:prstGeom>
          <a:ln w="0">
            <a:noFill/>
          </a:ln>
        </p:spPr>
      </p:pic>
      <p:sp>
        <p:nvSpPr>
          <p:cNvPr id="227" name="Freeform 25"/>
          <p:cNvSpPr/>
          <p:nvPr/>
        </p:nvSpPr>
        <p:spPr>
          <a:xfrm>
            <a:off x="609480" y="2514600"/>
            <a:ext cx="3429000" cy="838080"/>
          </a:xfrm>
          <a:custGeom>
            <a:avLst/>
            <a:gdLst/>
            <a:ahLst/>
            <a:rect l="l" t="t" r="r" b="b"/>
            <a:pathLst>
              <a:path w="4061507" h="1068670">
                <a:moveTo>
                  <a:pt x="0" y="1024726"/>
                </a:moveTo>
                <a:cubicBezTo>
                  <a:pt x="122948" y="1019116"/>
                  <a:pt x="245897" y="1013506"/>
                  <a:pt x="370248" y="996677"/>
                </a:cubicBezTo>
                <a:cubicBezTo>
                  <a:pt x="494599" y="979848"/>
                  <a:pt x="603055" y="966758"/>
                  <a:pt x="746105" y="923750"/>
                </a:cubicBezTo>
                <a:cubicBezTo>
                  <a:pt x="889155" y="880742"/>
                  <a:pt x="1096719" y="800334"/>
                  <a:pt x="1228550" y="738626"/>
                </a:cubicBezTo>
                <a:cubicBezTo>
                  <a:pt x="1360381" y="676918"/>
                  <a:pt x="1439853" y="604925"/>
                  <a:pt x="1537090" y="553502"/>
                </a:cubicBezTo>
                <a:cubicBezTo>
                  <a:pt x="1634327" y="502079"/>
                  <a:pt x="1714734" y="453460"/>
                  <a:pt x="1811971" y="430086"/>
                </a:cubicBezTo>
                <a:cubicBezTo>
                  <a:pt x="1909208" y="406712"/>
                  <a:pt x="2012989" y="388013"/>
                  <a:pt x="2120510" y="413257"/>
                </a:cubicBezTo>
                <a:cubicBezTo>
                  <a:pt x="2228031" y="438501"/>
                  <a:pt x="2353317" y="504884"/>
                  <a:pt x="2457099" y="581551"/>
                </a:cubicBezTo>
                <a:cubicBezTo>
                  <a:pt x="2560881" y="658218"/>
                  <a:pt x="2665598" y="796594"/>
                  <a:pt x="2743200" y="873261"/>
                </a:cubicBezTo>
                <a:cubicBezTo>
                  <a:pt x="2820802" y="949928"/>
                  <a:pt x="2879705" y="1014442"/>
                  <a:pt x="2922714" y="1041556"/>
                </a:cubicBezTo>
                <a:cubicBezTo>
                  <a:pt x="2965723" y="1068670"/>
                  <a:pt x="2980683" y="1038751"/>
                  <a:pt x="3001252" y="1035946"/>
                </a:cubicBezTo>
                <a:cubicBezTo>
                  <a:pt x="3021821" y="1033141"/>
                  <a:pt x="3026496" y="1034076"/>
                  <a:pt x="3046130" y="1024726"/>
                </a:cubicBezTo>
                <a:cubicBezTo>
                  <a:pt x="3065764" y="1015376"/>
                  <a:pt x="3084464" y="1008832"/>
                  <a:pt x="3119058" y="979848"/>
                </a:cubicBezTo>
                <a:cubicBezTo>
                  <a:pt x="3153652" y="950864"/>
                  <a:pt x="3206010" y="905050"/>
                  <a:pt x="3253693" y="850822"/>
                </a:cubicBezTo>
                <a:cubicBezTo>
                  <a:pt x="3301376" y="796594"/>
                  <a:pt x="3351865" y="739561"/>
                  <a:pt x="3405158" y="654479"/>
                </a:cubicBezTo>
                <a:cubicBezTo>
                  <a:pt x="3458451" y="569397"/>
                  <a:pt x="3528575" y="425411"/>
                  <a:pt x="3573453" y="340329"/>
                </a:cubicBezTo>
                <a:cubicBezTo>
                  <a:pt x="3618331" y="255247"/>
                  <a:pt x="3641705" y="192603"/>
                  <a:pt x="3674429" y="143985"/>
                </a:cubicBezTo>
                <a:cubicBezTo>
                  <a:pt x="3707153" y="95367"/>
                  <a:pt x="3737072" y="71993"/>
                  <a:pt x="3769796" y="48619"/>
                </a:cubicBezTo>
                <a:cubicBezTo>
                  <a:pt x="3802520" y="25245"/>
                  <a:pt x="3838049" y="7480"/>
                  <a:pt x="3870773" y="3740"/>
                </a:cubicBezTo>
                <a:cubicBezTo>
                  <a:pt x="3903497" y="0"/>
                  <a:pt x="3934351" y="9350"/>
                  <a:pt x="3966140" y="26179"/>
                </a:cubicBezTo>
                <a:cubicBezTo>
                  <a:pt x="3997929" y="43008"/>
                  <a:pt x="4029718" y="73862"/>
                  <a:pt x="4061507" y="104717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4" descr="D:\Igor Experiments\LIF-v2-small.tif"/>
          <p:cNvPicPr/>
          <p:nvPr/>
        </p:nvPicPr>
        <p:blipFill>
          <a:blip r:embed="rId5"/>
          <a:srcRect l="5654" t="8140" r="5367" b="-2640"/>
          <a:stretch/>
        </p:blipFill>
        <p:spPr>
          <a:xfrm>
            <a:off x="76320" y="3505320"/>
            <a:ext cx="4572000" cy="1646280"/>
          </a:xfrm>
          <a:prstGeom prst="rect">
            <a:avLst/>
          </a:prstGeom>
          <a:ln w="0">
            <a:noFill/>
          </a:ln>
        </p:spPr>
      </p:pic>
      <p:sp>
        <p:nvSpPr>
          <p:cNvPr id="229" name="Freeform 27"/>
          <p:cNvSpPr/>
          <p:nvPr/>
        </p:nvSpPr>
        <p:spPr>
          <a:xfrm>
            <a:off x="533520" y="3505320"/>
            <a:ext cx="3733560" cy="838080"/>
          </a:xfrm>
          <a:custGeom>
            <a:avLst/>
            <a:gdLst/>
            <a:ahLst/>
            <a:rect l="l" t="t" r="r" b="b"/>
            <a:pathLst>
              <a:path w="4543951" h="990133">
                <a:moveTo>
                  <a:pt x="0" y="972368"/>
                </a:moveTo>
                <a:cubicBezTo>
                  <a:pt x="69188" y="961615"/>
                  <a:pt x="138376" y="950863"/>
                  <a:pt x="218783" y="933099"/>
                </a:cubicBezTo>
                <a:cubicBezTo>
                  <a:pt x="299190" y="915335"/>
                  <a:pt x="387077" y="895701"/>
                  <a:pt x="482444" y="865782"/>
                </a:cubicBezTo>
                <a:cubicBezTo>
                  <a:pt x="577811" y="835863"/>
                  <a:pt x="683463" y="796594"/>
                  <a:pt x="790984" y="753585"/>
                </a:cubicBezTo>
                <a:cubicBezTo>
                  <a:pt x="898505" y="710576"/>
                  <a:pt x="1127573" y="607730"/>
                  <a:pt x="1127573" y="607730"/>
                </a:cubicBezTo>
                <a:cubicBezTo>
                  <a:pt x="1207045" y="573136"/>
                  <a:pt x="1208915" y="568461"/>
                  <a:pt x="1267818" y="546022"/>
                </a:cubicBezTo>
                <a:cubicBezTo>
                  <a:pt x="1326721" y="523583"/>
                  <a:pt x="1410868" y="485250"/>
                  <a:pt x="1480991" y="473095"/>
                </a:cubicBezTo>
                <a:cubicBezTo>
                  <a:pt x="1551114" y="460940"/>
                  <a:pt x="1622172" y="462811"/>
                  <a:pt x="1688555" y="473095"/>
                </a:cubicBezTo>
                <a:cubicBezTo>
                  <a:pt x="1754938" y="483380"/>
                  <a:pt x="1818515" y="504883"/>
                  <a:pt x="1879288" y="534802"/>
                </a:cubicBezTo>
                <a:cubicBezTo>
                  <a:pt x="1940061" y="564721"/>
                  <a:pt x="1998030" y="609600"/>
                  <a:pt x="2053193" y="652609"/>
                </a:cubicBezTo>
                <a:cubicBezTo>
                  <a:pt x="2108356" y="695618"/>
                  <a:pt x="2157909" y="745171"/>
                  <a:pt x="2210267" y="792854"/>
                </a:cubicBezTo>
                <a:cubicBezTo>
                  <a:pt x="2262625" y="840537"/>
                  <a:pt x="2327138" y="906920"/>
                  <a:pt x="2367342" y="938709"/>
                </a:cubicBezTo>
                <a:cubicBezTo>
                  <a:pt x="2407546" y="970498"/>
                  <a:pt x="2421571" y="977043"/>
                  <a:pt x="2451490" y="983588"/>
                </a:cubicBezTo>
                <a:cubicBezTo>
                  <a:pt x="2481409" y="990133"/>
                  <a:pt x="2514132" y="986393"/>
                  <a:pt x="2546856" y="977978"/>
                </a:cubicBezTo>
                <a:cubicBezTo>
                  <a:pt x="2579580" y="969563"/>
                  <a:pt x="2612304" y="955538"/>
                  <a:pt x="2647833" y="933099"/>
                </a:cubicBezTo>
                <a:cubicBezTo>
                  <a:pt x="2683362" y="910660"/>
                  <a:pt x="2713281" y="886350"/>
                  <a:pt x="2760029" y="843342"/>
                </a:cubicBezTo>
                <a:cubicBezTo>
                  <a:pt x="2806777" y="800334"/>
                  <a:pt x="2928324" y="675048"/>
                  <a:pt x="2928324" y="675048"/>
                </a:cubicBezTo>
                <a:cubicBezTo>
                  <a:pt x="2975073" y="628300"/>
                  <a:pt x="3004056" y="592771"/>
                  <a:pt x="3040520" y="562852"/>
                </a:cubicBezTo>
                <a:cubicBezTo>
                  <a:pt x="3076984" y="532933"/>
                  <a:pt x="3111578" y="508624"/>
                  <a:pt x="3147107" y="495534"/>
                </a:cubicBezTo>
                <a:cubicBezTo>
                  <a:pt x="3182636" y="482444"/>
                  <a:pt x="3217229" y="479639"/>
                  <a:pt x="3253693" y="484314"/>
                </a:cubicBezTo>
                <a:cubicBezTo>
                  <a:pt x="3290157" y="488989"/>
                  <a:pt x="3322882" y="495534"/>
                  <a:pt x="3365890" y="523583"/>
                </a:cubicBezTo>
                <a:cubicBezTo>
                  <a:pt x="3408898" y="551632"/>
                  <a:pt x="3460322" y="601186"/>
                  <a:pt x="3511745" y="652609"/>
                </a:cubicBezTo>
                <a:cubicBezTo>
                  <a:pt x="3563168" y="704032"/>
                  <a:pt x="3631421" y="788180"/>
                  <a:pt x="3674429" y="832123"/>
                </a:cubicBezTo>
                <a:cubicBezTo>
                  <a:pt x="3717437" y="876066"/>
                  <a:pt x="3740812" y="896636"/>
                  <a:pt x="3769796" y="916270"/>
                </a:cubicBezTo>
                <a:cubicBezTo>
                  <a:pt x="3798780" y="935904"/>
                  <a:pt x="3817480" y="950864"/>
                  <a:pt x="3848334" y="949929"/>
                </a:cubicBezTo>
                <a:cubicBezTo>
                  <a:pt x="3879188" y="948994"/>
                  <a:pt x="3920326" y="935904"/>
                  <a:pt x="3954920" y="910660"/>
                </a:cubicBezTo>
                <a:cubicBezTo>
                  <a:pt x="3989514" y="885416"/>
                  <a:pt x="4011019" y="867652"/>
                  <a:pt x="4055897" y="798464"/>
                </a:cubicBezTo>
                <a:cubicBezTo>
                  <a:pt x="4100775" y="729276"/>
                  <a:pt x="4174638" y="600251"/>
                  <a:pt x="4224191" y="495534"/>
                </a:cubicBezTo>
                <a:cubicBezTo>
                  <a:pt x="4273744" y="390817"/>
                  <a:pt x="4319558" y="247767"/>
                  <a:pt x="4353217" y="170164"/>
                </a:cubicBezTo>
                <a:cubicBezTo>
                  <a:pt x="4386876" y="92562"/>
                  <a:pt x="4404641" y="57968"/>
                  <a:pt x="4426145" y="29919"/>
                </a:cubicBezTo>
                <a:cubicBezTo>
                  <a:pt x="4447649" y="1870"/>
                  <a:pt x="4462609" y="3740"/>
                  <a:pt x="4482243" y="1870"/>
                </a:cubicBezTo>
                <a:cubicBezTo>
                  <a:pt x="4501877" y="0"/>
                  <a:pt x="4522914" y="9349"/>
                  <a:pt x="4543951" y="18699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5" descr="D:\Igor Experiments\LIF-v3-small.tif"/>
          <p:cNvPicPr/>
          <p:nvPr/>
        </p:nvPicPr>
        <p:blipFill>
          <a:blip r:embed="rId6"/>
          <a:srcRect l="5004" t="7910" r="5552" b="0"/>
          <a:stretch/>
        </p:blipFill>
        <p:spPr>
          <a:xfrm>
            <a:off x="0" y="4572000"/>
            <a:ext cx="4638600" cy="1676520"/>
          </a:xfrm>
          <a:prstGeom prst="rect">
            <a:avLst/>
          </a:prstGeom>
          <a:ln w="0">
            <a:noFill/>
          </a:ln>
        </p:spPr>
      </p:pic>
      <p:sp>
        <p:nvSpPr>
          <p:cNvPr id="231" name="Freeform 31"/>
          <p:cNvSpPr/>
          <p:nvPr/>
        </p:nvSpPr>
        <p:spPr>
          <a:xfrm>
            <a:off x="457200" y="4648320"/>
            <a:ext cx="3962520" cy="838080"/>
          </a:xfrm>
          <a:custGeom>
            <a:avLst/>
            <a:gdLst/>
            <a:ahLst/>
            <a:rect l="l" t="t" r="r" b="b"/>
            <a:pathLst>
              <a:path w="4804012" h="1326106">
                <a:moveTo>
                  <a:pt x="0" y="1232847"/>
                </a:moveTo>
                <a:cubicBezTo>
                  <a:pt x="58002" y="1214650"/>
                  <a:pt x="116005" y="1197590"/>
                  <a:pt x="191068" y="1171432"/>
                </a:cubicBezTo>
                <a:cubicBezTo>
                  <a:pt x="266131" y="1145274"/>
                  <a:pt x="367352" y="1105468"/>
                  <a:pt x="450376" y="1075898"/>
                </a:cubicBezTo>
                <a:cubicBezTo>
                  <a:pt x="533400" y="1046328"/>
                  <a:pt x="619836" y="1015620"/>
                  <a:pt x="689212" y="994011"/>
                </a:cubicBezTo>
                <a:cubicBezTo>
                  <a:pt x="758588" y="972402"/>
                  <a:pt x="809767" y="954205"/>
                  <a:pt x="866633" y="946244"/>
                </a:cubicBezTo>
                <a:cubicBezTo>
                  <a:pt x="923499" y="938283"/>
                  <a:pt x="974678" y="936008"/>
                  <a:pt x="1030406" y="946244"/>
                </a:cubicBezTo>
                <a:cubicBezTo>
                  <a:pt x="1086134" y="956480"/>
                  <a:pt x="1133902" y="974677"/>
                  <a:pt x="1201003" y="1007659"/>
                </a:cubicBezTo>
                <a:cubicBezTo>
                  <a:pt x="1268104" y="1040641"/>
                  <a:pt x="1359090" y="1097506"/>
                  <a:pt x="1433015" y="1144136"/>
                </a:cubicBezTo>
                <a:cubicBezTo>
                  <a:pt x="1506940" y="1190766"/>
                  <a:pt x="1589964" y="1257868"/>
                  <a:pt x="1644555" y="1287438"/>
                </a:cubicBezTo>
                <a:cubicBezTo>
                  <a:pt x="1699146" y="1317008"/>
                  <a:pt x="1721892" y="1317008"/>
                  <a:pt x="1760561" y="1321557"/>
                </a:cubicBezTo>
                <a:cubicBezTo>
                  <a:pt x="1799230" y="1326106"/>
                  <a:pt x="1829937" y="1323831"/>
                  <a:pt x="1876567" y="1314733"/>
                </a:cubicBezTo>
                <a:cubicBezTo>
                  <a:pt x="1923197" y="1305635"/>
                  <a:pt x="1980062" y="1289712"/>
                  <a:pt x="2040340" y="1266966"/>
                </a:cubicBezTo>
                <a:cubicBezTo>
                  <a:pt x="2100618" y="1244220"/>
                  <a:pt x="2160896" y="1220336"/>
                  <a:pt x="2238233" y="1178256"/>
                </a:cubicBezTo>
                <a:cubicBezTo>
                  <a:pt x="2315570" y="1136176"/>
                  <a:pt x="2437263" y="1050877"/>
                  <a:pt x="2504364" y="1014483"/>
                </a:cubicBezTo>
                <a:cubicBezTo>
                  <a:pt x="2571465" y="978089"/>
                  <a:pt x="2598761" y="968991"/>
                  <a:pt x="2640842" y="959892"/>
                </a:cubicBezTo>
                <a:cubicBezTo>
                  <a:pt x="2682923" y="950794"/>
                  <a:pt x="2713630" y="951931"/>
                  <a:pt x="2756848" y="959892"/>
                </a:cubicBezTo>
                <a:cubicBezTo>
                  <a:pt x="2800066" y="967853"/>
                  <a:pt x="2844421" y="974677"/>
                  <a:pt x="2900149" y="1007659"/>
                </a:cubicBezTo>
                <a:cubicBezTo>
                  <a:pt x="2955877" y="1040641"/>
                  <a:pt x="3033215" y="1110017"/>
                  <a:pt x="3091218" y="1157784"/>
                </a:cubicBezTo>
                <a:cubicBezTo>
                  <a:pt x="3149221" y="1205551"/>
                  <a:pt x="3207224" y="1271516"/>
                  <a:pt x="3248167" y="1294262"/>
                </a:cubicBezTo>
                <a:cubicBezTo>
                  <a:pt x="3289110" y="1317008"/>
                  <a:pt x="3306170" y="1307910"/>
                  <a:pt x="3336877" y="1294262"/>
                </a:cubicBezTo>
                <a:cubicBezTo>
                  <a:pt x="3367584" y="1280614"/>
                  <a:pt x="3389194" y="1260142"/>
                  <a:pt x="3432412" y="1212375"/>
                </a:cubicBezTo>
                <a:cubicBezTo>
                  <a:pt x="3475630" y="1164608"/>
                  <a:pt x="3548418" y="1069074"/>
                  <a:pt x="3596185" y="1007659"/>
                </a:cubicBezTo>
                <a:cubicBezTo>
                  <a:pt x="3643952" y="946244"/>
                  <a:pt x="3682621" y="888241"/>
                  <a:pt x="3719015" y="843886"/>
                </a:cubicBezTo>
                <a:cubicBezTo>
                  <a:pt x="3755409" y="799531"/>
                  <a:pt x="3780430" y="765411"/>
                  <a:pt x="3814549" y="741527"/>
                </a:cubicBezTo>
                <a:cubicBezTo>
                  <a:pt x="3848668" y="717643"/>
                  <a:pt x="3887337" y="699447"/>
                  <a:pt x="3923731" y="700584"/>
                </a:cubicBezTo>
                <a:cubicBezTo>
                  <a:pt x="3960125" y="701721"/>
                  <a:pt x="3996519" y="716506"/>
                  <a:pt x="4032913" y="748351"/>
                </a:cubicBezTo>
                <a:cubicBezTo>
                  <a:pt x="4069307" y="780196"/>
                  <a:pt x="4093191" y="809766"/>
                  <a:pt x="4142095" y="891653"/>
                </a:cubicBezTo>
                <a:cubicBezTo>
                  <a:pt x="4190999" y="973540"/>
                  <a:pt x="4285397" y="1170295"/>
                  <a:pt x="4326340" y="1239671"/>
                </a:cubicBezTo>
                <a:cubicBezTo>
                  <a:pt x="4367283" y="1309047"/>
                  <a:pt x="4366146" y="1296537"/>
                  <a:pt x="4387755" y="1307910"/>
                </a:cubicBezTo>
                <a:cubicBezTo>
                  <a:pt x="4409364" y="1319283"/>
                  <a:pt x="4429836" y="1324970"/>
                  <a:pt x="4455994" y="1307910"/>
                </a:cubicBezTo>
                <a:cubicBezTo>
                  <a:pt x="4482152" y="1290850"/>
                  <a:pt x="4516271" y="1262417"/>
                  <a:pt x="4544704" y="1205551"/>
                </a:cubicBezTo>
                <a:cubicBezTo>
                  <a:pt x="4573137" y="1148685"/>
                  <a:pt x="4597021" y="1110018"/>
                  <a:pt x="4626591" y="966716"/>
                </a:cubicBezTo>
                <a:cubicBezTo>
                  <a:pt x="4656161" y="823415"/>
                  <a:pt x="4699379" y="498142"/>
                  <a:pt x="4722125" y="345742"/>
                </a:cubicBezTo>
                <a:cubicBezTo>
                  <a:pt x="4744871" y="193342"/>
                  <a:pt x="4749420" y="104632"/>
                  <a:pt x="4763068" y="52316"/>
                </a:cubicBezTo>
                <a:cubicBezTo>
                  <a:pt x="4776716" y="0"/>
                  <a:pt x="4790364" y="15922"/>
                  <a:pt x="4804012" y="31844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32"/>
          <p:cNvSpPr/>
          <p:nvPr/>
        </p:nvSpPr>
        <p:spPr>
          <a:xfrm>
            <a:off x="1828800" y="2514600"/>
            <a:ext cx="76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36"/>
          <p:cNvSpPr/>
          <p:nvPr/>
        </p:nvSpPr>
        <p:spPr>
          <a:xfrm>
            <a:off x="1905120" y="1371600"/>
            <a:ext cx="7617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37"/>
          <p:cNvSpPr/>
          <p:nvPr/>
        </p:nvSpPr>
        <p:spPr>
          <a:xfrm>
            <a:off x="1828800" y="3581280"/>
            <a:ext cx="76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38"/>
          <p:cNvSpPr/>
          <p:nvPr/>
        </p:nvSpPr>
        <p:spPr>
          <a:xfrm>
            <a:off x="1828800" y="4572000"/>
            <a:ext cx="76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Chart 2" descr=""/>
          <p:cNvPicPr/>
          <p:nvPr/>
        </p:nvPicPr>
        <p:blipFill>
          <a:blip r:embed="rId1"/>
          <a:stretch/>
        </p:blipFill>
        <p:spPr>
          <a:xfrm>
            <a:off x="0" y="4724280"/>
            <a:ext cx="9144000" cy="2133720"/>
          </a:xfrm>
          <a:prstGeom prst="rect">
            <a:avLst/>
          </a:prstGeom>
          <a:ln w="0">
            <a:noFill/>
          </a:ln>
        </p:spPr>
      </p:pic>
      <p:pic>
        <p:nvPicPr>
          <p:cNvPr id="237" name="Chart 3" descr=""/>
          <p:cNvPicPr/>
          <p:nvPr/>
        </p:nvPicPr>
        <p:blipFill>
          <a:blip r:embed="rId2"/>
          <a:stretch/>
        </p:blipFill>
        <p:spPr>
          <a:xfrm>
            <a:off x="0" y="3267000"/>
            <a:ext cx="9144000" cy="1755720"/>
          </a:xfrm>
          <a:prstGeom prst="rect">
            <a:avLst/>
          </a:prstGeom>
          <a:ln w="0">
            <a:noFill/>
          </a:ln>
        </p:spPr>
      </p:pic>
      <p:pic>
        <p:nvPicPr>
          <p:cNvPr id="238" name="Chart 5" descr=""/>
          <p:cNvPicPr/>
          <p:nvPr/>
        </p:nvPicPr>
        <p:blipFill>
          <a:blip r:embed="rId3"/>
          <a:stretch/>
        </p:blipFill>
        <p:spPr>
          <a:xfrm>
            <a:off x="0" y="841320"/>
            <a:ext cx="9144000" cy="1670040"/>
          </a:xfrm>
          <a:prstGeom prst="rect">
            <a:avLst/>
          </a:prstGeom>
          <a:ln w="0">
            <a:noFill/>
          </a:ln>
        </p:spPr>
      </p:pic>
      <p:sp>
        <p:nvSpPr>
          <p:cNvPr id="239" name="Freeform 6"/>
          <p:cNvSpPr/>
          <p:nvPr/>
        </p:nvSpPr>
        <p:spPr>
          <a:xfrm>
            <a:off x="3556080" y="1098720"/>
            <a:ext cx="4275000" cy="966600"/>
          </a:xfrm>
          <a:custGeom>
            <a:avLst/>
            <a:gdLst/>
            <a:ahLst/>
            <a:rect l="l" t="t" r="r" b="b"/>
            <a:pathLst>
              <a:path w="4275667" h="968022">
                <a:moveTo>
                  <a:pt x="4275667" y="722488"/>
                </a:moveTo>
                <a:cubicBezTo>
                  <a:pt x="4133145" y="606777"/>
                  <a:pt x="3990623" y="491066"/>
                  <a:pt x="3818467" y="375355"/>
                </a:cubicBezTo>
                <a:cubicBezTo>
                  <a:pt x="3646311" y="259644"/>
                  <a:pt x="3426177" y="56444"/>
                  <a:pt x="3242733" y="28222"/>
                </a:cubicBezTo>
                <a:cubicBezTo>
                  <a:pt x="3059289" y="0"/>
                  <a:pt x="2906889" y="114300"/>
                  <a:pt x="2717800" y="206022"/>
                </a:cubicBezTo>
                <a:cubicBezTo>
                  <a:pt x="2528711" y="297744"/>
                  <a:pt x="2324100" y="469900"/>
                  <a:pt x="2108200" y="578555"/>
                </a:cubicBezTo>
                <a:cubicBezTo>
                  <a:pt x="1892300" y="687211"/>
                  <a:pt x="1653822" y="798688"/>
                  <a:pt x="1422400" y="857955"/>
                </a:cubicBezTo>
                <a:cubicBezTo>
                  <a:pt x="1190978" y="917222"/>
                  <a:pt x="956734" y="915810"/>
                  <a:pt x="719667" y="934155"/>
                </a:cubicBezTo>
                <a:cubicBezTo>
                  <a:pt x="482600" y="952500"/>
                  <a:pt x="0" y="968022"/>
                  <a:pt x="0" y="968022"/>
                </a:cubicBezTo>
                <a:lnTo>
                  <a:pt x="0" y="968022"/>
                </a:lnTo>
                <a:lnTo>
                  <a:pt x="0" y="959555"/>
                </a:lnTo>
              </a:path>
            </a:pathLst>
          </a:custGeom>
          <a:noFill/>
          <a:ln w="9360">
            <a:solidFill>
              <a:srgbClr val="b6dcd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10"/>
          <p:cNvGrpSpPr/>
          <p:nvPr/>
        </p:nvGrpSpPr>
        <p:grpSpPr>
          <a:xfrm>
            <a:off x="-6480" y="2279520"/>
            <a:ext cx="9156600" cy="1456920"/>
            <a:chOff x="-6480" y="2279520"/>
            <a:chExt cx="9156600" cy="1456920"/>
          </a:xfrm>
        </p:grpSpPr>
        <p:pic>
          <p:nvPicPr>
            <p:cNvPr id="241" name="Chart 4" descr=""/>
            <p:cNvPicPr/>
            <p:nvPr/>
          </p:nvPicPr>
          <p:blipFill>
            <a:blip r:embed="rId4"/>
            <a:stretch/>
          </p:blipFill>
          <p:spPr>
            <a:xfrm>
              <a:off x="-6480" y="2279520"/>
              <a:ext cx="9156600" cy="14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Freeform 7"/>
            <p:cNvSpPr/>
            <p:nvPr/>
          </p:nvSpPr>
          <p:spPr>
            <a:xfrm>
              <a:off x="2401920" y="2343240"/>
              <a:ext cx="5824440" cy="952560"/>
            </a:xfrm>
            <a:custGeom>
              <a:avLst/>
              <a:gdLst/>
              <a:ahLst/>
              <a:rect l="l" t="t" r="r" b="b"/>
              <a:pathLst>
                <a:path w="5816600" h="944033">
                  <a:moveTo>
                    <a:pt x="5816600" y="292100"/>
                  </a:moveTo>
                  <a:cubicBezTo>
                    <a:pt x="5801783" y="278694"/>
                    <a:pt x="5786967" y="265288"/>
                    <a:pt x="5740400" y="232833"/>
                  </a:cubicBezTo>
                  <a:cubicBezTo>
                    <a:pt x="5693833" y="200378"/>
                    <a:pt x="5611989" y="131234"/>
                    <a:pt x="5537200" y="97367"/>
                  </a:cubicBezTo>
                  <a:cubicBezTo>
                    <a:pt x="5462411" y="63500"/>
                    <a:pt x="5379156" y="0"/>
                    <a:pt x="5291667" y="29633"/>
                  </a:cubicBezTo>
                  <a:cubicBezTo>
                    <a:pt x="5204178" y="59266"/>
                    <a:pt x="5135034" y="142523"/>
                    <a:pt x="5012267" y="275167"/>
                  </a:cubicBezTo>
                  <a:cubicBezTo>
                    <a:pt x="4889500" y="407811"/>
                    <a:pt x="4687712" y="719667"/>
                    <a:pt x="4555067" y="825500"/>
                  </a:cubicBezTo>
                  <a:cubicBezTo>
                    <a:pt x="4422423" y="931333"/>
                    <a:pt x="4364567" y="938389"/>
                    <a:pt x="4216400" y="910167"/>
                  </a:cubicBezTo>
                  <a:cubicBezTo>
                    <a:pt x="4068233" y="881945"/>
                    <a:pt x="3666067" y="656167"/>
                    <a:pt x="3666067" y="656167"/>
                  </a:cubicBezTo>
                  <a:cubicBezTo>
                    <a:pt x="3529189" y="592667"/>
                    <a:pt x="3505201" y="565856"/>
                    <a:pt x="3395134" y="529167"/>
                  </a:cubicBezTo>
                  <a:cubicBezTo>
                    <a:pt x="3285067" y="492478"/>
                    <a:pt x="3127023" y="451555"/>
                    <a:pt x="3005667" y="436033"/>
                  </a:cubicBezTo>
                  <a:cubicBezTo>
                    <a:pt x="2884311" y="420511"/>
                    <a:pt x="2830689" y="403577"/>
                    <a:pt x="2667000" y="436033"/>
                  </a:cubicBezTo>
                  <a:cubicBezTo>
                    <a:pt x="2503311" y="468489"/>
                    <a:pt x="2212623" y="568678"/>
                    <a:pt x="2023534" y="630767"/>
                  </a:cubicBezTo>
                  <a:cubicBezTo>
                    <a:pt x="1834445" y="692856"/>
                    <a:pt x="1711678" y="762000"/>
                    <a:pt x="1532467" y="808567"/>
                  </a:cubicBezTo>
                  <a:cubicBezTo>
                    <a:pt x="1353256" y="855134"/>
                    <a:pt x="1198034" y="887589"/>
                    <a:pt x="948267" y="910167"/>
                  </a:cubicBezTo>
                  <a:cubicBezTo>
                    <a:pt x="698500" y="932745"/>
                    <a:pt x="33867" y="944033"/>
                    <a:pt x="33867" y="944033"/>
                  </a:cubicBezTo>
                  <a:lnTo>
                    <a:pt x="33867" y="944033"/>
                  </a:lnTo>
                  <a:lnTo>
                    <a:pt x="0" y="935567"/>
                  </a:lnTo>
                </a:path>
              </a:pathLst>
            </a:custGeom>
            <a:noFill/>
            <a:ln w="9360">
              <a:solidFill>
                <a:srgbClr val="b6dc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Freeform 11"/>
          <p:cNvSpPr/>
          <p:nvPr/>
        </p:nvSpPr>
        <p:spPr>
          <a:xfrm>
            <a:off x="668160" y="4773600"/>
            <a:ext cx="7883640" cy="1347840"/>
          </a:xfrm>
          <a:custGeom>
            <a:avLst/>
            <a:gdLst/>
            <a:ahLst/>
            <a:rect l="l" t="t" r="r" b="b"/>
            <a:pathLst>
              <a:path w="7882466" h="1347611">
                <a:moveTo>
                  <a:pt x="0" y="1347611"/>
                </a:moveTo>
                <a:cubicBezTo>
                  <a:pt x="220838" y="1334205"/>
                  <a:pt x="441677" y="1320800"/>
                  <a:pt x="618066" y="1296811"/>
                </a:cubicBezTo>
                <a:cubicBezTo>
                  <a:pt x="794455" y="1272822"/>
                  <a:pt x="1058333" y="1203678"/>
                  <a:pt x="1058333" y="1203678"/>
                </a:cubicBezTo>
                <a:cubicBezTo>
                  <a:pt x="1237544" y="1166989"/>
                  <a:pt x="1494366" y="1103489"/>
                  <a:pt x="1693333" y="1076678"/>
                </a:cubicBezTo>
                <a:cubicBezTo>
                  <a:pt x="1892300" y="1049867"/>
                  <a:pt x="1972733" y="1001889"/>
                  <a:pt x="2252133" y="1042811"/>
                </a:cubicBezTo>
                <a:cubicBezTo>
                  <a:pt x="2531533" y="1083733"/>
                  <a:pt x="3031066" y="1316567"/>
                  <a:pt x="3369733" y="1322211"/>
                </a:cubicBezTo>
                <a:cubicBezTo>
                  <a:pt x="3708400" y="1327856"/>
                  <a:pt x="4055533" y="1131711"/>
                  <a:pt x="4284133" y="1076678"/>
                </a:cubicBezTo>
                <a:cubicBezTo>
                  <a:pt x="4512733" y="1021645"/>
                  <a:pt x="4581878" y="984956"/>
                  <a:pt x="4741333" y="992011"/>
                </a:cubicBezTo>
                <a:cubicBezTo>
                  <a:pt x="4900788" y="999066"/>
                  <a:pt x="5075766" y="1071033"/>
                  <a:pt x="5240866" y="1119011"/>
                </a:cubicBezTo>
                <a:cubicBezTo>
                  <a:pt x="5405966" y="1166989"/>
                  <a:pt x="5569655" y="1320800"/>
                  <a:pt x="5731933" y="1279878"/>
                </a:cubicBezTo>
                <a:cubicBezTo>
                  <a:pt x="5894211" y="1238956"/>
                  <a:pt x="6107289" y="955322"/>
                  <a:pt x="6214533" y="873478"/>
                </a:cubicBezTo>
                <a:cubicBezTo>
                  <a:pt x="6321777" y="791634"/>
                  <a:pt x="6304845" y="784578"/>
                  <a:pt x="6375400" y="788811"/>
                </a:cubicBezTo>
                <a:cubicBezTo>
                  <a:pt x="6445955" y="793044"/>
                  <a:pt x="6492522" y="832556"/>
                  <a:pt x="6637866" y="898878"/>
                </a:cubicBezTo>
                <a:cubicBezTo>
                  <a:pt x="6783210" y="965200"/>
                  <a:pt x="7096477" y="1172633"/>
                  <a:pt x="7247466" y="1186744"/>
                </a:cubicBezTo>
                <a:cubicBezTo>
                  <a:pt x="7398455" y="1200855"/>
                  <a:pt x="7459133" y="1157111"/>
                  <a:pt x="7543800" y="983544"/>
                </a:cubicBezTo>
                <a:cubicBezTo>
                  <a:pt x="7628467" y="809977"/>
                  <a:pt x="7699022" y="290688"/>
                  <a:pt x="7755466" y="145344"/>
                </a:cubicBezTo>
                <a:cubicBezTo>
                  <a:pt x="7811910" y="0"/>
                  <a:pt x="7847188" y="55739"/>
                  <a:pt x="7882466" y="111478"/>
                </a:cubicBezTo>
              </a:path>
            </a:pathLst>
          </a:custGeom>
          <a:noFill/>
          <a:ln w="9360">
            <a:solidFill>
              <a:srgbClr val="b6dcd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Box 12"/>
          <p:cNvSpPr/>
          <p:nvPr/>
        </p:nvSpPr>
        <p:spPr>
          <a:xfrm>
            <a:off x="929880" y="609480"/>
            <a:ext cx="46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Fluorescence from successively higher vib. (1) 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MS PGothic"/>
              </a:rPr>
              <a:t>1</a:t>
            </a:r>
            <a:r>
              <a:rPr b="0" lang="az-Cyrl-AZ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5190120" y="5791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2"/>
          <p:cNvSpPr/>
          <p:nvPr/>
        </p:nvSpPr>
        <p:spPr>
          <a:xfrm>
            <a:off x="5415840" y="5791320"/>
            <a:ext cx="26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5564160" y="13716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4"/>
          <p:cNvSpPr/>
          <p:nvPr/>
        </p:nvSpPr>
        <p:spPr>
          <a:xfrm>
            <a:off x="5495040" y="1736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5"/>
          <p:cNvSpPr/>
          <p:nvPr/>
        </p:nvSpPr>
        <p:spPr>
          <a:xfrm>
            <a:off x="5720760" y="1736640"/>
            <a:ext cx="26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12"/>
          <p:cNvSpPr/>
          <p:nvPr/>
        </p:nvSpPr>
        <p:spPr>
          <a:xfrm>
            <a:off x="5355360" y="701640"/>
            <a:ext cx="341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Franck-Condon Overlap of Vibronic s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11" descr=""/>
          <p:cNvPicPr/>
          <p:nvPr/>
        </p:nvPicPr>
        <p:blipFill>
          <a:blip r:embed="rId1"/>
          <a:stretch/>
        </p:blipFill>
        <p:spPr>
          <a:xfrm>
            <a:off x="152280" y="485640"/>
            <a:ext cx="4953240" cy="63723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2" descr="Franck-Condon-diagram"/>
          <p:cNvPicPr/>
          <p:nvPr/>
        </p:nvPicPr>
        <p:blipFill>
          <a:blip r:embed="rId2"/>
          <a:stretch/>
        </p:blipFill>
        <p:spPr>
          <a:xfrm>
            <a:off x="4948200" y="990720"/>
            <a:ext cx="4195800" cy="5181480"/>
          </a:xfrm>
          <a:prstGeom prst="rect">
            <a:avLst/>
          </a:prstGeom>
          <a:ln w="0">
            <a:noFill/>
          </a:ln>
        </p:spPr>
      </p:pic>
      <p:sp>
        <p:nvSpPr>
          <p:cNvPr id="253" name="Line 13"/>
          <p:cNvSpPr/>
          <p:nvPr/>
        </p:nvSpPr>
        <p:spPr>
          <a:xfrm>
            <a:off x="6858000" y="2743200"/>
            <a:ext cx="0" cy="213372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5"/>
          <p:cNvSpPr/>
          <p:nvPr/>
        </p:nvSpPr>
        <p:spPr>
          <a:xfrm>
            <a:off x="7238880" y="2666880"/>
            <a:ext cx="0" cy="129564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hoto-assoc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cw_PA"/>
          <p:cNvPicPr/>
          <p:nvPr/>
        </p:nvPicPr>
        <p:blipFill>
          <a:blip r:embed="rId1"/>
          <a:stretch/>
        </p:blipFill>
        <p:spPr>
          <a:xfrm>
            <a:off x="380880" y="1447920"/>
            <a:ext cx="6150240" cy="4157640"/>
          </a:xfrm>
          <a:prstGeom prst="rect">
            <a:avLst/>
          </a:prstGeom>
          <a:ln w="0">
            <a:noFill/>
          </a:ln>
        </p:spPr>
      </p:pic>
      <p:sp>
        <p:nvSpPr>
          <p:cNvPr id="257" name="Oval 5"/>
          <p:cNvSpPr/>
          <p:nvPr/>
        </p:nvSpPr>
        <p:spPr>
          <a:xfrm>
            <a:off x="6172200" y="41911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Oval 6"/>
          <p:cNvSpPr/>
          <p:nvPr/>
        </p:nvSpPr>
        <p:spPr>
          <a:xfrm>
            <a:off x="6477120" y="41911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7"/>
          <p:cNvSpPr/>
          <p:nvPr/>
        </p:nvSpPr>
        <p:spPr>
          <a:xfrm rot="19173000">
            <a:off x="6248160" y="3093840"/>
            <a:ext cx="2361960" cy="487080"/>
          </a:xfrm>
          <a:prstGeom prst="leftArrow">
            <a:avLst>
              <a:gd name="adj1" fmla="val 50000"/>
              <a:gd name="adj2" fmla="val 12123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7558920" y="316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MS PGothic"/>
              </a:rPr>
              <a:t>la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Object 2"/>
          <p:cNvGraphicFramePr/>
          <p:nvPr/>
        </p:nvGraphicFramePr>
        <p:xfrm>
          <a:off x="0" y="1370160"/>
          <a:ext cx="4572000" cy="38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0160"/>
                    <a:ext cx="4572000" cy="38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19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9999"/>
                </a:solidFill>
                <a:uFillTx/>
                <a:latin typeface="Comic Sans MS"/>
              </a:rPr>
              <a:t>PA rate of </a:t>
            </a:r>
            <a:r>
              <a:rPr b="1" lang="en-US" sz="4000" spc="-1" strike="noStrike" u="sng" baseline="30000">
                <a:solidFill>
                  <a:srgbClr val="009999"/>
                </a:solidFill>
                <a:uFillTx/>
                <a:latin typeface="Comic Sans MS"/>
              </a:rPr>
              <a:t>7</a:t>
            </a:r>
            <a:r>
              <a:rPr b="1" lang="en-US" sz="4000" spc="-1" strike="noStrike" u="sng">
                <a:solidFill>
                  <a:srgbClr val="009999"/>
                </a:solidFill>
                <a:uFillTx/>
                <a:latin typeface="Comic Sans MS"/>
              </a:rPr>
              <a:t>Li near F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1219320" y="3429000"/>
            <a:ext cx="838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3300"/>
                </a:solidFill>
                <a:latin typeface="Times New Roman"/>
                <a:ea typeface="MS PGothic"/>
              </a:rPr>
              <a:t>a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  <a:ea typeface="MS PGothic"/>
              </a:rPr>
              <a:t> &gt;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2895480" y="342900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3300"/>
                </a:solidFill>
                <a:latin typeface="Times New Roman"/>
                <a:ea typeface="MS PGothic"/>
              </a:rPr>
              <a:t>a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  <a:ea typeface="MS PGothic"/>
              </a:rPr>
              <a:t> &lt;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838080" y="10666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33"/>
                </a:solidFill>
                <a:latin typeface="Times New Roman"/>
                <a:ea typeface="MS PGothic"/>
              </a:rPr>
              <a:t>I = 1.65 W/cm</a:t>
            </a:r>
            <a:r>
              <a:rPr b="0" lang="en-US" sz="1600" spc="-1" strike="noStrike" baseline="30000">
                <a:solidFill>
                  <a:srgbClr val="66ff33"/>
                </a:solidFill>
                <a:latin typeface="Times New Roman"/>
                <a:ea typeface="MS PGothic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2286000" y="10666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33"/>
                </a:solidFill>
                <a:latin typeface="Times New Roman"/>
                <a:ea typeface="MS PGothic"/>
              </a:rPr>
              <a:t>v’’ = 8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8"/>
          <p:cNvSpPr/>
          <p:nvPr/>
        </p:nvSpPr>
        <p:spPr>
          <a:xfrm>
            <a:off x="3276720" y="106668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33"/>
                </a:solidFill>
                <a:latin typeface="Times New Roman"/>
                <a:ea typeface="MS PGothic"/>
              </a:rPr>
              <a:t>T ~ 10 </a:t>
            </a:r>
            <a:r>
              <a:rPr b="0" lang="en-US" sz="1600" spc="-1" strike="noStrike">
                <a:solidFill>
                  <a:srgbClr val="66ff33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66ff33"/>
                </a:solidFill>
                <a:latin typeface="Times New Roman"/>
                <a:ea typeface="MS PGothic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Object 9"/>
          <p:cNvGraphicFramePr/>
          <p:nvPr/>
        </p:nvGraphicFramePr>
        <p:xfrm>
          <a:off x="4456080" y="1292400"/>
          <a:ext cx="4687920" cy="392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0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56080" y="1292400"/>
                    <a:ext cx="4687920" cy="39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1" name="Group 10"/>
          <p:cNvGrpSpPr/>
          <p:nvPr/>
        </p:nvGrpSpPr>
        <p:grpSpPr>
          <a:xfrm>
            <a:off x="1989000" y="4919760"/>
            <a:ext cx="4038480" cy="1523880"/>
            <a:chOff x="1989000" y="4919760"/>
            <a:chExt cx="4038480" cy="1523880"/>
          </a:xfrm>
        </p:grpSpPr>
        <p:sp>
          <p:nvSpPr>
            <p:cNvPr id="272" name="Rectangle 11"/>
            <p:cNvSpPr/>
            <p:nvPr/>
          </p:nvSpPr>
          <p:spPr>
            <a:xfrm>
              <a:off x="3703680" y="5834160"/>
              <a:ext cx="1447560" cy="228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Group 12"/>
            <p:cNvGrpSpPr/>
            <p:nvPr/>
          </p:nvGrpSpPr>
          <p:grpSpPr>
            <a:xfrm>
              <a:off x="1989000" y="4919760"/>
              <a:ext cx="4038480" cy="1523880"/>
              <a:chOff x="1989000" y="4919760"/>
              <a:chExt cx="4038480" cy="1523880"/>
            </a:xfrm>
          </p:grpSpPr>
          <p:sp>
            <p:nvSpPr>
              <p:cNvPr id="274" name="Rectangle 13"/>
              <p:cNvSpPr/>
              <p:nvPr/>
            </p:nvSpPr>
            <p:spPr>
              <a:xfrm>
                <a:off x="1989000" y="4919760"/>
                <a:ext cx="4038480" cy="1523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5" name="Group 14"/>
              <p:cNvGrpSpPr/>
              <p:nvPr/>
            </p:nvGrpSpPr>
            <p:grpSpPr>
              <a:xfrm>
                <a:off x="2179440" y="5105160"/>
                <a:ext cx="3352680" cy="1333080"/>
                <a:chOff x="2179440" y="5105160"/>
                <a:chExt cx="3352680" cy="1333080"/>
              </a:xfrm>
            </p:grpSpPr>
            <p:sp>
              <p:nvSpPr>
                <p:cNvPr id="276" name="Freeform 15"/>
                <p:cNvSpPr/>
                <p:nvPr/>
              </p:nvSpPr>
              <p:spPr>
                <a:xfrm>
                  <a:off x="2179440" y="5105160"/>
                  <a:ext cx="3352680" cy="1333080"/>
                </a:xfrm>
                <a:custGeom>
                  <a:avLst/>
                  <a:gdLst/>
                  <a:ahLst/>
                  <a:rect l="l" t="t" r="r" b="b"/>
                  <a:pathLst>
                    <a:path w="2112" h="840">
                      <a:moveTo>
                        <a:pt x="0" y="0"/>
                      </a:moveTo>
                      <a:cubicBezTo>
                        <a:pt x="168" y="396"/>
                        <a:pt x="336" y="792"/>
                        <a:pt x="528" y="816"/>
                      </a:cubicBezTo>
                      <a:cubicBezTo>
                        <a:pt x="720" y="840"/>
                        <a:pt x="888" y="272"/>
                        <a:pt x="1152" y="144"/>
                      </a:cubicBezTo>
                      <a:cubicBezTo>
                        <a:pt x="1416" y="16"/>
                        <a:pt x="1764" y="32"/>
                        <a:pt x="2112" y="48"/>
                      </a:cubicBezTo>
                    </a:path>
                  </a:pathLst>
                </a:custGeom>
                <a:noFill/>
                <a:ln w="2556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16"/>
                <p:cNvSpPr/>
                <p:nvPr/>
              </p:nvSpPr>
              <p:spPr>
                <a:xfrm>
                  <a:off x="2382480" y="5571360"/>
                  <a:ext cx="13716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17"/>
                <p:cNvSpPr/>
                <p:nvPr/>
              </p:nvSpPr>
              <p:spPr>
                <a:xfrm>
                  <a:off x="2255760" y="5342760"/>
                  <a:ext cx="175248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18"/>
                <p:cNvSpPr/>
                <p:nvPr/>
              </p:nvSpPr>
              <p:spPr>
                <a:xfrm>
                  <a:off x="2496960" y="5812560"/>
                  <a:ext cx="1066680" cy="0"/>
                </a:xfrm>
                <a:prstGeom prst="line">
                  <a:avLst/>
                </a:prstGeom>
                <a:ln w="255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19"/>
                <p:cNvSpPr/>
                <p:nvPr/>
              </p:nvSpPr>
              <p:spPr>
                <a:xfrm>
                  <a:off x="2712960" y="618084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20"/>
                <p:cNvSpPr/>
                <p:nvPr/>
              </p:nvSpPr>
              <p:spPr>
                <a:xfrm>
                  <a:off x="2877840" y="633960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Text Box 21"/>
                <p:cNvSpPr/>
                <p:nvPr/>
              </p:nvSpPr>
              <p:spPr>
                <a:xfrm>
                  <a:off x="4020840" y="5164920"/>
                  <a:ext cx="838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3300"/>
                      </a:solidFill>
                      <a:latin typeface="Times New Roman"/>
                      <a:ea typeface="MS PGothic"/>
                    </a:rPr>
                    <a:t>v’’ = 8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Text Box 22"/>
                <p:cNvSpPr/>
                <p:nvPr/>
              </p:nvSpPr>
              <p:spPr>
                <a:xfrm>
                  <a:off x="3779640" y="5377680"/>
                  <a:ext cx="83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v’’ = 8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Text Box 23"/>
                <p:cNvSpPr/>
                <p:nvPr/>
              </p:nvSpPr>
              <p:spPr>
                <a:xfrm>
                  <a:off x="3627360" y="5606280"/>
                  <a:ext cx="83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333399"/>
                      </a:solidFill>
                      <a:latin typeface="Times New Roman"/>
                      <a:ea typeface="MS PGothic"/>
                    </a:rPr>
                    <a:t>v’’ = 8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Rectangle 24"/>
                <p:cNvSpPr/>
                <p:nvPr/>
              </p:nvSpPr>
              <p:spPr>
                <a:xfrm>
                  <a:off x="2412720" y="5900040"/>
                  <a:ext cx="1219320" cy="1519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Group 25"/>
              <p:cNvGrpSpPr/>
              <p:nvPr/>
            </p:nvGrpSpPr>
            <p:grpSpPr>
              <a:xfrm>
                <a:off x="2516040" y="5892480"/>
                <a:ext cx="1035000" cy="142200"/>
                <a:chOff x="2516040" y="5892480"/>
                <a:chExt cx="1035000" cy="142200"/>
              </a:xfrm>
            </p:grpSpPr>
            <p:sp>
              <p:nvSpPr>
                <p:cNvPr id="287" name="Freeform 26"/>
                <p:cNvSpPr/>
                <p:nvPr/>
              </p:nvSpPr>
              <p:spPr>
                <a:xfrm>
                  <a:off x="2516040" y="5906520"/>
                  <a:ext cx="152280" cy="55080"/>
                </a:xfrm>
                <a:custGeom>
                  <a:avLst/>
                  <a:gdLst/>
                  <a:ahLst/>
                  <a:rect l="l" t="t" r="r" b="b"/>
                  <a:pathLst>
                    <a:path w="144" h="48">
                      <a:moveTo>
                        <a:pt x="0" y="48"/>
                      </a:moveTo>
                      <a:cubicBezTo>
                        <a:pt x="16" y="24"/>
                        <a:pt x="32" y="0"/>
                        <a:pt x="48" y="0"/>
                      </a:cubicBezTo>
                      <a:cubicBezTo>
                        <a:pt x="64" y="0"/>
                        <a:pt x="80" y="48"/>
                        <a:pt x="96" y="48"/>
                      </a:cubicBezTo>
                      <a:cubicBezTo>
                        <a:pt x="112" y="48"/>
                        <a:pt x="128" y="24"/>
                        <a:pt x="144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27"/>
                <p:cNvSpPr/>
                <p:nvPr/>
              </p:nvSpPr>
              <p:spPr>
                <a:xfrm>
                  <a:off x="3373200" y="5959080"/>
                  <a:ext cx="152280" cy="55080"/>
                </a:xfrm>
                <a:custGeom>
                  <a:avLst/>
                  <a:gdLst/>
                  <a:ahLst/>
                  <a:rect l="l" t="t" r="r" b="b"/>
                  <a:pathLst>
                    <a:path w="144" h="48">
                      <a:moveTo>
                        <a:pt x="0" y="48"/>
                      </a:moveTo>
                      <a:cubicBezTo>
                        <a:pt x="16" y="24"/>
                        <a:pt x="32" y="0"/>
                        <a:pt x="48" y="0"/>
                      </a:cubicBezTo>
                      <a:cubicBezTo>
                        <a:pt x="64" y="0"/>
                        <a:pt x="80" y="48"/>
                        <a:pt x="96" y="48"/>
                      </a:cubicBezTo>
                      <a:cubicBezTo>
                        <a:pt x="112" y="48"/>
                        <a:pt x="128" y="24"/>
                        <a:pt x="144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28"/>
                <p:cNvSpPr/>
                <p:nvPr/>
              </p:nvSpPr>
              <p:spPr>
                <a:xfrm>
                  <a:off x="2528640" y="5979600"/>
                  <a:ext cx="152280" cy="55080"/>
                </a:xfrm>
                <a:custGeom>
                  <a:avLst/>
                  <a:gdLst/>
                  <a:ahLst/>
                  <a:rect l="l" t="t" r="r" b="b"/>
                  <a:pathLst>
                    <a:path w="144" h="48">
                      <a:moveTo>
                        <a:pt x="0" y="48"/>
                      </a:moveTo>
                      <a:cubicBezTo>
                        <a:pt x="16" y="24"/>
                        <a:pt x="32" y="0"/>
                        <a:pt x="48" y="0"/>
                      </a:cubicBezTo>
                      <a:cubicBezTo>
                        <a:pt x="64" y="0"/>
                        <a:pt x="80" y="48"/>
                        <a:pt x="96" y="48"/>
                      </a:cubicBezTo>
                      <a:cubicBezTo>
                        <a:pt x="112" y="48"/>
                        <a:pt x="128" y="24"/>
                        <a:pt x="144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29"/>
                <p:cNvSpPr/>
                <p:nvPr/>
              </p:nvSpPr>
              <p:spPr>
                <a:xfrm>
                  <a:off x="3398760" y="5892480"/>
                  <a:ext cx="152280" cy="55440"/>
                </a:xfrm>
                <a:custGeom>
                  <a:avLst/>
                  <a:gdLst/>
                  <a:ahLst/>
                  <a:rect l="l" t="t" r="r" b="b"/>
                  <a:pathLst>
                    <a:path w="144" h="48">
                      <a:moveTo>
                        <a:pt x="0" y="48"/>
                      </a:moveTo>
                      <a:cubicBezTo>
                        <a:pt x="16" y="24"/>
                        <a:pt x="32" y="0"/>
                        <a:pt x="48" y="0"/>
                      </a:cubicBezTo>
                      <a:cubicBezTo>
                        <a:pt x="64" y="0"/>
                        <a:pt x="80" y="48"/>
                        <a:pt x="96" y="48"/>
                      </a:cubicBezTo>
                      <a:cubicBezTo>
                        <a:pt x="112" y="48"/>
                        <a:pt x="128" y="24"/>
                        <a:pt x="144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91" name="Text Box 30"/>
          <p:cNvSpPr/>
          <p:nvPr/>
        </p:nvSpPr>
        <p:spPr>
          <a:xfrm>
            <a:off x="2743200" y="26352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  <a:ea typeface="MS PGothic"/>
              </a:rPr>
              <a:t>~10</a:t>
            </a:r>
            <a:r>
              <a:rPr b="0" lang="en-US" sz="1600" spc="-1" strike="noStrike" baseline="30000">
                <a:solidFill>
                  <a:srgbClr val="333399"/>
                </a:solidFill>
                <a:latin typeface="Times New Roman"/>
                <a:ea typeface="MS PGothic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31"/>
          <p:cNvSpPr/>
          <p:nvPr/>
        </p:nvSpPr>
        <p:spPr>
          <a:xfrm>
            <a:off x="2057400" y="1828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32"/>
          <p:cNvSpPr/>
          <p:nvPr/>
        </p:nvSpPr>
        <p:spPr>
          <a:xfrm>
            <a:off x="1981080" y="4216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33"/>
          <p:cNvSpPr/>
          <p:nvPr/>
        </p:nvSpPr>
        <p:spPr>
          <a:xfrm>
            <a:off x="2743200" y="18414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34"/>
          <p:cNvSpPr/>
          <p:nvPr/>
        </p:nvSpPr>
        <p:spPr>
          <a:xfrm>
            <a:off x="6588360" y="5599080"/>
            <a:ext cx="216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.Junker et al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RL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Line 2"/>
          <p:cNvSpPr/>
          <p:nvPr/>
        </p:nvSpPr>
        <p:spPr>
          <a:xfrm>
            <a:off x="1523880" y="3429000"/>
            <a:ext cx="18288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Object 3"/>
          <p:cNvGraphicFramePr/>
          <p:nvPr/>
        </p:nvGraphicFramePr>
        <p:xfrm>
          <a:off x="1371600" y="2286000"/>
          <a:ext cx="2438280" cy="20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86000"/>
                    <a:ext cx="2438280" cy="20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Freeform 4"/>
          <p:cNvSpPr/>
          <p:nvPr/>
        </p:nvSpPr>
        <p:spPr>
          <a:xfrm>
            <a:off x="1295280" y="5041800"/>
            <a:ext cx="4191120" cy="1359000"/>
          </a:xfrm>
          <a:custGeom>
            <a:avLst/>
            <a:gdLst/>
            <a:ahLst/>
            <a:rect l="l" t="t" r="r" b="b"/>
            <a:pathLst>
              <a:path w="2640" h="856">
                <a:moveTo>
                  <a:pt x="0" y="0"/>
                </a:moveTo>
                <a:cubicBezTo>
                  <a:pt x="48" y="244"/>
                  <a:pt x="96" y="488"/>
                  <a:pt x="192" y="624"/>
                </a:cubicBezTo>
                <a:cubicBezTo>
                  <a:pt x="288" y="760"/>
                  <a:pt x="376" y="856"/>
                  <a:pt x="576" y="816"/>
                </a:cubicBezTo>
                <a:cubicBezTo>
                  <a:pt x="776" y="776"/>
                  <a:pt x="1048" y="472"/>
                  <a:pt x="1392" y="384"/>
                </a:cubicBezTo>
                <a:cubicBezTo>
                  <a:pt x="1736" y="296"/>
                  <a:pt x="2432" y="296"/>
                  <a:pt x="2640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0" name="Object 5"/>
          <p:cNvGraphicFramePr/>
          <p:nvPr/>
        </p:nvGraphicFramePr>
        <p:xfrm>
          <a:off x="990720" y="3429000"/>
          <a:ext cx="4343400" cy="254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429000"/>
                    <a:ext cx="4343400" cy="25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Line 6"/>
          <p:cNvSpPr/>
          <p:nvPr/>
        </p:nvSpPr>
        <p:spPr>
          <a:xfrm>
            <a:off x="1442880" y="542304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7"/>
          <p:cNvSpPr/>
          <p:nvPr/>
        </p:nvSpPr>
        <p:spPr>
          <a:xfrm>
            <a:off x="1523880" y="297324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reeform 8"/>
          <p:cNvSpPr/>
          <p:nvPr/>
        </p:nvSpPr>
        <p:spPr>
          <a:xfrm>
            <a:off x="1328760" y="2209680"/>
            <a:ext cx="4343400" cy="2544840"/>
          </a:xfrm>
          <a:custGeom>
            <a:avLst/>
            <a:gdLst/>
            <a:ahLst/>
            <a:rect l="l" t="t" r="r" b="b"/>
            <a:pathLst>
              <a:path w="2208" h="2104">
                <a:moveTo>
                  <a:pt x="0" y="0"/>
                </a:moveTo>
                <a:cubicBezTo>
                  <a:pt x="72" y="724"/>
                  <a:pt x="144" y="1448"/>
                  <a:pt x="240" y="1776"/>
                </a:cubicBezTo>
                <a:cubicBezTo>
                  <a:pt x="336" y="2104"/>
                  <a:pt x="440" y="2104"/>
                  <a:pt x="576" y="1968"/>
                </a:cubicBezTo>
                <a:cubicBezTo>
                  <a:pt x="712" y="1832"/>
                  <a:pt x="784" y="1176"/>
                  <a:pt x="1056" y="960"/>
                </a:cubicBezTo>
                <a:cubicBezTo>
                  <a:pt x="1328" y="744"/>
                  <a:pt x="1768" y="708"/>
                  <a:pt x="2208" y="672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9"/>
          <p:cNvSpPr/>
          <p:nvPr/>
        </p:nvSpPr>
        <p:spPr>
          <a:xfrm>
            <a:off x="1066680" y="32767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MS PGothic"/>
              </a:rPr>
              <a:t>v’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4343400" y="5499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1"/>
          <p:cNvSpPr/>
          <p:nvPr/>
        </p:nvSpPr>
        <p:spPr>
          <a:xfrm>
            <a:off x="4343400" y="3121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2"/>
          <p:cNvSpPr/>
          <p:nvPr/>
        </p:nvSpPr>
        <p:spPr>
          <a:xfrm flipV="1">
            <a:off x="1066680" y="44956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762120" y="46483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MS PGothic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4"/>
          <p:cNvSpPr/>
          <p:nvPr/>
        </p:nvSpPr>
        <p:spPr>
          <a:xfrm>
            <a:off x="3276720" y="335268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15"/>
          <p:cNvSpPr/>
          <p:nvPr/>
        </p:nvSpPr>
        <p:spPr>
          <a:xfrm flipV="1">
            <a:off x="3352680" y="2971440"/>
            <a:ext cx="0" cy="24382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Freeform 16"/>
          <p:cNvSpPr/>
          <p:nvPr/>
        </p:nvSpPr>
        <p:spPr>
          <a:xfrm>
            <a:off x="1871640" y="4788000"/>
            <a:ext cx="2612880" cy="1079280"/>
          </a:xfrm>
          <a:custGeom>
            <a:avLst/>
            <a:gdLst/>
            <a:ahLst/>
            <a:rect l="l" t="t" r="r" b="b"/>
            <a:pathLst>
              <a:path w="1584" h="680">
                <a:moveTo>
                  <a:pt x="0" y="528"/>
                </a:moveTo>
                <a:cubicBezTo>
                  <a:pt x="36" y="604"/>
                  <a:pt x="72" y="680"/>
                  <a:pt x="192" y="672"/>
                </a:cubicBezTo>
                <a:cubicBezTo>
                  <a:pt x="312" y="664"/>
                  <a:pt x="488" y="592"/>
                  <a:pt x="720" y="480"/>
                </a:cubicBezTo>
                <a:cubicBezTo>
                  <a:pt x="952" y="368"/>
                  <a:pt x="1268" y="184"/>
                  <a:pt x="1584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7"/>
          <p:cNvSpPr/>
          <p:nvPr/>
        </p:nvSpPr>
        <p:spPr>
          <a:xfrm>
            <a:off x="4343400" y="5013360"/>
            <a:ext cx="2057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+ 2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8"/>
          <p:cNvSpPr/>
          <p:nvPr/>
        </p:nvSpPr>
        <p:spPr>
          <a:xfrm>
            <a:off x="4267080" y="2590920"/>
            <a:ext cx="2057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+ 2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Why the z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20"/>
          <p:cNvGrpSpPr/>
          <p:nvPr/>
        </p:nvGrpSpPr>
        <p:grpSpPr>
          <a:xfrm>
            <a:off x="6324480" y="4038480"/>
            <a:ext cx="1981080" cy="770400"/>
            <a:chOff x="6324480" y="4038480"/>
            <a:chExt cx="1981080" cy="770400"/>
          </a:xfrm>
        </p:grpSpPr>
        <p:sp>
          <p:nvSpPr>
            <p:cNvPr id="317" name="Text Box 21"/>
            <p:cNvSpPr/>
            <p:nvPr/>
          </p:nvSpPr>
          <p:spPr>
            <a:xfrm>
              <a:off x="6933960" y="4298760"/>
              <a:ext cx="106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f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MS PGothic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Text Box 22"/>
            <p:cNvSpPr/>
            <p:nvPr/>
          </p:nvSpPr>
          <p:spPr>
            <a:xfrm>
              <a:off x="6324480" y="429876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R~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23"/>
            <p:cNvSpPr/>
            <p:nvPr/>
          </p:nvSpPr>
          <p:spPr>
            <a:xfrm>
              <a:off x="6933960" y="42224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24"/>
            <p:cNvSpPr/>
            <p:nvPr/>
          </p:nvSpPr>
          <p:spPr>
            <a:xfrm>
              <a:off x="7696080" y="42224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25"/>
            <p:cNvSpPr/>
            <p:nvPr/>
          </p:nvSpPr>
          <p:spPr>
            <a:xfrm>
              <a:off x="7696080" y="403848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Oval 26"/>
          <p:cNvSpPr/>
          <p:nvPr/>
        </p:nvSpPr>
        <p:spPr>
          <a:xfrm>
            <a:off x="3276720" y="3962520"/>
            <a:ext cx="152280" cy="15228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Oval 27"/>
          <p:cNvSpPr/>
          <p:nvPr/>
        </p:nvSpPr>
        <p:spPr>
          <a:xfrm>
            <a:off x="3276720" y="5334120"/>
            <a:ext cx="152280" cy="152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Group 28"/>
          <p:cNvGrpSpPr/>
          <p:nvPr/>
        </p:nvGrpSpPr>
        <p:grpSpPr>
          <a:xfrm>
            <a:off x="3504960" y="4038480"/>
            <a:ext cx="1067040" cy="398880"/>
            <a:chOff x="3504960" y="4038480"/>
            <a:chExt cx="1067040" cy="398880"/>
          </a:xfrm>
        </p:grpSpPr>
        <p:sp>
          <p:nvSpPr>
            <p:cNvPr id="325" name="Line 29"/>
            <p:cNvSpPr/>
            <p:nvPr/>
          </p:nvSpPr>
          <p:spPr>
            <a:xfrm flipH="1" flipV="1">
              <a:off x="3504960" y="4114800"/>
              <a:ext cx="228600" cy="763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30"/>
            <p:cNvSpPr/>
            <p:nvPr/>
          </p:nvSpPr>
          <p:spPr>
            <a:xfrm>
              <a:off x="3809880" y="403848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Tahoma"/>
                  <a:ea typeface="MS PGothic"/>
                </a:rPr>
                <a:t>bi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Group 31"/>
          <p:cNvGrpSpPr/>
          <p:nvPr/>
        </p:nvGrpSpPr>
        <p:grpSpPr>
          <a:xfrm>
            <a:off x="3429000" y="5486400"/>
            <a:ext cx="1371600" cy="1161000"/>
            <a:chOff x="3429000" y="5486400"/>
            <a:chExt cx="1371600" cy="1161000"/>
          </a:xfrm>
        </p:grpSpPr>
        <p:sp>
          <p:nvSpPr>
            <p:cNvPr id="328" name="Line 32"/>
            <p:cNvSpPr/>
            <p:nvPr/>
          </p:nvSpPr>
          <p:spPr>
            <a:xfrm flipH="1" flipV="1">
              <a:off x="3429000" y="5486400"/>
              <a:ext cx="533520" cy="5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Text Box 33"/>
            <p:cNvSpPr/>
            <p:nvPr/>
          </p:nvSpPr>
          <p:spPr>
            <a:xfrm>
              <a:off x="4038480" y="5943600"/>
              <a:ext cx="762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ahoma"/>
                  <a:ea typeface="MS PGothic"/>
                </a:rPr>
                <a:t>sma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Rectangle 34"/>
          <p:cNvSpPr/>
          <p:nvPr/>
        </p:nvSpPr>
        <p:spPr>
          <a:xfrm>
            <a:off x="1066680" y="1447920"/>
            <a:ext cx="609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Times New Roman"/>
                <a:ea typeface="MS PGothic"/>
              </a:rPr>
              <a:t>Rate depends on ground state wavefunction (Franck-Cond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35"/>
          <p:cNvSpPr/>
          <p:nvPr/>
        </p:nvSpPr>
        <p:spPr>
          <a:xfrm>
            <a:off x="4267080" y="2743200"/>
            <a:ext cx="2667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36"/>
          <p:cNvSpPr/>
          <p:nvPr/>
        </p:nvSpPr>
        <p:spPr>
          <a:xfrm>
            <a:off x="4876920" y="3597120"/>
            <a:ext cx="2666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37"/>
          <p:cNvSpPr/>
          <p:nvPr/>
        </p:nvSpPr>
        <p:spPr>
          <a:xfrm>
            <a:off x="4876920" y="3962520"/>
            <a:ext cx="3809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38"/>
          <p:cNvSpPr/>
          <p:nvPr/>
        </p:nvSpPr>
        <p:spPr>
          <a:xfrm>
            <a:off x="5897160" y="6188040"/>
            <a:ext cx="305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ohn and Julienne PRA 60, 414 (1999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858960" y="1219320"/>
            <a:ext cx="7291440" cy="48974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book 1: M. Fox “Optical Properties of Solids”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d, Oxf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44280" y="6156360"/>
            <a:ext cx="47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nline pdf (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ed) seems to be available (googl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156960" y="1905120"/>
            <a:ext cx="790560" cy="459720"/>
          </a:xfrm>
          <a:prstGeom prst="rect">
            <a:avLst/>
          </a:prstGeom>
          <a:noFill/>
          <a:ln w="9360">
            <a:solidFill>
              <a:srgbClr val="1016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93960" y="2514600"/>
            <a:ext cx="321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e’ll cover a good portion of 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+ selected modern top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traight Connector 8"/>
          <p:cNvSpPr/>
          <p:nvPr/>
        </p:nvSpPr>
        <p:spPr>
          <a:xfrm>
            <a:off x="4267080" y="5486400"/>
            <a:ext cx="1067040" cy="669960"/>
          </a:xfrm>
          <a:prstGeom prst="line">
            <a:avLst/>
          </a:prstGeom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639720"/>
            <a:ext cx="91440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book 2: M. Fox “Quantum Optics” (Oxfo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666720" y="1219320"/>
            <a:ext cx="7074000" cy="488304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37440" y="6073920"/>
            <a:ext cx="58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Available online from Purdue Library Web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157320" y="1905120"/>
            <a:ext cx="840600" cy="459720"/>
          </a:xfrm>
          <a:prstGeom prst="rect">
            <a:avLst/>
          </a:prstGeom>
          <a:noFill/>
          <a:ln w="9360">
            <a:solidFill>
              <a:srgbClr val="1016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Q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3960" y="4952880"/>
            <a:ext cx="35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e’ll cover part of FQ+suppl top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move on to quantum (semiclassic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258840" y="3065400"/>
            <a:ext cx="3781440" cy="1366920"/>
          </a:xfrm>
          <a:prstGeom prst="rect">
            <a:avLst/>
          </a:prstGeom>
          <a:ln w="0">
            <a:noFill/>
          </a:ln>
        </p:spPr>
      </p:pic>
      <p:sp>
        <p:nvSpPr>
          <p:cNvPr id="74" name="Oval 5"/>
          <p:cNvSpPr/>
          <p:nvPr/>
        </p:nvSpPr>
        <p:spPr>
          <a:xfrm>
            <a:off x="1477800" y="3451320"/>
            <a:ext cx="1295640" cy="909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traight Connector 6"/>
          <p:cNvSpPr/>
          <p:nvPr/>
        </p:nvSpPr>
        <p:spPr>
          <a:xfrm>
            <a:off x="1554120" y="372420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Straight Connector 7"/>
          <p:cNvSpPr/>
          <p:nvPr/>
        </p:nvSpPr>
        <p:spPr>
          <a:xfrm>
            <a:off x="1554120" y="413244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Object 97279"/>
          <p:cNvGraphicFramePr/>
          <p:nvPr/>
        </p:nvGraphicFramePr>
        <p:xfrm>
          <a:off x="201600" y="3355920"/>
          <a:ext cx="114480" cy="17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Object 9727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1600" y="335592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Freeform 9"/>
          <p:cNvSpPr/>
          <p:nvPr/>
        </p:nvSpPr>
        <p:spPr>
          <a:xfrm flipH="1">
            <a:off x="2081160" y="3724200"/>
            <a:ext cx="44640" cy="408240"/>
          </a:xfrm>
          <a:custGeom>
            <a:avLst/>
            <a:gdLst/>
            <a:ahLst/>
            <a:rect l="l" t="t" r="r" b="b"/>
            <a:pathLst>
              <a:path w="291746" h="1510145">
                <a:moveTo>
                  <a:pt x="55936" y="1510145"/>
                </a:moveTo>
                <a:cubicBezTo>
                  <a:pt x="177163" y="1420090"/>
                  <a:pt x="298390" y="1330036"/>
                  <a:pt x="291463" y="1246909"/>
                </a:cubicBezTo>
                <a:cubicBezTo>
                  <a:pt x="284536" y="1163782"/>
                  <a:pt x="16681" y="1087581"/>
                  <a:pt x="14372" y="1011381"/>
                </a:cubicBezTo>
                <a:cubicBezTo>
                  <a:pt x="12063" y="935181"/>
                  <a:pt x="279918" y="861291"/>
                  <a:pt x="277609" y="789709"/>
                </a:cubicBezTo>
                <a:cubicBezTo>
                  <a:pt x="275300" y="718127"/>
                  <a:pt x="12064" y="653473"/>
                  <a:pt x="518" y="581891"/>
                </a:cubicBezTo>
                <a:cubicBezTo>
                  <a:pt x="-11028" y="510309"/>
                  <a:pt x="173700" y="457200"/>
                  <a:pt x="208336" y="360218"/>
                </a:cubicBezTo>
                <a:cubicBezTo>
                  <a:pt x="242972" y="263236"/>
                  <a:pt x="208336" y="0"/>
                  <a:pt x="208336" y="0"/>
                </a:cubicBezTo>
                <a:lnTo>
                  <a:pt x="208336" y="0"/>
                </a:lnTo>
              </a:path>
            </a:pathLst>
          </a:custGeom>
          <a:noFill/>
          <a:ln w="2556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Object 97279"/>
          <p:cNvGraphicFramePr/>
          <p:nvPr/>
        </p:nvGraphicFramePr>
        <p:xfrm>
          <a:off x="4551480" y="3362400"/>
          <a:ext cx="114120" cy="177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1" name="Object 9727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51480" y="3362400"/>
                    <a:ext cx="11412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Picture 3" descr=""/>
          <p:cNvPicPr/>
          <p:nvPr/>
        </p:nvPicPr>
        <p:blipFill>
          <a:blip r:embed="rId6"/>
          <a:stretch/>
        </p:blipFill>
        <p:spPr>
          <a:xfrm>
            <a:off x="4487760" y="3025800"/>
            <a:ext cx="4013280" cy="1446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7"/>
          <a:stretch/>
        </p:blipFill>
        <p:spPr>
          <a:xfrm>
            <a:off x="5862600" y="3525840"/>
            <a:ext cx="1212840" cy="760320"/>
          </a:xfrm>
          <a:prstGeom prst="rect">
            <a:avLst/>
          </a:prstGeom>
          <a:ln w="0">
            <a:noFill/>
          </a:ln>
        </p:spPr>
      </p:pic>
      <p:pic>
        <p:nvPicPr>
          <p:cNvPr id="84" name="TextBox 14" descr=""/>
          <p:cNvPicPr/>
          <p:nvPr/>
        </p:nvPicPr>
        <p:blipFill>
          <a:blip r:embed="rId8"/>
          <a:stretch/>
        </p:blipFill>
        <p:spPr>
          <a:xfrm>
            <a:off x="6467400" y="4968720"/>
            <a:ext cx="426960" cy="273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http://t2.gstatic.com/images?q=tbn:ANd9GcRVhWSvl1rZtdHH37NwFmaVUYEHKwgOIyzLs3ICfgyozeQ7v_f4qg"/>
          <p:cNvPicPr/>
          <p:nvPr/>
        </p:nvPicPr>
        <p:blipFill>
          <a:blip r:embed="rId9"/>
          <a:stretch/>
        </p:blipFill>
        <p:spPr>
          <a:xfrm>
            <a:off x="6012000" y="4361040"/>
            <a:ext cx="965160" cy="771480"/>
          </a:xfrm>
          <a:prstGeom prst="rect">
            <a:avLst/>
          </a:prstGeom>
          <a:ln w="0">
            <a:noFill/>
          </a:ln>
        </p:spPr>
      </p:pic>
      <p:sp>
        <p:nvSpPr>
          <p:cNvPr id="86" name="Straight Connector 19"/>
          <p:cNvSpPr/>
          <p:nvPr/>
        </p:nvSpPr>
        <p:spPr>
          <a:xfrm>
            <a:off x="1727280" y="3525840"/>
            <a:ext cx="711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0"/>
          <a:stretch/>
        </p:blipFill>
        <p:spPr>
          <a:xfrm>
            <a:off x="1563840" y="4572000"/>
            <a:ext cx="1407960" cy="1846440"/>
          </a:xfrm>
          <a:prstGeom prst="rect">
            <a:avLst/>
          </a:prstGeom>
          <a:ln w="0">
            <a:noFill/>
          </a:ln>
        </p:spPr>
      </p:pic>
      <p:sp>
        <p:nvSpPr>
          <p:cNvPr id="89" name="TextBox 22"/>
          <p:cNvSpPr/>
          <p:nvPr/>
        </p:nvSpPr>
        <p:spPr>
          <a:xfrm>
            <a:off x="310680" y="54943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olec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miclassical Light-Matter interaction: Einstein Coeffici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5840" y="1752480"/>
            <a:ext cx="6077160" cy="2400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228600" y="4267080"/>
            <a:ext cx="3457440" cy="390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3"/>
          <a:stretch/>
        </p:blipFill>
        <p:spPr>
          <a:xfrm>
            <a:off x="244440" y="4800600"/>
            <a:ext cx="2352600" cy="704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4"/>
          <a:stretch/>
        </p:blipFill>
        <p:spPr>
          <a:xfrm>
            <a:off x="142920" y="5649840"/>
            <a:ext cx="2789280" cy="723960"/>
          </a:xfrm>
          <a:prstGeom prst="rect">
            <a:avLst/>
          </a:prstGeom>
          <a:ln w="0">
            <a:noFill/>
          </a:ln>
        </p:spPr>
      </p:pic>
      <p:sp>
        <p:nvSpPr>
          <p:cNvPr id="95" name="TextBox 3"/>
          <p:cNvSpPr/>
          <p:nvPr/>
        </p:nvSpPr>
        <p:spPr>
          <a:xfrm>
            <a:off x="121320" y="618336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Planck black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5"/>
          <a:stretch/>
        </p:blipFill>
        <p:spPr>
          <a:xfrm>
            <a:off x="4038480" y="4630680"/>
            <a:ext cx="1943280" cy="155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7" name="Picture 7" descr=""/>
          <p:cNvPicPr/>
          <p:nvPr/>
        </p:nvPicPr>
        <p:blipFill>
          <a:blip r:embed="rId6"/>
          <a:stretch/>
        </p:blipFill>
        <p:spPr>
          <a:xfrm>
            <a:off x="5334120" y="3197160"/>
            <a:ext cx="333360" cy="343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/>
          <p:cNvPicPr/>
          <p:nvPr/>
        </p:nvPicPr>
        <p:blipFill>
          <a:blip r:embed="rId7"/>
          <a:stretch/>
        </p:blipFill>
        <p:spPr>
          <a:xfrm>
            <a:off x="1816200" y="3048120"/>
            <a:ext cx="1155600" cy="32220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6450480" y="606744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FQ Ch4/FS App-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8"/>
          <a:stretch/>
        </p:blipFill>
        <p:spPr>
          <a:xfrm>
            <a:off x="6831000" y="4508640"/>
            <a:ext cx="858960" cy="615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9"/>
          <a:stretch/>
        </p:blipFill>
        <p:spPr>
          <a:xfrm>
            <a:off x="6703920" y="4319640"/>
            <a:ext cx="197172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Radiative Transition R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5840" y="1905120"/>
            <a:ext cx="7229520" cy="12477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"/>
          <p:cNvSpPr/>
          <p:nvPr/>
        </p:nvSpPr>
        <p:spPr>
          <a:xfrm>
            <a:off x="11880" y="152244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ermi Golden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70200" y="3147840"/>
            <a:ext cx="79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O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n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te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hoton) </a:t>
            </a:r>
            <a:r>
              <a:rPr b="0" lang="en-US" sz="2400" spc="-1" strike="noStrike">
                <a:solidFill>
                  <a:srgbClr val="7f7f7f"/>
                </a:solidFill>
                <a:latin typeface="Times New Roman"/>
              </a:rPr>
              <a:t>+</a:t>
            </a:r>
            <a:r>
              <a:rPr b="0" lang="en-US" sz="2400" spc="-1" strike="noStrike" u="sng">
                <a:solidFill>
                  <a:srgbClr val="7f7f7f"/>
                </a:solidFill>
                <a:uFillTx/>
                <a:latin typeface="Times New Roman"/>
              </a:rPr>
              <a:t>matter</a:t>
            </a:r>
            <a:r>
              <a:rPr b="0" lang="en-US" sz="2400" spc="-1" strike="noStrike">
                <a:solidFill>
                  <a:srgbClr val="7f7f7f"/>
                </a:solidFill>
                <a:latin typeface="Times New Roman"/>
              </a:rPr>
              <a:t> [neglect if discrete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6705720" y="3672000"/>
            <a:ext cx="2151000" cy="278748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pic>
        <p:nvPicPr>
          <p:cNvPr id="107" name="Picture 4" descr=""/>
          <p:cNvPicPr/>
          <p:nvPr/>
        </p:nvPicPr>
        <p:blipFill>
          <a:blip r:embed="rId3"/>
          <a:stretch/>
        </p:blipFill>
        <p:spPr>
          <a:xfrm>
            <a:off x="152280" y="3710160"/>
            <a:ext cx="4191120" cy="561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4"/>
          <a:stretch/>
        </p:blipFill>
        <p:spPr>
          <a:xfrm>
            <a:off x="365040" y="4287960"/>
            <a:ext cx="3295800" cy="333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5"/>
          <a:stretch/>
        </p:blipFill>
        <p:spPr>
          <a:xfrm>
            <a:off x="365040" y="4621320"/>
            <a:ext cx="1362240" cy="390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6"/>
          <a:stretch/>
        </p:blipFill>
        <p:spPr>
          <a:xfrm>
            <a:off x="2308320" y="4687920"/>
            <a:ext cx="857160" cy="323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"/>
          <p:cNvPicPr/>
          <p:nvPr/>
        </p:nvPicPr>
        <p:blipFill>
          <a:blip r:embed="rId7"/>
          <a:stretch/>
        </p:blipFill>
        <p:spPr>
          <a:xfrm>
            <a:off x="76320" y="5376960"/>
            <a:ext cx="3886200" cy="1112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"/>
          <p:cNvPicPr/>
          <p:nvPr/>
        </p:nvPicPr>
        <p:blipFill>
          <a:blip r:embed="rId8"/>
          <a:stretch/>
        </p:blipFill>
        <p:spPr>
          <a:xfrm>
            <a:off x="411120" y="5011560"/>
            <a:ext cx="2325600" cy="328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"/>
          <p:cNvPicPr/>
          <p:nvPr/>
        </p:nvPicPr>
        <p:blipFill>
          <a:blip r:embed="rId9"/>
          <a:stretch/>
        </p:blipFill>
        <p:spPr>
          <a:xfrm>
            <a:off x="3675240" y="5192640"/>
            <a:ext cx="2725560" cy="36828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sp>
        <p:nvSpPr>
          <p:cNvPr id="114" name="TextBox 5"/>
          <p:cNvSpPr/>
          <p:nvPr/>
        </p:nvSpPr>
        <p:spPr>
          <a:xfrm>
            <a:off x="3740040" y="481644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X-polariz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11" descr=""/>
          <p:cNvPicPr/>
          <p:nvPr/>
        </p:nvPicPr>
        <p:blipFill>
          <a:blip r:embed="rId10"/>
          <a:stretch/>
        </p:blipFill>
        <p:spPr>
          <a:xfrm>
            <a:off x="2971800" y="5621400"/>
            <a:ext cx="3556080" cy="271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"/>
          <p:cNvPicPr/>
          <p:nvPr/>
        </p:nvPicPr>
        <p:blipFill>
          <a:blip r:embed="rId11"/>
          <a:stretch/>
        </p:blipFill>
        <p:spPr>
          <a:xfrm>
            <a:off x="4830840" y="3666960"/>
            <a:ext cx="1549440" cy="114804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election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1"/>
          <a:stretch/>
        </p:blipFill>
        <p:spPr>
          <a:xfrm>
            <a:off x="152280" y="4233960"/>
            <a:ext cx="6124680" cy="2157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152280" y="1295280"/>
            <a:ext cx="3581640" cy="2721240"/>
          </a:xfrm>
          <a:prstGeom prst="rect">
            <a:avLst/>
          </a:prstGeom>
          <a:ln w="0">
            <a:noFill/>
          </a:ln>
        </p:spPr>
      </p:pic>
      <p:sp>
        <p:nvSpPr>
          <p:cNvPr id="120" name="TextBox 4"/>
          <p:cNvSpPr/>
          <p:nvPr/>
        </p:nvSpPr>
        <p:spPr>
          <a:xfrm>
            <a:off x="540000" y="2438280"/>
            <a:ext cx="83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even/od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1986840" y="243828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orbit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5" descr="http://www.civilized.com/mlabexamples/laser.htmld/levelh.gif"/>
          <p:cNvPicPr/>
          <p:nvPr/>
        </p:nvPicPr>
        <p:blipFill>
          <a:blip r:embed="rId3"/>
          <a:stretch/>
        </p:blipFill>
        <p:spPr>
          <a:xfrm>
            <a:off x="4371840" y="122724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http://astro1.panet.utoledo.edu/~ljc/pol01.jpg"/>
          <p:cNvPicPr/>
          <p:nvPr/>
        </p:nvPicPr>
        <p:blipFill>
          <a:blip r:embed="rId1"/>
          <a:stretch/>
        </p:blipFill>
        <p:spPr>
          <a:xfrm>
            <a:off x="0" y="649440"/>
            <a:ext cx="3581280" cy="51084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"/>
          <p:cNvSpPr/>
          <p:nvPr/>
        </p:nvSpPr>
        <p:spPr>
          <a:xfrm>
            <a:off x="33480" y="3216240"/>
            <a:ext cx="3624120" cy="2270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3276720"/>
            <a:ext cx="8591400" cy="327636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"/>
          <p:cNvSpPr/>
          <p:nvPr/>
        </p:nvSpPr>
        <p:spPr>
          <a:xfrm>
            <a:off x="84240" y="5867280"/>
            <a:ext cx="251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orbidden” tran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etastable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7624800" y="4572000"/>
            <a:ext cx="158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b050"/>
                </a:solidFill>
                <a:latin typeface="Times New Roman"/>
                <a:ea typeface="MS PGothic"/>
              </a:rPr>
              <a:t>Fluoresc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b050"/>
                </a:solidFill>
                <a:latin typeface="Times New Roman"/>
                <a:ea typeface="MS PGothic"/>
              </a:rPr>
              <a:t>phosphoresc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3"/>
          <a:stretch/>
        </p:blipFill>
        <p:spPr>
          <a:xfrm>
            <a:off x="3886200" y="1798560"/>
            <a:ext cx="4276800" cy="552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4"/>
          <a:stretch/>
        </p:blipFill>
        <p:spPr>
          <a:xfrm>
            <a:off x="4038480" y="1143000"/>
            <a:ext cx="2438640" cy="5238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2"/>
          <p:cNvSpPr/>
          <p:nvPr/>
        </p:nvSpPr>
        <p:spPr>
          <a:xfrm>
            <a:off x="3889440" y="2259000"/>
            <a:ext cx="36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ransition matrix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lso can engineer DOS 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g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o control transition rat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1"/>
          <a:stretch/>
        </p:blipFill>
        <p:spPr>
          <a:xfrm>
            <a:off x="1600200" y="2209680"/>
            <a:ext cx="3546360" cy="762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http://t2.gstatic.com/images?q=tbn:ANd9GcR8CSS_eILktk48BhnCy2RNYA89leHTVahgGHaez-t1anp7UKJg3w"/>
          <p:cNvPicPr/>
          <p:nvPr/>
        </p:nvPicPr>
        <p:blipFill>
          <a:blip r:embed="rId2"/>
          <a:stretch/>
        </p:blipFill>
        <p:spPr>
          <a:xfrm>
            <a:off x="152280" y="2971800"/>
            <a:ext cx="2895840" cy="344340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4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3"/>
          <a:stretch/>
        </p:blipFill>
        <p:spPr>
          <a:xfrm>
            <a:off x="3403440" y="2987640"/>
            <a:ext cx="2219400" cy="20574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6"/>
          <p:cNvSpPr/>
          <p:nvPr/>
        </p:nvSpPr>
        <p:spPr>
          <a:xfrm>
            <a:off x="-228600" y="5045040"/>
            <a:ext cx="3505320" cy="1370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842040" y="504504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10"/>
          <p:cNvSpPr/>
          <p:nvPr/>
        </p:nvSpPr>
        <p:spPr>
          <a:xfrm>
            <a:off x="4224960" y="5045040"/>
            <a:ext cx="355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hotonic crystal (bandgap)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eta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 P. Chen</cp:lastModifiedBy>
  <cp:lastPrinted>2006-01-11T03:05:51Z</cp:lastPrinted>
  <dcterms:modified xsi:type="dcterms:W3CDTF">2016-02-08T05:04:03Z</dcterms:modified>
  <cp:revision>447</cp:revision>
  <dc:subject>Physics 272H, Spring 2007</dc:subject>
  <dc:title>Lecture 2</dc:title>
</cp:coreProperties>
</file>