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7A838-668D-4B0D-AEF5-C2090C9E2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molphys.leidenuniv.nl/monos/smo/index.html?basics/photophysics.htm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olphys.leidenuniv.nl/monos/smo/index.html?basics/photophysic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21B9D-D608-486E-9696-63F1204EB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F284-C628-4D17-8BC9-D2BF81AC4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when will spin change (delta ms) be allowed? [SOC?  Magnetic, NMR?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9315C-60BF-4A87-87B8-2FF84D42C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1B2-02D7-41CC-9294-B0A23A8F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FAD-FA05-4798-87F5-D92E4A6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AAF-06A1-4883-93DE-89FE6860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1F9-3F7D-4B7C-9329-7E78E37C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106-EC20-4EF8-99D3-9BA8E2C0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12C-5009-4882-9A95-347173D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E50-865C-4E10-B66C-D7C5F85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307-2E86-47A0-8F31-298A13A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7A1-7701-4F0E-AB50-F4C0B20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F7C-7545-4F80-9B0F-52D6AE6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0DB-DADA-49B1-8D7C-22E72C85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631-E0DD-4453-954A-D488AE4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D2FE-C9DC-424C-8E99-612B0847F9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DC0E-03B8-4CF0-ACB8-4D39BB0B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2B1EED18-FDB3-4577-A64F-D55021E1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Atoms, Molecules &amp;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,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s &amp; molecular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www.molphys.leidenuniv.nl/monos/smo/basics/images/spectrum.gif"/>
          <p:cNvPicPr/>
          <p:nvPr/>
        </p:nvPicPr>
        <p:blipFill>
          <a:blip r:embed="rId1"/>
          <a:stretch/>
        </p:blipFill>
        <p:spPr>
          <a:xfrm>
            <a:off x="4495680" y="2209680"/>
            <a:ext cx="4534200" cy="386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the pi orbitals of benzene"/>
          <p:cNvPicPr/>
          <p:nvPr/>
        </p:nvPicPr>
        <p:blipFill>
          <a:blip r:embed="rId2"/>
          <a:stretch/>
        </p:blipFill>
        <p:spPr>
          <a:xfrm>
            <a:off x="0" y="569880"/>
            <a:ext cx="1285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blonski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upload.wikimedia.org/wikipedia/commons/thumb/7/71/JablonskiSimple.png/300px-JablonskiSimple.png"/>
          <p:cNvPicPr/>
          <p:nvPr/>
        </p:nvPicPr>
        <p:blipFill>
          <a:blip r:embed="rId1"/>
          <a:stretch/>
        </p:blipFill>
        <p:spPr>
          <a:xfrm>
            <a:off x="-15840" y="2209680"/>
            <a:ext cx="48387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320" y="57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-11520" y="1962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046680" y="3200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141360" y="21337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://www.texample.net/media/tikz/examples/PNG/the-perrin-jablonski-diagram.png"/>
          <p:cNvPicPr/>
          <p:nvPr/>
        </p:nvPicPr>
        <p:blipFill>
          <a:blip r:embed="rId2"/>
          <a:stretch/>
        </p:blipFill>
        <p:spPr>
          <a:xfrm>
            <a:off x="4411800" y="2324160"/>
            <a:ext cx="4762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2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728600" y="5181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X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57848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892680" y="251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27356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1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4959360" y="1295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3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866200" y="3313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628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267080" y="1905120"/>
            <a:ext cx="762120" cy="3808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809520" y="1905120"/>
            <a:ext cx="2057760" cy="3962160"/>
            <a:chOff x="3809520" y="1905120"/>
            <a:chExt cx="2057760" cy="3962160"/>
          </a:xfrm>
        </p:grpSpPr>
        <p:sp>
          <p:nvSpPr>
            <p:cNvPr id="160" name="Line 11"/>
            <p:cNvSpPr/>
            <p:nvPr/>
          </p:nvSpPr>
          <p:spPr>
            <a:xfrm flipH="1" flipV="1">
              <a:off x="4114800" y="1905120"/>
              <a:ext cx="1752480" cy="266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 flipH="1">
              <a:off x="3809520" y="1905120"/>
              <a:ext cx="304920" cy="39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376" t="49790" r="10001" b="29003"/>
          <a:stretch/>
        </p:blipFill>
        <p:spPr>
          <a:xfrm>
            <a:off x="1523880" y="1447920"/>
            <a:ext cx="5511960" cy="853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905640" y="114300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9844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55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30700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74660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0"/>
          <p:cNvSpPr/>
          <p:nvPr/>
        </p:nvSpPr>
        <p:spPr>
          <a:xfrm flipH="1" flipV="1">
            <a:off x="7009920" y="2057400"/>
            <a:ext cx="1752840" cy="7632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Isosceles Triangle 27"/>
          <p:cNvSpPr/>
          <p:nvPr/>
        </p:nvSpPr>
        <p:spPr>
          <a:xfrm rot="5400000">
            <a:off x="2747520" y="452160"/>
            <a:ext cx="295200" cy="3048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28"/>
          <p:cNvCxnSpPr/>
          <p:nvPr/>
        </p:nvCxnSpPr>
        <p:spPr>
          <a:xfrm flipH="1" flipV="1">
            <a:off x="151560" y="1751760"/>
            <a:ext cx="4953960" cy="229320"/>
          </a:xfrm>
          <a:prstGeom prst="straightConnector1">
            <a:avLst/>
          </a:prstGeom>
          <a:ln w="5400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0" name="Isosceles Triangle 32"/>
          <p:cNvSpPr/>
          <p:nvPr/>
        </p:nvSpPr>
        <p:spPr>
          <a:xfrm rot="15154800">
            <a:off x="1103760" y="1867320"/>
            <a:ext cx="304920" cy="303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1143000" y="2057400"/>
            <a:ext cx="3049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5"/>
          <p:cNvSpPr/>
          <p:nvPr/>
        </p:nvSpPr>
        <p:spPr>
          <a:xfrm flipH="1">
            <a:off x="990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Isosceles Triangle 37"/>
          <p:cNvSpPr/>
          <p:nvPr/>
        </p:nvSpPr>
        <p:spPr>
          <a:xfrm rot="10800000">
            <a:off x="1142640" y="2666880"/>
            <a:ext cx="30492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990720" y="2590920"/>
            <a:ext cx="60948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9"/>
          <p:cNvSpPr/>
          <p:nvPr/>
        </p:nvSpPr>
        <p:spPr>
          <a:xfrm>
            <a:off x="231516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40"/>
          <p:cNvSpPr/>
          <p:nvPr/>
        </p:nvSpPr>
        <p:spPr>
          <a:xfrm>
            <a:off x="513468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42"/>
          <p:cNvCxnSpPr/>
          <p:nvPr/>
        </p:nvCxnSpPr>
        <p:spPr>
          <a:xfrm flipH="1">
            <a:off x="297144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43"/>
          <p:cNvCxnSpPr/>
          <p:nvPr/>
        </p:nvCxnSpPr>
        <p:spPr>
          <a:xfrm flipH="1">
            <a:off x="556236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Rectangle 44"/>
          <p:cNvSpPr/>
          <p:nvPr/>
        </p:nvSpPr>
        <p:spPr>
          <a:xfrm>
            <a:off x="1066680" y="3276720"/>
            <a:ext cx="1067040" cy="15238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47"/>
          <p:cNvSpPr/>
          <p:nvPr/>
        </p:nvSpPr>
        <p:spPr>
          <a:xfrm rot="8469000">
            <a:off x="1615680" y="4164120"/>
            <a:ext cx="577800" cy="498240"/>
          </a:xfrm>
          <a:custGeom>
            <a:avLst/>
            <a:gdLst/>
            <a:ahLst/>
            <a:rect l="l" t="t" r="r" b="b"/>
            <a:pathLst>
              <a:path stroke="0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  <a:lnTo>
                  <a:pt x="288925" y="249238"/>
                </a:lnTo>
                <a:lnTo>
                  <a:pt x="288925" y="0"/>
                </a:lnTo>
                <a:close/>
              </a:path>
              <a:path fill="none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49"/>
          <p:cNvSpPr/>
          <p:nvPr/>
        </p:nvSpPr>
        <p:spPr>
          <a:xfrm rot="8469000">
            <a:off x="1012320" y="4119120"/>
            <a:ext cx="641520" cy="540000"/>
          </a:xfrm>
          <a:custGeom>
            <a:avLst/>
            <a:gdLst/>
            <a:ahLst/>
            <a:rect l="l" t="t" r="r" b="b"/>
            <a:pathLst>
              <a:path stroke="0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  <a:lnTo>
                  <a:pt x="320675" y="269875"/>
                </a:lnTo>
                <a:lnTo>
                  <a:pt x="320675" y="0"/>
                </a:lnTo>
                <a:close/>
              </a:path>
              <a:path fill="none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4"/>
          <p:cNvSpPr/>
          <p:nvPr/>
        </p:nvSpPr>
        <p:spPr>
          <a:xfrm rot="20815800">
            <a:off x="1363680" y="3422520"/>
            <a:ext cx="461880" cy="44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Isosceles Triangle 69"/>
          <p:cNvSpPr/>
          <p:nvPr/>
        </p:nvSpPr>
        <p:spPr>
          <a:xfrm rot="9997800">
            <a:off x="1379160" y="3488760"/>
            <a:ext cx="152280" cy="7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Isosceles Triangle 70"/>
          <p:cNvSpPr/>
          <p:nvPr/>
        </p:nvSpPr>
        <p:spPr>
          <a:xfrm rot="9997800">
            <a:off x="1530000" y="3444480"/>
            <a:ext cx="15228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Isosceles Triangle 71"/>
          <p:cNvSpPr/>
          <p:nvPr/>
        </p:nvSpPr>
        <p:spPr>
          <a:xfrm rot="9997800">
            <a:off x="1682640" y="3412800"/>
            <a:ext cx="15264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74"/>
          <p:cNvSpPr/>
          <p:nvPr/>
        </p:nvSpPr>
        <p:spPr>
          <a:xfrm flipV="1">
            <a:off x="1294560" y="3276720"/>
            <a:ext cx="1800" cy="144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>
            <a:off x="1219320" y="3276720"/>
            <a:ext cx="15228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981080" y="3276720"/>
            <a:ext cx="763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113"/>
          <p:cNvSpPr/>
          <p:nvPr/>
        </p:nvSpPr>
        <p:spPr>
          <a:xfrm flipV="1">
            <a:off x="1750320" y="2897280"/>
            <a:ext cx="32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115"/>
          <p:cNvSpPr/>
          <p:nvPr/>
        </p:nvSpPr>
        <p:spPr>
          <a:xfrm>
            <a:off x="1752480" y="2895480"/>
            <a:ext cx="38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117"/>
          <p:cNvSpPr/>
          <p:nvPr/>
        </p:nvSpPr>
        <p:spPr>
          <a:xfrm flipH="1">
            <a:off x="2131560" y="2895480"/>
            <a:ext cx="18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19"/>
          <p:cNvSpPr/>
          <p:nvPr/>
        </p:nvSpPr>
        <p:spPr>
          <a:xfrm>
            <a:off x="2064600" y="28954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0"/>
          <p:cNvSpPr/>
          <p:nvPr/>
        </p:nvSpPr>
        <p:spPr>
          <a:xfrm>
            <a:off x="1919160" y="40384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123"/>
          <p:cNvSpPr/>
          <p:nvPr/>
        </p:nvSpPr>
        <p:spPr>
          <a:xfrm flipH="1">
            <a:off x="7010280" y="1752480"/>
            <a:ext cx="60984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Straight Arrow Connector 126"/>
          <p:cNvCxnSpPr/>
          <p:nvPr/>
        </p:nvCxnSpPr>
        <p:spPr>
          <a:xfrm flipH="1">
            <a:off x="7314840" y="2057040"/>
            <a:ext cx="2160" cy="5324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6" name="Rectangle 45"/>
          <p:cNvSpPr/>
          <p:nvPr/>
        </p:nvSpPr>
        <p:spPr>
          <a:xfrm>
            <a:off x="6705720" y="2590920"/>
            <a:ext cx="1371600" cy="6094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8"/>
          <p:cNvSpPr/>
          <p:nvPr/>
        </p:nvSpPr>
        <p:spPr>
          <a:xfrm>
            <a:off x="6806880" y="26668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711000" y="5493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Molecular Spectroscopy in a heat-pipe (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7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i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85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37200" y="53341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A) Laser Induced Fluorescence (L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00840" y="601992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B) Excitation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7783200" y="114300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Curved Connector 57"/>
          <p:cNvCxnSpPr/>
          <p:nvPr/>
        </p:nvCxnSpPr>
        <p:spPr>
          <a:xfrm flipH="1" rot="16200000">
            <a:off x="8038080" y="171432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3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Sourav\Desktop\Pic2.tif"/>
          <p:cNvPicPr/>
          <p:nvPr/>
        </p:nvPicPr>
        <p:blipFill>
          <a:blip r:embed="rId3"/>
          <a:srcRect l="3447" t="0" r="3357" b="0"/>
          <a:stretch/>
        </p:blipFill>
        <p:spPr>
          <a:xfrm>
            <a:off x="6324480" y="3276720"/>
            <a:ext cx="2619360" cy="32004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48"/>
          <p:cNvCxnSpPr/>
          <p:nvPr/>
        </p:nvCxnSpPr>
        <p:spPr>
          <a:xfrm flipV="1">
            <a:off x="7009200" y="4144320"/>
            <a:ext cx="1080" cy="2104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06" name="Straight Connector 50"/>
          <p:cNvSpPr/>
          <p:nvPr/>
        </p:nvSpPr>
        <p:spPr>
          <a:xfrm>
            <a:off x="7010280" y="419112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51"/>
          <p:cNvSpPr/>
          <p:nvPr/>
        </p:nvSpPr>
        <p:spPr>
          <a:xfrm>
            <a:off x="6934320" y="6248520"/>
            <a:ext cx="22860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Straight Arrow Connector 52"/>
          <p:cNvCxnSpPr/>
          <p:nvPr/>
        </p:nvCxnSpPr>
        <p:spPr>
          <a:xfrm flipH="1">
            <a:off x="7389000" y="4192560"/>
            <a:ext cx="3960" cy="175320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09" name="Straight Connector 53"/>
          <p:cNvSpPr/>
          <p:nvPr/>
        </p:nvSpPr>
        <p:spPr>
          <a:xfrm flipH="1" flipV="1">
            <a:off x="6858000" y="5943600"/>
            <a:ext cx="533520" cy="144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5"/>
          <p:cNvSpPr/>
          <p:nvPr/>
        </p:nvSpPr>
        <p:spPr>
          <a:xfrm>
            <a:off x="956880" y="22096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6"/>
          <p:cNvSpPr/>
          <p:nvPr/>
        </p:nvSpPr>
        <p:spPr>
          <a:xfrm>
            <a:off x="7357680" y="4952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4"/>
          <p:cNvSpPr/>
          <p:nvPr/>
        </p:nvSpPr>
        <p:spPr>
          <a:xfrm>
            <a:off x="610668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Sourav\Desktop\Pic2.tif"/>
          <p:cNvPicPr/>
          <p:nvPr/>
        </p:nvPicPr>
        <p:blipFill>
          <a:blip r:embed="rId1"/>
          <a:srcRect l="3450" t="0" r="3360" b="0"/>
          <a:stretch/>
        </p:blipFill>
        <p:spPr>
          <a:xfrm>
            <a:off x="5253120" y="1219320"/>
            <a:ext cx="3890880" cy="475452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8"/>
          <p:cNvCxnSpPr/>
          <p:nvPr/>
        </p:nvCxnSpPr>
        <p:spPr>
          <a:xfrm flipV="1">
            <a:off x="6323400" y="2285280"/>
            <a:ext cx="1080" cy="29725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15" name="Straight Connector 19"/>
          <p:cNvSpPr/>
          <p:nvPr/>
        </p:nvSpPr>
        <p:spPr>
          <a:xfrm>
            <a:off x="6324480" y="228600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0"/>
          <p:cNvSpPr/>
          <p:nvPr/>
        </p:nvSpPr>
        <p:spPr>
          <a:xfrm>
            <a:off x="6172200" y="5257800"/>
            <a:ext cx="38088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28"/>
          <p:cNvCxnSpPr/>
          <p:nvPr/>
        </p:nvCxnSpPr>
        <p:spPr>
          <a:xfrm flipH="1">
            <a:off x="6780960" y="2286000"/>
            <a:ext cx="2520" cy="266724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18" name="Straight Connector 30"/>
          <p:cNvSpPr/>
          <p:nvPr/>
        </p:nvSpPr>
        <p:spPr>
          <a:xfrm flipH="1" flipV="1">
            <a:off x="6095520" y="4952520"/>
            <a:ext cx="685800" cy="180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7571880" y="4876920"/>
            <a:ext cx="14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Korek et al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hem Phys 256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40200" y="5000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aser Induced Fluorescence (L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3"/>
          <p:cNvSpPr/>
          <p:nvPr/>
        </p:nvSpPr>
        <p:spPr>
          <a:xfrm>
            <a:off x="5791320" y="602784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utta </a:t>
            </a:r>
            <a:r>
              <a:rPr b="0" i="1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et al., </a:t>
            </a: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Chem Phys Lett (2011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oi:10.1016/j.cplett.2011.05.05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2860200" y="83520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  <a:ea typeface="MS PGothic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 levels of B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Rounded MT Bold"/>
                <a:ea typeface="MS PGothic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D:\Igor Experiments\LIF-v0-small.tif"/>
          <p:cNvPicPr/>
          <p:nvPr/>
        </p:nvPicPr>
        <p:blipFill>
          <a:blip r:embed="rId3"/>
          <a:srcRect l="5634" t="0" r="5629" b="-5397"/>
          <a:stretch/>
        </p:blipFill>
        <p:spPr>
          <a:xfrm>
            <a:off x="76320" y="1143000"/>
            <a:ext cx="4556160" cy="192096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23"/>
          <p:cNvSpPr/>
          <p:nvPr/>
        </p:nvSpPr>
        <p:spPr>
          <a:xfrm>
            <a:off x="1371600" y="1414440"/>
            <a:ext cx="2514600" cy="822240"/>
          </a:xfrm>
          <a:custGeom>
            <a:avLst/>
            <a:gdLst/>
            <a:ahLst/>
            <a:rect l="l" t="t" r="r" b="b"/>
            <a:pathLst>
              <a:path w="3000316" h="943384">
                <a:moveTo>
                  <a:pt x="0" y="943384"/>
                </a:moveTo>
                <a:lnTo>
                  <a:pt x="258051" y="920944"/>
                </a:lnTo>
                <a:cubicBezTo>
                  <a:pt x="344068" y="913464"/>
                  <a:pt x="422606" y="912529"/>
                  <a:pt x="516103" y="898505"/>
                </a:cubicBezTo>
                <a:cubicBezTo>
                  <a:pt x="609600" y="884481"/>
                  <a:pt x="719926" y="864846"/>
                  <a:pt x="819033" y="836797"/>
                </a:cubicBezTo>
                <a:cubicBezTo>
                  <a:pt x="918140" y="808748"/>
                  <a:pt x="1000417" y="787244"/>
                  <a:pt x="1110743" y="730211"/>
                </a:cubicBezTo>
                <a:cubicBezTo>
                  <a:pt x="1221069" y="673178"/>
                  <a:pt x="1362250" y="580615"/>
                  <a:pt x="1480991" y="494598"/>
                </a:cubicBezTo>
                <a:cubicBezTo>
                  <a:pt x="1599732" y="408581"/>
                  <a:pt x="1823190" y="214108"/>
                  <a:pt x="1823190" y="214108"/>
                </a:cubicBezTo>
                <a:cubicBezTo>
                  <a:pt x="1912012" y="141181"/>
                  <a:pt x="1953151" y="92562"/>
                  <a:pt x="2013924" y="57033"/>
                </a:cubicBezTo>
                <a:cubicBezTo>
                  <a:pt x="2074697" y="21504"/>
                  <a:pt x="2132665" y="1870"/>
                  <a:pt x="2187828" y="935"/>
                </a:cubicBezTo>
                <a:cubicBezTo>
                  <a:pt x="2242991" y="0"/>
                  <a:pt x="2293480" y="25244"/>
                  <a:pt x="2344903" y="51423"/>
                </a:cubicBezTo>
                <a:cubicBezTo>
                  <a:pt x="2396326" y="77602"/>
                  <a:pt x="2444945" y="115935"/>
                  <a:pt x="2496368" y="158009"/>
                </a:cubicBezTo>
                <a:cubicBezTo>
                  <a:pt x="2547791" y="200083"/>
                  <a:pt x="2578646" y="226263"/>
                  <a:pt x="2653443" y="303865"/>
                </a:cubicBezTo>
                <a:cubicBezTo>
                  <a:pt x="2728240" y="381467"/>
                  <a:pt x="2889990" y="561916"/>
                  <a:pt x="2945153" y="623624"/>
                </a:cubicBezTo>
                <a:cubicBezTo>
                  <a:pt x="3000316" y="685332"/>
                  <a:pt x="2992369" y="679722"/>
                  <a:pt x="2984422" y="6741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D:\Igor Experiments\LIF-v1-small.tif"/>
          <p:cNvPicPr/>
          <p:nvPr/>
        </p:nvPicPr>
        <p:blipFill>
          <a:blip r:embed="rId4"/>
          <a:srcRect l="5654" t="8140" r="5367" b="-1766"/>
          <a:stretch/>
        </p:blipFill>
        <p:spPr>
          <a:xfrm>
            <a:off x="76320" y="243828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5"/>
          <p:cNvSpPr/>
          <p:nvPr/>
        </p:nvSpPr>
        <p:spPr>
          <a:xfrm>
            <a:off x="609480" y="2514600"/>
            <a:ext cx="3429000" cy="838080"/>
          </a:xfrm>
          <a:custGeom>
            <a:avLst/>
            <a:gdLst/>
            <a:ahLst/>
            <a:rect l="l" t="t" r="r" b="b"/>
            <a:pathLst>
              <a:path w="4061507" h="1068670">
                <a:moveTo>
                  <a:pt x="0" y="1024726"/>
                </a:moveTo>
                <a:cubicBezTo>
                  <a:pt x="122948" y="1019116"/>
                  <a:pt x="245897" y="1013506"/>
                  <a:pt x="370248" y="996677"/>
                </a:cubicBezTo>
                <a:cubicBezTo>
                  <a:pt x="494599" y="979848"/>
                  <a:pt x="603055" y="966758"/>
                  <a:pt x="746105" y="923750"/>
                </a:cubicBezTo>
                <a:cubicBezTo>
                  <a:pt x="889155" y="880742"/>
                  <a:pt x="1096719" y="800334"/>
                  <a:pt x="1228550" y="738626"/>
                </a:cubicBezTo>
                <a:cubicBezTo>
                  <a:pt x="1360381" y="676918"/>
                  <a:pt x="1439853" y="604925"/>
                  <a:pt x="1537090" y="553502"/>
                </a:cubicBezTo>
                <a:cubicBezTo>
                  <a:pt x="1634327" y="502079"/>
                  <a:pt x="1714734" y="453460"/>
                  <a:pt x="1811971" y="430086"/>
                </a:cubicBezTo>
                <a:cubicBezTo>
                  <a:pt x="1909208" y="406712"/>
                  <a:pt x="2012989" y="388013"/>
                  <a:pt x="2120510" y="413257"/>
                </a:cubicBezTo>
                <a:cubicBezTo>
                  <a:pt x="2228031" y="438501"/>
                  <a:pt x="2353317" y="504884"/>
                  <a:pt x="2457099" y="581551"/>
                </a:cubicBezTo>
                <a:cubicBezTo>
                  <a:pt x="2560881" y="658218"/>
                  <a:pt x="2665598" y="796594"/>
                  <a:pt x="2743200" y="873261"/>
                </a:cubicBezTo>
                <a:cubicBezTo>
                  <a:pt x="2820802" y="949928"/>
                  <a:pt x="2879705" y="1014442"/>
                  <a:pt x="2922714" y="1041556"/>
                </a:cubicBezTo>
                <a:cubicBezTo>
                  <a:pt x="2965723" y="1068670"/>
                  <a:pt x="2980683" y="1038751"/>
                  <a:pt x="3001252" y="1035946"/>
                </a:cubicBezTo>
                <a:cubicBezTo>
                  <a:pt x="3021821" y="1033141"/>
                  <a:pt x="3026496" y="1034076"/>
                  <a:pt x="3046130" y="1024726"/>
                </a:cubicBezTo>
                <a:cubicBezTo>
                  <a:pt x="3065764" y="1015376"/>
                  <a:pt x="3084464" y="1008832"/>
                  <a:pt x="3119058" y="979848"/>
                </a:cubicBezTo>
                <a:cubicBezTo>
                  <a:pt x="3153652" y="950864"/>
                  <a:pt x="3206010" y="905050"/>
                  <a:pt x="3253693" y="850822"/>
                </a:cubicBezTo>
                <a:cubicBezTo>
                  <a:pt x="3301376" y="796594"/>
                  <a:pt x="3351865" y="739561"/>
                  <a:pt x="3405158" y="654479"/>
                </a:cubicBezTo>
                <a:cubicBezTo>
                  <a:pt x="3458451" y="569397"/>
                  <a:pt x="3528575" y="425411"/>
                  <a:pt x="3573453" y="340329"/>
                </a:cubicBezTo>
                <a:cubicBezTo>
                  <a:pt x="3618331" y="255247"/>
                  <a:pt x="3641705" y="192603"/>
                  <a:pt x="3674429" y="143985"/>
                </a:cubicBezTo>
                <a:cubicBezTo>
                  <a:pt x="3707153" y="95367"/>
                  <a:pt x="3737072" y="71993"/>
                  <a:pt x="3769796" y="48619"/>
                </a:cubicBezTo>
                <a:cubicBezTo>
                  <a:pt x="3802520" y="25245"/>
                  <a:pt x="3838049" y="7480"/>
                  <a:pt x="3870773" y="3740"/>
                </a:cubicBezTo>
                <a:cubicBezTo>
                  <a:pt x="3903497" y="0"/>
                  <a:pt x="3934351" y="9350"/>
                  <a:pt x="3966140" y="26179"/>
                </a:cubicBezTo>
                <a:cubicBezTo>
                  <a:pt x="3997929" y="43008"/>
                  <a:pt x="4029718" y="73862"/>
                  <a:pt x="4061507" y="10471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Igor Experiments\LIF-v2-small.tif"/>
          <p:cNvPicPr/>
          <p:nvPr/>
        </p:nvPicPr>
        <p:blipFill>
          <a:blip r:embed="rId5"/>
          <a:srcRect l="5654" t="8140" r="5367" b="-2640"/>
          <a:stretch/>
        </p:blipFill>
        <p:spPr>
          <a:xfrm>
            <a:off x="76320" y="350532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7"/>
          <p:cNvSpPr/>
          <p:nvPr/>
        </p:nvSpPr>
        <p:spPr>
          <a:xfrm>
            <a:off x="533520" y="3505320"/>
            <a:ext cx="3733560" cy="838080"/>
          </a:xfrm>
          <a:custGeom>
            <a:avLst/>
            <a:gdLst/>
            <a:ahLst/>
            <a:rect l="l" t="t" r="r" b="b"/>
            <a:pathLst>
              <a:path w="4543951" h="990133">
                <a:moveTo>
                  <a:pt x="0" y="972368"/>
                </a:moveTo>
                <a:cubicBezTo>
                  <a:pt x="69188" y="961615"/>
                  <a:pt x="138376" y="950863"/>
                  <a:pt x="218783" y="933099"/>
                </a:cubicBezTo>
                <a:cubicBezTo>
                  <a:pt x="299190" y="915335"/>
                  <a:pt x="387077" y="895701"/>
                  <a:pt x="482444" y="865782"/>
                </a:cubicBezTo>
                <a:cubicBezTo>
                  <a:pt x="577811" y="835863"/>
                  <a:pt x="683463" y="796594"/>
                  <a:pt x="790984" y="753585"/>
                </a:cubicBezTo>
                <a:cubicBezTo>
                  <a:pt x="898505" y="710576"/>
                  <a:pt x="1127573" y="607730"/>
                  <a:pt x="1127573" y="607730"/>
                </a:cubicBezTo>
                <a:cubicBezTo>
                  <a:pt x="1207045" y="573136"/>
                  <a:pt x="1208915" y="568461"/>
                  <a:pt x="1267818" y="546022"/>
                </a:cubicBezTo>
                <a:cubicBezTo>
                  <a:pt x="1326721" y="523583"/>
                  <a:pt x="1410868" y="485250"/>
                  <a:pt x="1480991" y="473095"/>
                </a:cubicBezTo>
                <a:cubicBezTo>
                  <a:pt x="1551114" y="460940"/>
                  <a:pt x="1622172" y="462811"/>
                  <a:pt x="1688555" y="473095"/>
                </a:cubicBezTo>
                <a:cubicBezTo>
                  <a:pt x="1754938" y="483380"/>
                  <a:pt x="1818515" y="504883"/>
                  <a:pt x="1879288" y="534802"/>
                </a:cubicBezTo>
                <a:cubicBezTo>
                  <a:pt x="1940061" y="564721"/>
                  <a:pt x="1998030" y="609600"/>
                  <a:pt x="2053193" y="652609"/>
                </a:cubicBezTo>
                <a:cubicBezTo>
                  <a:pt x="2108356" y="695618"/>
                  <a:pt x="2157909" y="745171"/>
                  <a:pt x="2210267" y="792854"/>
                </a:cubicBezTo>
                <a:cubicBezTo>
                  <a:pt x="2262625" y="840537"/>
                  <a:pt x="2327138" y="906920"/>
                  <a:pt x="2367342" y="938709"/>
                </a:cubicBezTo>
                <a:cubicBezTo>
                  <a:pt x="2407546" y="970498"/>
                  <a:pt x="2421571" y="977043"/>
                  <a:pt x="2451490" y="983588"/>
                </a:cubicBezTo>
                <a:cubicBezTo>
                  <a:pt x="2481409" y="990133"/>
                  <a:pt x="2514132" y="986393"/>
                  <a:pt x="2546856" y="977978"/>
                </a:cubicBezTo>
                <a:cubicBezTo>
                  <a:pt x="2579580" y="969563"/>
                  <a:pt x="2612304" y="955538"/>
                  <a:pt x="2647833" y="933099"/>
                </a:cubicBezTo>
                <a:cubicBezTo>
                  <a:pt x="2683362" y="910660"/>
                  <a:pt x="2713281" y="886350"/>
                  <a:pt x="2760029" y="843342"/>
                </a:cubicBezTo>
                <a:cubicBezTo>
                  <a:pt x="2806777" y="800334"/>
                  <a:pt x="2928324" y="675048"/>
                  <a:pt x="2928324" y="675048"/>
                </a:cubicBezTo>
                <a:cubicBezTo>
                  <a:pt x="2975073" y="628300"/>
                  <a:pt x="3004056" y="592771"/>
                  <a:pt x="3040520" y="562852"/>
                </a:cubicBezTo>
                <a:cubicBezTo>
                  <a:pt x="3076984" y="532933"/>
                  <a:pt x="3111578" y="508624"/>
                  <a:pt x="3147107" y="495534"/>
                </a:cubicBezTo>
                <a:cubicBezTo>
                  <a:pt x="3182636" y="482444"/>
                  <a:pt x="3217229" y="479639"/>
                  <a:pt x="3253693" y="484314"/>
                </a:cubicBezTo>
                <a:cubicBezTo>
                  <a:pt x="3290157" y="488989"/>
                  <a:pt x="3322882" y="495534"/>
                  <a:pt x="3365890" y="523583"/>
                </a:cubicBezTo>
                <a:cubicBezTo>
                  <a:pt x="3408898" y="551632"/>
                  <a:pt x="3460322" y="601186"/>
                  <a:pt x="3511745" y="652609"/>
                </a:cubicBezTo>
                <a:cubicBezTo>
                  <a:pt x="3563168" y="704032"/>
                  <a:pt x="3631421" y="788180"/>
                  <a:pt x="3674429" y="832123"/>
                </a:cubicBezTo>
                <a:cubicBezTo>
                  <a:pt x="3717437" y="876066"/>
                  <a:pt x="3740812" y="896636"/>
                  <a:pt x="3769796" y="916270"/>
                </a:cubicBezTo>
                <a:cubicBezTo>
                  <a:pt x="3798780" y="935904"/>
                  <a:pt x="3817480" y="950864"/>
                  <a:pt x="3848334" y="949929"/>
                </a:cubicBezTo>
                <a:cubicBezTo>
                  <a:pt x="3879188" y="948994"/>
                  <a:pt x="3920326" y="935904"/>
                  <a:pt x="3954920" y="910660"/>
                </a:cubicBezTo>
                <a:cubicBezTo>
                  <a:pt x="3989514" y="885416"/>
                  <a:pt x="4011019" y="867652"/>
                  <a:pt x="4055897" y="798464"/>
                </a:cubicBezTo>
                <a:cubicBezTo>
                  <a:pt x="4100775" y="729276"/>
                  <a:pt x="4174638" y="600251"/>
                  <a:pt x="4224191" y="495534"/>
                </a:cubicBezTo>
                <a:cubicBezTo>
                  <a:pt x="4273744" y="390817"/>
                  <a:pt x="4319558" y="247767"/>
                  <a:pt x="4353217" y="170164"/>
                </a:cubicBezTo>
                <a:cubicBezTo>
                  <a:pt x="4386876" y="92562"/>
                  <a:pt x="4404641" y="57968"/>
                  <a:pt x="4426145" y="29919"/>
                </a:cubicBezTo>
                <a:cubicBezTo>
                  <a:pt x="4447649" y="1870"/>
                  <a:pt x="4462609" y="3740"/>
                  <a:pt x="4482243" y="1870"/>
                </a:cubicBezTo>
                <a:cubicBezTo>
                  <a:pt x="4501877" y="0"/>
                  <a:pt x="4522914" y="9349"/>
                  <a:pt x="4543951" y="18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Igor Experiments\LIF-v3-small.tif"/>
          <p:cNvPicPr/>
          <p:nvPr/>
        </p:nvPicPr>
        <p:blipFill>
          <a:blip r:embed="rId6"/>
          <a:srcRect l="5004" t="7910" r="5552" b="0"/>
          <a:stretch/>
        </p:blipFill>
        <p:spPr>
          <a:xfrm>
            <a:off x="0" y="4572000"/>
            <a:ext cx="4638600" cy="167652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31"/>
          <p:cNvSpPr/>
          <p:nvPr/>
        </p:nvSpPr>
        <p:spPr>
          <a:xfrm>
            <a:off x="457200" y="4648320"/>
            <a:ext cx="3962520" cy="838080"/>
          </a:xfrm>
          <a:custGeom>
            <a:avLst/>
            <a:gdLst/>
            <a:ahLst/>
            <a:rect l="l" t="t" r="r" b="b"/>
            <a:pathLst>
              <a:path w="4804012" h="1326106">
                <a:moveTo>
                  <a:pt x="0" y="1232847"/>
                </a:moveTo>
                <a:cubicBezTo>
                  <a:pt x="58002" y="1214650"/>
                  <a:pt x="116005" y="1197590"/>
                  <a:pt x="191068" y="1171432"/>
                </a:cubicBezTo>
                <a:cubicBezTo>
                  <a:pt x="266131" y="1145274"/>
                  <a:pt x="367352" y="1105468"/>
                  <a:pt x="450376" y="1075898"/>
                </a:cubicBezTo>
                <a:cubicBezTo>
                  <a:pt x="533400" y="1046328"/>
                  <a:pt x="619836" y="1015620"/>
                  <a:pt x="689212" y="994011"/>
                </a:cubicBezTo>
                <a:cubicBezTo>
                  <a:pt x="758588" y="972402"/>
                  <a:pt x="809767" y="954205"/>
                  <a:pt x="866633" y="946244"/>
                </a:cubicBezTo>
                <a:cubicBezTo>
                  <a:pt x="923499" y="938283"/>
                  <a:pt x="974678" y="936008"/>
                  <a:pt x="1030406" y="946244"/>
                </a:cubicBezTo>
                <a:cubicBezTo>
                  <a:pt x="1086134" y="956480"/>
                  <a:pt x="1133902" y="974677"/>
                  <a:pt x="1201003" y="1007659"/>
                </a:cubicBezTo>
                <a:cubicBezTo>
                  <a:pt x="1268104" y="1040641"/>
                  <a:pt x="1359090" y="1097506"/>
                  <a:pt x="1433015" y="1144136"/>
                </a:cubicBezTo>
                <a:cubicBezTo>
                  <a:pt x="1506940" y="1190766"/>
                  <a:pt x="1589964" y="1257868"/>
                  <a:pt x="1644555" y="1287438"/>
                </a:cubicBezTo>
                <a:cubicBezTo>
                  <a:pt x="1699146" y="1317008"/>
                  <a:pt x="1721892" y="1317008"/>
                  <a:pt x="1760561" y="1321557"/>
                </a:cubicBezTo>
                <a:cubicBezTo>
                  <a:pt x="1799230" y="1326106"/>
                  <a:pt x="1829937" y="1323831"/>
                  <a:pt x="1876567" y="1314733"/>
                </a:cubicBezTo>
                <a:cubicBezTo>
                  <a:pt x="1923197" y="1305635"/>
                  <a:pt x="1980062" y="1289712"/>
                  <a:pt x="2040340" y="1266966"/>
                </a:cubicBezTo>
                <a:cubicBezTo>
                  <a:pt x="2100618" y="1244220"/>
                  <a:pt x="2160896" y="1220336"/>
                  <a:pt x="2238233" y="1178256"/>
                </a:cubicBezTo>
                <a:cubicBezTo>
                  <a:pt x="2315570" y="1136176"/>
                  <a:pt x="2437263" y="1050877"/>
                  <a:pt x="2504364" y="1014483"/>
                </a:cubicBezTo>
                <a:cubicBezTo>
                  <a:pt x="2571465" y="978089"/>
                  <a:pt x="2598761" y="968991"/>
                  <a:pt x="2640842" y="959892"/>
                </a:cubicBezTo>
                <a:cubicBezTo>
                  <a:pt x="2682923" y="950794"/>
                  <a:pt x="2713630" y="951931"/>
                  <a:pt x="2756848" y="959892"/>
                </a:cubicBezTo>
                <a:cubicBezTo>
                  <a:pt x="2800066" y="967853"/>
                  <a:pt x="2844421" y="974677"/>
                  <a:pt x="2900149" y="1007659"/>
                </a:cubicBezTo>
                <a:cubicBezTo>
                  <a:pt x="2955877" y="1040641"/>
                  <a:pt x="3033215" y="1110017"/>
                  <a:pt x="3091218" y="1157784"/>
                </a:cubicBezTo>
                <a:cubicBezTo>
                  <a:pt x="3149221" y="1205551"/>
                  <a:pt x="3207224" y="1271516"/>
                  <a:pt x="3248167" y="1294262"/>
                </a:cubicBezTo>
                <a:cubicBezTo>
                  <a:pt x="3289110" y="1317008"/>
                  <a:pt x="3306170" y="1307910"/>
                  <a:pt x="3336877" y="1294262"/>
                </a:cubicBezTo>
                <a:cubicBezTo>
                  <a:pt x="3367584" y="1280614"/>
                  <a:pt x="3389194" y="1260142"/>
                  <a:pt x="3432412" y="1212375"/>
                </a:cubicBezTo>
                <a:cubicBezTo>
                  <a:pt x="3475630" y="1164608"/>
                  <a:pt x="3548418" y="1069074"/>
                  <a:pt x="3596185" y="1007659"/>
                </a:cubicBezTo>
                <a:cubicBezTo>
                  <a:pt x="3643952" y="946244"/>
                  <a:pt x="3682621" y="888241"/>
                  <a:pt x="3719015" y="843886"/>
                </a:cubicBezTo>
                <a:cubicBezTo>
                  <a:pt x="3755409" y="799531"/>
                  <a:pt x="3780430" y="765411"/>
                  <a:pt x="3814549" y="741527"/>
                </a:cubicBezTo>
                <a:cubicBezTo>
                  <a:pt x="3848668" y="717643"/>
                  <a:pt x="3887337" y="699447"/>
                  <a:pt x="3923731" y="700584"/>
                </a:cubicBezTo>
                <a:cubicBezTo>
                  <a:pt x="3960125" y="701721"/>
                  <a:pt x="3996519" y="716506"/>
                  <a:pt x="4032913" y="748351"/>
                </a:cubicBezTo>
                <a:cubicBezTo>
                  <a:pt x="4069307" y="780196"/>
                  <a:pt x="4093191" y="809766"/>
                  <a:pt x="4142095" y="891653"/>
                </a:cubicBezTo>
                <a:cubicBezTo>
                  <a:pt x="4190999" y="973540"/>
                  <a:pt x="4285397" y="1170295"/>
                  <a:pt x="4326340" y="1239671"/>
                </a:cubicBezTo>
                <a:cubicBezTo>
                  <a:pt x="4367283" y="1309047"/>
                  <a:pt x="4366146" y="1296537"/>
                  <a:pt x="4387755" y="1307910"/>
                </a:cubicBezTo>
                <a:cubicBezTo>
                  <a:pt x="4409364" y="1319283"/>
                  <a:pt x="4429836" y="1324970"/>
                  <a:pt x="4455994" y="1307910"/>
                </a:cubicBezTo>
                <a:cubicBezTo>
                  <a:pt x="4482152" y="1290850"/>
                  <a:pt x="4516271" y="1262417"/>
                  <a:pt x="4544704" y="1205551"/>
                </a:cubicBezTo>
                <a:cubicBezTo>
                  <a:pt x="4573137" y="1148685"/>
                  <a:pt x="4597021" y="1110018"/>
                  <a:pt x="4626591" y="966716"/>
                </a:cubicBezTo>
                <a:cubicBezTo>
                  <a:pt x="4656161" y="823415"/>
                  <a:pt x="4699379" y="498142"/>
                  <a:pt x="4722125" y="345742"/>
                </a:cubicBezTo>
                <a:cubicBezTo>
                  <a:pt x="4744871" y="193342"/>
                  <a:pt x="4749420" y="104632"/>
                  <a:pt x="4763068" y="52316"/>
                </a:cubicBezTo>
                <a:cubicBezTo>
                  <a:pt x="4776716" y="0"/>
                  <a:pt x="4790364" y="15922"/>
                  <a:pt x="4804012" y="318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828800" y="25146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1905120" y="13716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1828800" y="3581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1828800" y="4572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art 2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Chart 3" descr="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5" descr=""/>
          <p:cNvPicPr/>
          <p:nvPr/>
        </p:nvPicPr>
        <p:blipFill>
          <a:blip r:embed="rId3"/>
          <a:stretch/>
        </p:blipFill>
        <p:spPr>
          <a:xfrm>
            <a:off x="0" y="841320"/>
            <a:ext cx="9144000" cy="167004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6"/>
          <p:cNvSpPr/>
          <p:nvPr/>
        </p:nvSpPr>
        <p:spPr>
          <a:xfrm>
            <a:off x="3556080" y="1098720"/>
            <a:ext cx="4275000" cy="966600"/>
          </a:xfrm>
          <a:custGeom>
            <a:avLst/>
            <a:gdLst/>
            <a:ahLst/>
            <a:rect l="l" t="t" r="r" b="b"/>
            <a:pathLst>
              <a:path w="4275667" h="968022">
                <a:moveTo>
                  <a:pt x="4275667" y="722488"/>
                </a:moveTo>
                <a:cubicBezTo>
                  <a:pt x="4133145" y="606777"/>
                  <a:pt x="3990623" y="491066"/>
                  <a:pt x="3818467" y="375355"/>
                </a:cubicBezTo>
                <a:cubicBezTo>
                  <a:pt x="3646311" y="259644"/>
                  <a:pt x="3426177" y="56444"/>
                  <a:pt x="3242733" y="28222"/>
                </a:cubicBezTo>
                <a:cubicBezTo>
                  <a:pt x="3059289" y="0"/>
                  <a:pt x="2906889" y="114300"/>
                  <a:pt x="2717800" y="206022"/>
                </a:cubicBezTo>
                <a:cubicBezTo>
                  <a:pt x="2528711" y="297744"/>
                  <a:pt x="2324100" y="469900"/>
                  <a:pt x="2108200" y="578555"/>
                </a:cubicBezTo>
                <a:cubicBezTo>
                  <a:pt x="1892300" y="687211"/>
                  <a:pt x="1653822" y="798688"/>
                  <a:pt x="1422400" y="857955"/>
                </a:cubicBezTo>
                <a:cubicBezTo>
                  <a:pt x="1190978" y="917222"/>
                  <a:pt x="956734" y="915810"/>
                  <a:pt x="719667" y="934155"/>
                </a:cubicBezTo>
                <a:cubicBezTo>
                  <a:pt x="482600" y="952500"/>
                  <a:pt x="0" y="968022"/>
                  <a:pt x="0" y="968022"/>
                </a:cubicBezTo>
                <a:lnTo>
                  <a:pt x="0" y="968022"/>
                </a:lnTo>
                <a:lnTo>
                  <a:pt x="0" y="959555"/>
                </a:ln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0"/>
          <p:cNvGrpSpPr/>
          <p:nvPr/>
        </p:nvGrpSpPr>
        <p:grpSpPr>
          <a:xfrm>
            <a:off x="-6480" y="2279520"/>
            <a:ext cx="9156600" cy="1456920"/>
            <a:chOff x="-6480" y="2279520"/>
            <a:chExt cx="9156600" cy="1456920"/>
          </a:xfrm>
        </p:grpSpPr>
        <p:pic>
          <p:nvPicPr>
            <p:cNvPr id="241" name="Chart 4" descr=""/>
            <p:cNvPicPr/>
            <p:nvPr/>
          </p:nvPicPr>
          <p:blipFill>
            <a:blip r:embed="rId4"/>
            <a:stretch/>
          </p:blipFill>
          <p:spPr>
            <a:xfrm>
              <a:off x="-6480" y="2279520"/>
              <a:ext cx="915660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Freeform 7"/>
            <p:cNvSpPr/>
            <p:nvPr/>
          </p:nvSpPr>
          <p:spPr>
            <a:xfrm>
              <a:off x="2401920" y="2343240"/>
              <a:ext cx="5824440" cy="952560"/>
            </a:xfrm>
            <a:custGeom>
              <a:avLst/>
              <a:gdLst/>
              <a:ahLst/>
              <a:rect l="l" t="t" r="r" b="b"/>
              <a:pathLst>
                <a:path w="5816600" h="944033">
                  <a:moveTo>
                    <a:pt x="5816600" y="292100"/>
                  </a:moveTo>
                  <a:cubicBezTo>
                    <a:pt x="5801783" y="278694"/>
                    <a:pt x="5786967" y="265288"/>
                    <a:pt x="5740400" y="232833"/>
                  </a:cubicBezTo>
                  <a:cubicBezTo>
                    <a:pt x="5693833" y="200378"/>
                    <a:pt x="5611989" y="131234"/>
                    <a:pt x="5537200" y="97367"/>
                  </a:cubicBezTo>
                  <a:cubicBezTo>
                    <a:pt x="5462411" y="63500"/>
                    <a:pt x="5379156" y="0"/>
                    <a:pt x="5291667" y="29633"/>
                  </a:cubicBezTo>
                  <a:cubicBezTo>
                    <a:pt x="5204178" y="59266"/>
                    <a:pt x="5135034" y="142523"/>
                    <a:pt x="5012267" y="275167"/>
                  </a:cubicBezTo>
                  <a:cubicBezTo>
                    <a:pt x="4889500" y="407811"/>
                    <a:pt x="4687712" y="719667"/>
                    <a:pt x="4555067" y="825500"/>
                  </a:cubicBezTo>
                  <a:cubicBezTo>
                    <a:pt x="4422423" y="931333"/>
                    <a:pt x="4364567" y="938389"/>
                    <a:pt x="4216400" y="910167"/>
                  </a:cubicBezTo>
                  <a:cubicBezTo>
                    <a:pt x="4068233" y="881945"/>
                    <a:pt x="3666067" y="656167"/>
                    <a:pt x="3666067" y="656167"/>
                  </a:cubicBezTo>
                  <a:cubicBezTo>
                    <a:pt x="3529189" y="592667"/>
                    <a:pt x="3505201" y="565856"/>
                    <a:pt x="3395134" y="529167"/>
                  </a:cubicBezTo>
                  <a:cubicBezTo>
                    <a:pt x="3285067" y="492478"/>
                    <a:pt x="3127023" y="451555"/>
                    <a:pt x="3005667" y="436033"/>
                  </a:cubicBezTo>
                  <a:cubicBezTo>
                    <a:pt x="2884311" y="420511"/>
                    <a:pt x="2830689" y="403577"/>
                    <a:pt x="2667000" y="436033"/>
                  </a:cubicBezTo>
                  <a:cubicBezTo>
                    <a:pt x="2503311" y="468489"/>
                    <a:pt x="2212623" y="568678"/>
                    <a:pt x="2023534" y="630767"/>
                  </a:cubicBezTo>
                  <a:cubicBezTo>
                    <a:pt x="1834445" y="692856"/>
                    <a:pt x="1711678" y="762000"/>
                    <a:pt x="1532467" y="808567"/>
                  </a:cubicBezTo>
                  <a:cubicBezTo>
                    <a:pt x="1353256" y="855134"/>
                    <a:pt x="1198034" y="887589"/>
                    <a:pt x="948267" y="910167"/>
                  </a:cubicBezTo>
                  <a:cubicBezTo>
                    <a:pt x="698500" y="932745"/>
                    <a:pt x="33867" y="944033"/>
                    <a:pt x="33867" y="944033"/>
                  </a:cubicBezTo>
                  <a:lnTo>
                    <a:pt x="33867" y="944033"/>
                  </a:lnTo>
                  <a:lnTo>
                    <a:pt x="0" y="935567"/>
                  </a:lnTo>
                </a:path>
              </a:pathLst>
            </a:custGeom>
            <a:noFill/>
            <a:ln w="9360">
              <a:solidFill>
                <a:srgbClr val="b6dc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Freeform 11"/>
          <p:cNvSpPr/>
          <p:nvPr/>
        </p:nvSpPr>
        <p:spPr>
          <a:xfrm>
            <a:off x="668160" y="4773600"/>
            <a:ext cx="7883640" cy="1347840"/>
          </a:xfrm>
          <a:custGeom>
            <a:avLst/>
            <a:gdLst/>
            <a:ahLst/>
            <a:rect l="l" t="t" r="r" b="b"/>
            <a:pathLst>
              <a:path w="7882466" h="1347611">
                <a:moveTo>
                  <a:pt x="0" y="1347611"/>
                </a:moveTo>
                <a:cubicBezTo>
                  <a:pt x="220838" y="1334205"/>
                  <a:pt x="441677" y="1320800"/>
                  <a:pt x="618066" y="1296811"/>
                </a:cubicBezTo>
                <a:cubicBezTo>
                  <a:pt x="794455" y="1272822"/>
                  <a:pt x="1058333" y="1203678"/>
                  <a:pt x="1058333" y="1203678"/>
                </a:cubicBezTo>
                <a:cubicBezTo>
                  <a:pt x="1237544" y="1166989"/>
                  <a:pt x="1494366" y="1103489"/>
                  <a:pt x="1693333" y="1076678"/>
                </a:cubicBezTo>
                <a:cubicBezTo>
                  <a:pt x="1892300" y="1049867"/>
                  <a:pt x="1972733" y="1001889"/>
                  <a:pt x="2252133" y="1042811"/>
                </a:cubicBezTo>
                <a:cubicBezTo>
                  <a:pt x="2531533" y="1083733"/>
                  <a:pt x="3031066" y="1316567"/>
                  <a:pt x="3369733" y="1322211"/>
                </a:cubicBezTo>
                <a:cubicBezTo>
                  <a:pt x="3708400" y="1327856"/>
                  <a:pt x="4055533" y="1131711"/>
                  <a:pt x="4284133" y="1076678"/>
                </a:cubicBezTo>
                <a:cubicBezTo>
                  <a:pt x="4512733" y="1021645"/>
                  <a:pt x="4581878" y="984956"/>
                  <a:pt x="4741333" y="992011"/>
                </a:cubicBezTo>
                <a:cubicBezTo>
                  <a:pt x="4900788" y="999066"/>
                  <a:pt x="5075766" y="1071033"/>
                  <a:pt x="5240866" y="1119011"/>
                </a:cubicBezTo>
                <a:cubicBezTo>
                  <a:pt x="5405966" y="1166989"/>
                  <a:pt x="5569655" y="1320800"/>
                  <a:pt x="5731933" y="1279878"/>
                </a:cubicBezTo>
                <a:cubicBezTo>
                  <a:pt x="5894211" y="1238956"/>
                  <a:pt x="6107289" y="955322"/>
                  <a:pt x="6214533" y="873478"/>
                </a:cubicBezTo>
                <a:cubicBezTo>
                  <a:pt x="6321777" y="791634"/>
                  <a:pt x="6304845" y="784578"/>
                  <a:pt x="6375400" y="788811"/>
                </a:cubicBezTo>
                <a:cubicBezTo>
                  <a:pt x="6445955" y="793044"/>
                  <a:pt x="6492522" y="832556"/>
                  <a:pt x="6637866" y="898878"/>
                </a:cubicBezTo>
                <a:cubicBezTo>
                  <a:pt x="6783210" y="965200"/>
                  <a:pt x="7096477" y="1172633"/>
                  <a:pt x="7247466" y="1186744"/>
                </a:cubicBezTo>
                <a:cubicBezTo>
                  <a:pt x="7398455" y="1200855"/>
                  <a:pt x="7459133" y="1157111"/>
                  <a:pt x="7543800" y="983544"/>
                </a:cubicBezTo>
                <a:cubicBezTo>
                  <a:pt x="7628467" y="809977"/>
                  <a:pt x="7699022" y="290688"/>
                  <a:pt x="7755466" y="145344"/>
                </a:cubicBezTo>
                <a:cubicBezTo>
                  <a:pt x="7811910" y="0"/>
                  <a:pt x="7847188" y="55739"/>
                  <a:pt x="7882466" y="111478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929880" y="609480"/>
            <a:ext cx="46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luorescence from successively higher vib. (1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az-Cyrl-AZ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90120" y="579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15840" y="57913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64160" y="1371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549504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720760" y="1736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2"/>
          <p:cNvSpPr/>
          <p:nvPr/>
        </p:nvSpPr>
        <p:spPr>
          <a:xfrm>
            <a:off x="5355360" y="70164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anck-Condon Overlap of Vibronic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52280" y="485640"/>
            <a:ext cx="4953240" cy="637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ranck-Condon-diagram"/>
          <p:cNvPicPr/>
          <p:nvPr/>
        </p:nvPicPr>
        <p:blipFill>
          <a:blip r:embed="rId2"/>
          <a:stretch/>
        </p:blipFill>
        <p:spPr>
          <a:xfrm>
            <a:off x="4948200" y="990720"/>
            <a:ext cx="419580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Line 13"/>
          <p:cNvSpPr/>
          <p:nvPr/>
        </p:nvSpPr>
        <p:spPr>
          <a:xfrm>
            <a:off x="6858000" y="2743200"/>
            <a:ext cx="0" cy="213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238880" y="2666880"/>
            <a:ext cx="0" cy="12956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-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w_PA"/>
          <p:cNvPicPr/>
          <p:nvPr/>
        </p:nvPicPr>
        <p:blipFill>
          <a:blip r:embed="rId1"/>
          <a:stretch/>
        </p:blipFill>
        <p:spPr>
          <a:xfrm>
            <a:off x="380880" y="1447920"/>
            <a:ext cx="6150240" cy="4157640"/>
          </a:xfrm>
          <a:prstGeom prst="rect">
            <a:avLst/>
          </a:prstGeom>
          <a:ln w="0">
            <a:noFill/>
          </a:ln>
        </p:spPr>
      </p:pic>
      <p:sp>
        <p:nvSpPr>
          <p:cNvPr id="257" name="Oval 5"/>
          <p:cNvSpPr/>
          <p:nvPr/>
        </p:nvSpPr>
        <p:spPr>
          <a:xfrm>
            <a:off x="617220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47712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7"/>
          <p:cNvSpPr/>
          <p:nvPr/>
        </p:nvSpPr>
        <p:spPr>
          <a:xfrm rot="19173000">
            <a:off x="6248160" y="3093840"/>
            <a:ext cx="2361960" cy="487080"/>
          </a:xfrm>
          <a:prstGeom prst="leftArrow">
            <a:avLst>
              <a:gd name="adj1" fmla="val 50000"/>
              <a:gd name="adj2" fmla="val 1212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8920" y="316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0" y="1370160"/>
          <a:ext cx="457200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0160"/>
                    <a:ext cx="457200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9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PA rate of </a:t>
            </a:r>
            <a:r>
              <a:rPr b="1" lang="en-US" sz="4000" spc="-1" strike="noStrike" u="sng" baseline="30000">
                <a:solidFill>
                  <a:srgbClr val="009999"/>
                </a:solidFill>
                <a:uFillTx/>
                <a:latin typeface="Comic Sans MS"/>
              </a:rPr>
              <a:t>7</a:t>
            </a: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Li near 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19320" y="34290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895480" y="34290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l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3808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I = 1.65 W/cm</a:t>
            </a:r>
            <a:r>
              <a:rPr b="0" lang="en-US" sz="1600" spc="-1" strike="noStrike" baseline="30000">
                <a:solidFill>
                  <a:srgbClr val="66ff33"/>
                </a:solidFill>
                <a:latin typeface="Times New Roman"/>
                <a:ea typeface="MS P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28600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v’’ = 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276720" y="1066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T ~ 10 </a:t>
            </a:r>
            <a:r>
              <a:rPr b="0" lang="en-US" sz="16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4456080" y="1292400"/>
          <a:ext cx="4687920" cy="39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292400"/>
                    <a:ext cx="46879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10"/>
          <p:cNvGrpSpPr/>
          <p:nvPr/>
        </p:nvGrpSpPr>
        <p:grpSpPr>
          <a:xfrm>
            <a:off x="1989000" y="4919760"/>
            <a:ext cx="4038480" cy="1523880"/>
            <a:chOff x="1989000" y="4919760"/>
            <a:chExt cx="4038480" cy="1523880"/>
          </a:xfrm>
        </p:grpSpPr>
        <p:sp>
          <p:nvSpPr>
            <p:cNvPr id="272" name="Rectangle 11"/>
            <p:cNvSpPr/>
            <p:nvPr/>
          </p:nvSpPr>
          <p:spPr>
            <a:xfrm>
              <a:off x="3703680" y="5834160"/>
              <a:ext cx="144756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89000" y="4919760"/>
              <a:ext cx="4038480" cy="1523880"/>
              <a:chOff x="1989000" y="4919760"/>
              <a:chExt cx="4038480" cy="1523880"/>
            </a:xfrm>
          </p:grpSpPr>
          <p:sp>
            <p:nvSpPr>
              <p:cNvPr id="274" name="Rectangle 13"/>
              <p:cNvSpPr/>
              <p:nvPr/>
            </p:nvSpPr>
            <p:spPr>
              <a:xfrm>
                <a:off x="1989000" y="4919760"/>
                <a:ext cx="4038480" cy="1523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14"/>
              <p:cNvGrpSpPr/>
              <p:nvPr/>
            </p:nvGrpSpPr>
            <p:grpSpPr>
              <a:xfrm>
                <a:off x="2179440" y="5105160"/>
                <a:ext cx="3352680" cy="1333080"/>
                <a:chOff x="2179440" y="5105160"/>
                <a:chExt cx="3352680" cy="1333080"/>
              </a:xfrm>
            </p:grpSpPr>
            <p:sp>
              <p:nvSpPr>
                <p:cNvPr id="276" name="Freeform 15"/>
                <p:cNvSpPr/>
                <p:nvPr/>
              </p:nvSpPr>
              <p:spPr>
                <a:xfrm>
                  <a:off x="2179440" y="5105160"/>
                  <a:ext cx="3352680" cy="1333080"/>
                </a:xfrm>
                <a:custGeom>
                  <a:avLst/>
                  <a:gdLst/>
                  <a:ahLst/>
                  <a:rect l="l" t="t" r="r" b="b"/>
                  <a:pathLst>
                    <a:path w="2112" h="840">
                      <a:moveTo>
                        <a:pt x="0" y="0"/>
                      </a:moveTo>
                      <a:cubicBezTo>
                        <a:pt x="168" y="396"/>
                        <a:pt x="336" y="792"/>
                        <a:pt x="528" y="816"/>
                      </a:cubicBezTo>
                      <a:cubicBezTo>
                        <a:pt x="720" y="840"/>
                        <a:pt x="888" y="272"/>
                        <a:pt x="1152" y="144"/>
                      </a:cubicBezTo>
                      <a:cubicBezTo>
                        <a:pt x="1416" y="16"/>
                        <a:pt x="1764" y="32"/>
                        <a:pt x="2112" y="48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6"/>
                <p:cNvSpPr/>
                <p:nvPr/>
              </p:nvSpPr>
              <p:spPr>
                <a:xfrm>
                  <a:off x="2382480" y="55713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7"/>
                <p:cNvSpPr/>
                <p:nvPr/>
              </p:nvSpPr>
              <p:spPr>
                <a:xfrm>
                  <a:off x="2255760" y="534276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8"/>
                <p:cNvSpPr/>
                <p:nvPr/>
              </p:nvSpPr>
              <p:spPr>
                <a:xfrm>
                  <a:off x="2496960" y="5812560"/>
                  <a:ext cx="106668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9"/>
                <p:cNvSpPr/>
                <p:nvPr/>
              </p:nvSpPr>
              <p:spPr>
                <a:xfrm>
                  <a:off x="2712960" y="6180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20"/>
                <p:cNvSpPr/>
                <p:nvPr/>
              </p:nvSpPr>
              <p:spPr>
                <a:xfrm>
                  <a:off x="2877840" y="6339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Text Box 21"/>
                <p:cNvSpPr/>
                <p:nvPr/>
              </p:nvSpPr>
              <p:spPr>
                <a:xfrm>
                  <a:off x="4020840" y="516492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MS PGothic"/>
                    </a:rPr>
                    <a:t>v’’ = 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Text Box 22"/>
                <p:cNvSpPr/>
                <p:nvPr/>
              </p:nvSpPr>
              <p:spPr>
                <a:xfrm>
                  <a:off x="3779640" y="53776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v’’ = 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3627360" y="5606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Times New Roman"/>
                      <a:ea typeface="MS PGothic"/>
                    </a:rPr>
                    <a:t>v’’ = 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"/>
                <p:cNvSpPr/>
                <p:nvPr/>
              </p:nvSpPr>
              <p:spPr>
                <a:xfrm>
                  <a:off x="2412720" y="5900040"/>
                  <a:ext cx="1219320" cy="151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25"/>
              <p:cNvGrpSpPr/>
              <p:nvPr/>
            </p:nvGrpSpPr>
            <p:grpSpPr>
              <a:xfrm>
                <a:off x="2516040" y="5892480"/>
                <a:ext cx="1035000" cy="142200"/>
                <a:chOff x="2516040" y="5892480"/>
                <a:chExt cx="1035000" cy="142200"/>
              </a:xfrm>
            </p:grpSpPr>
            <p:sp>
              <p:nvSpPr>
                <p:cNvPr id="287" name="Freeform 26"/>
                <p:cNvSpPr/>
                <p:nvPr/>
              </p:nvSpPr>
              <p:spPr>
                <a:xfrm>
                  <a:off x="2516040" y="590652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3373200" y="595908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2528640" y="597960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3398760" y="5892480"/>
                  <a:ext cx="152280" cy="5544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Text Box 30"/>
          <p:cNvSpPr/>
          <p:nvPr/>
        </p:nvSpPr>
        <p:spPr>
          <a:xfrm>
            <a:off x="2743200" y="2635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MS PGothic"/>
              </a:rPr>
              <a:t>~10</a:t>
            </a:r>
            <a:r>
              <a:rPr b="0" lang="en-US" sz="1600" spc="-1" strike="noStrike" baseline="30000">
                <a:solidFill>
                  <a:srgbClr val="333399"/>
                </a:solidFill>
                <a:latin typeface="Times New Roman"/>
                <a:ea typeface="MS PGoth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1"/>
          <p:cNvSpPr/>
          <p:nvPr/>
        </p:nvSpPr>
        <p:spPr>
          <a:xfrm>
            <a:off x="20574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1981080" y="4216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2743200" y="1841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6588360" y="559908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.Junker et al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1523880" y="3429000"/>
            <a:ext cx="1828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71600" y="2286000"/>
          <a:ext cx="243828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438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4"/>
          <p:cNvSpPr/>
          <p:nvPr/>
        </p:nvSpPr>
        <p:spPr>
          <a:xfrm>
            <a:off x="1295280" y="5041800"/>
            <a:ext cx="4191120" cy="1359000"/>
          </a:xfrm>
          <a:custGeom>
            <a:avLst/>
            <a:gdLst/>
            <a:ahLst/>
            <a:rect l="l" t="t" r="r" b="b"/>
            <a:pathLst>
              <a:path w="2640" h="856">
                <a:moveTo>
                  <a:pt x="0" y="0"/>
                </a:moveTo>
                <a:cubicBezTo>
                  <a:pt x="48" y="244"/>
                  <a:pt x="96" y="488"/>
                  <a:pt x="192" y="624"/>
                </a:cubicBezTo>
                <a:cubicBezTo>
                  <a:pt x="288" y="760"/>
                  <a:pt x="376" y="856"/>
                  <a:pt x="576" y="816"/>
                </a:cubicBezTo>
                <a:cubicBezTo>
                  <a:pt x="776" y="776"/>
                  <a:pt x="1048" y="472"/>
                  <a:pt x="1392" y="384"/>
                </a:cubicBezTo>
                <a:cubicBezTo>
                  <a:pt x="1736" y="296"/>
                  <a:pt x="2432" y="296"/>
                  <a:pt x="2640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990720" y="3429000"/>
          <a:ext cx="4343400" cy="25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4343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Line 6"/>
          <p:cNvSpPr/>
          <p:nvPr/>
        </p:nvSpPr>
        <p:spPr>
          <a:xfrm>
            <a:off x="1442880" y="54230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523880" y="29732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1328760" y="2209680"/>
            <a:ext cx="4343400" cy="2544840"/>
          </a:xfrm>
          <a:custGeom>
            <a:avLst/>
            <a:gdLst/>
            <a:ahLst/>
            <a:rect l="l" t="t" r="r" b="b"/>
            <a:pathLst>
              <a:path w="2208" h="2104">
                <a:moveTo>
                  <a:pt x="0" y="0"/>
                </a:moveTo>
                <a:cubicBezTo>
                  <a:pt x="72" y="724"/>
                  <a:pt x="144" y="1448"/>
                  <a:pt x="240" y="1776"/>
                </a:cubicBezTo>
                <a:cubicBezTo>
                  <a:pt x="336" y="2104"/>
                  <a:pt x="440" y="2104"/>
                  <a:pt x="576" y="1968"/>
                </a:cubicBezTo>
                <a:cubicBezTo>
                  <a:pt x="712" y="1832"/>
                  <a:pt x="784" y="1176"/>
                  <a:pt x="1056" y="960"/>
                </a:cubicBezTo>
                <a:cubicBezTo>
                  <a:pt x="1328" y="744"/>
                  <a:pt x="1768" y="708"/>
                  <a:pt x="2208" y="67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66680" y="3276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v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343400" y="549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343400" y="3121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106668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762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76720" y="3352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V="1">
            <a:off x="3352680" y="2971440"/>
            <a:ext cx="0" cy="24382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1871640" y="4788000"/>
            <a:ext cx="2612880" cy="1079280"/>
          </a:xfrm>
          <a:custGeom>
            <a:avLst/>
            <a:gdLst/>
            <a:ahLst/>
            <a:rect l="l" t="t" r="r" b="b"/>
            <a:pathLst>
              <a:path w="1584" h="680">
                <a:moveTo>
                  <a:pt x="0" y="528"/>
                </a:moveTo>
                <a:cubicBezTo>
                  <a:pt x="36" y="604"/>
                  <a:pt x="72" y="680"/>
                  <a:pt x="192" y="672"/>
                </a:cubicBezTo>
                <a:cubicBezTo>
                  <a:pt x="312" y="664"/>
                  <a:pt x="488" y="592"/>
                  <a:pt x="720" y="480"/>
                </a:cubicBezTo>
                <a:cubicBezTo>
                  <a:pt x="952" y="368"/>
                  <a:pt x="1268" y="184"/>
                  <a:pt x="15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343400" y="50133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267080" y="2590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th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0"/>
          <p:cNvGrpSpPr/>
          <p:nvPr/>
        </p:nvGrpSpPr>
        <p:grpSpPr>
          <a:xfrm>
            <a:off x="6324480" y="4038480"/>
            <a:ext cx="1981080" cy="770400"/>
            <a:chOff x="6324480" y="4038480"/>
            <a:chExt cx="1981080" cy="770400"/>
          </a:xfrm>
        </p:grpSpPr>
        <p:sp>
          <p:nvSpPr>
            <p:cNvPr id="317" name="Text Box 21"/>
            <p:cNvSpPr/>
            <p:nvPr/>
          </p:nvSpPr>
          <p:spPr>
            <a:xfrm>
              <a:off x="6933960" y="429876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MS PGothic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6324480" y="429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693396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>
              <a:off x="769608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769608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Oval 26"/>
          <p:cNvSpPr/>
          <p:nvPr/>
        </p:nvSpPr>
        <p:spPr>
          <a:xfrm>
            <a:off x="3276720" y="3962520"/>
            <a:ext cx="152280" cy="1522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"/>
          <p:cNvGrpSpPr/>
          <p:nvPr/>
        </p:nvGrpSpPr>
        <p:grpSpPr>
          <a:xfrm>
            <a:off x="3504960" y="4038480"/>
            <a:ext cx="1067040" cy="398880"/>
            <a:chOff x="3504960" y="4038480"/>
            <a:chExt cx="1067040" cy="398880"/>
          </a:xfrm>
        </p:grpSpPr>
        <p:sp>
          <p:nvSpPr>
            <p:cNvPr id="325" name="Line 29"/>
            <p:cNvSpPr/>
            <p:nvPr/>
          </p:nvSpPr>
          <p:spPr>
            <a:xfrm flipH="1" flipV="1">
              <a:off x="3504960" y="4114800"/>
              <a:ext cx="228600" cy="76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80988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  <a:ea typeface="MS PGothic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31"/>
          <p:cNvGrpSpPr/>
          <p:nvPr/>
        </p:nvGrpSpPr>
        <p:grpSpPr>
          <a:xfrm>
            <a:off x="3429000" y="5486400"/>
            <a:ext cx="1371600" cy="1161000"/>
            <a:chOff x="3429000" y="5486400"/>
            <a:chExt cx="1371600" cy="1161000"/>
          </a:xfrm>
        </p:grpSpPr>
        <p:sp>
          <p:nvSpPr>
            <p:cNvPr id="328" name="Line 32"/>
            <p:cNvSpPr/>
            <p:nvPr/>
          </p:nvSpPr>
          <p:spPr>
            <a:xfrm flipH="1" flipV="1">
              <a:off x="3429000" y="548640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3"/>
            <p:cNvSpPr/>
            <p:nvPr/>
          </p:nvSpPr>
          <p:spPr>
            <a:xfrm>
              <a:off x="4038480" y="594360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  <a:ea typeface="MS PGothic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Rectangle 34"/>
          <p:cNvSpPr/>
          <p:nvPr/>
        </p:nvSpPr>
        <p:spPr>
          <a:xfrm>
            <a:off x="1066680" y="14479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  <a:ea typeface="MS PGothic"/>
              </a:rPr>
              <a:t>Rate depends on ground state wavefunction (Franck-Cond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4267080" y="27432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876920" y="359712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4876920" y="396252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5897160" y="618804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hn and Julienne PRA 60, 414 (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4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l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52280" y="4233960"/>
            <a:ext cx="612468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581640" cy="2721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540000" y="2438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ven/od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86840" y="2438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http://www.civilized.com/mlabexamples/laser.htmld/levelh.gif"/>
          <p:cNvPicPr/>
          <p:nvPr/>
        </p:nvPicPr>
        <p:blipFill>
          <a:blip r:embed="rId3"/>
          <a:stretch/>
        </p:blipFill>
        <p:spPr>
          <a:xfrm>
            <a:off x="4371840" y="12272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astro1.panet.utoledo.edu/~ljc/pol01.jpg"/>
          <p:cNvPicPr/>
          <p:nvPr/>
        </p:nvPicPr>
        <p:blipFill>
          <a:blip r:embed="rId1"/>
          <a:stretch/>
        </p:blipFill>
        <p:spPr>
          <a:xfrm>
            <a:off x="0" y="649440"/>
            <a:ext cx="3581280" cy="5108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3480" y="3216240"/>
            <a:ext cx="3624120" cy="22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3276720"/>
            <a:ext cx="8591400" cy="3276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84240" y="586728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bidden”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stab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624800" y="457200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lu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phosph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886200" y="1798560"/>
            <a:ext cx="4276800" cy="55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038480" y="1143000"/>
            <a:ext cx="2438640" cy="523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889440" y="22590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ition matri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so can engineer DO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 control transi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463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t2.gstatic.com/images?q=tbn:ANd9GcR8CSS_eILktk48BhnCy2RNYA89leHTVahgGHaez-t1anp7UKJg3w"/>
          <p:cNvPicPr/>
          <p:nvPr/>
        </p:nvPicPr>
        <p:blipFill>
          <a:blip r:embed="rId2"/>
          <a:stretch/>
        </p:blipFill>
        <p:spPr>
          <a:xfrm>
            <a:off x="152280" y="2971800"/>
            <a:ext cx="2895840" cy="3443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403440" y="29876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-228600" y="5045040"/>
            <a:ext cx="350532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842040" y="50450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4224960" y="504504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nic crystal (bandgap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8T05:04:03Z</dcterms:modified>
  <cp:revision>447</cp:revision>
  <dc:subject>Physics 272H, Spring 2007</dc:subject>
  <dc:title>Lecture 2</dc:title>
</cp:coreProperties>
</file>