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42.png" ContentType="image/png"/>
  <Override PartName="/ppt/media/image26.jpeg" ContentType="image/jpeg"/>
  <Override PartName="/ppt/media/image91.png" ContentType="image/png"/>
  <Override PartName="/ppt/media/image89.png" ContentType="image/png"/>
  <Override PartName="/ppt/media/image77.png" ContentType="image/png"/>
  <Override PartName="/ppt/media/image90.png" ContentType="image/png"/>
  <Override PartName="/ppt/media/image11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8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1.png" ContentType="image/png"/>
  <Override PartName="/ppt/media/image58.png" ContentType="image/png"/>
  <Override PartName="/ppt/media/image18.jpeg" ContentType="image/jpeg"/>
  <Override PartName="/ppt/media/image73.jpeg" ContentType="image/jpeg"/>
  <Override PartName="/ppt/media/image24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07CE2-EF0C-45F0-BE3C-F6C52D391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7E67F-A380-4736-8492-CD6270BDCE2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ubs.rsc.org/en/content/articlelanding/2011/cs/c0cs00184h#!div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E590A-AE38-4ACC-B3A6-EC283A4BEC7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C50-90B5-49D9-B7D0-22EA5648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E71-E8AB-4EE8-A9EA-15D40A7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25B-DFB5-4F0C-BEBF-607660BA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0A2-036D-49B2-94BD-2FF4992D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017-E2FB-49B4-B394-B17811CF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F2B-77D2-4598-8719-C31C3410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BD5-0958-4AD3-83CB-EDF960F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E2A-83CE-4B4C-B573-AEA2685D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65D-4159-4826-A32D-9EB6859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B45-CA9E-43F3-96AE-3458572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C89-2DF7-461A-9559-B9B4CF5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BFB-03E0-4C91-ADA6-A8FFBA8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D57-0BEF-4189-AA90-5F774893BD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6252-1AF7-486F-B684-154DED55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yongchen@purdue.edu)      Lecture 5     (1/26/2016)         Slide </a:t>
            </a:r>
            <a:fld id="{DB865A1A-A95B-497A-A073-9A4C08CA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2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3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4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5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5.wm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jpeg"/><Relationship Id="rId10" Type="http://schemas.openxmlformats.org/officeDocument/2006/relationships/image" Target="../media/image32.png"/><Relationship Id="rId11" Type="http://schemas.openxmlformats.org/officeDocument/2006/relationships/image" Target="../media/image28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cture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Processes in Solids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ors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Chap 1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assical L-M interaction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Lorentz dipole oscillator mode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2456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6226200" y="57546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implest p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-70560" y="624852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mage/slides from M.Fox FS no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511440" y="25146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b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pplie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4102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8229600" cy="5372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2960" y="115740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Powerful mechanical an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of L-M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-274680" y="26859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89640" y="32432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7054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296040" y="1368360"/>
            <a:ext cx="252252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7558560" y="192564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“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Driven damped Harmonic Oscil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7664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2143080" y="2405160"/>
            <a:ext cx="1562040" cy="3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5"/>
          <a:stretch/>
        </p:blipFill>
        <p:spPr>
          <a:xfrm>
            <a:off x="189000" y="2462040"/>
            <a:ext cx="1628640" cy="27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3552840" cy="143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7"/>
          <a:stretch/>
        </p:blipFill>
        <p:spPr>
          <a:xfrm>
            <a:off x="152280" y="5638680"/>
            <a:ext cx="336240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8"/>
          <a:stretch/>
        </p:blipFill>
        <p:spPr>
          <a:xfrm>
            <a:off x="4572000" y="2514600"/>
            <a:ext cx="4219560" cy="752400"/>
          </a:xfrm>
          <a:prstGeom prst="rect">
            <a:avLst/>
          </a:prstGeom>
          <a:ln w="9360">
            <a:solidFill>
              <a:srgbClr val="d3ed18"/>
            </a:solidFill>
            <a:miter/>
          </a:ln>
        </p:spPr>
      </p:pic>
      <p:pic>
        <p:nvPicPr>
          <p:cNvPr id="165" name="Picture 9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4724280" cy="143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10"/>
          <a:stretch/>
        </p:blipFill>
        <p:spPr>
          <a:xfrm>
            <a:off x="6296040" y="4681440"/>
            <a:ext cx="2851200" cy="71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11"/>
          <a:stretch/>
        </p:blipFill>
        <p:spPr>
          <a:xfrm>
            <a:off x="4240080" y="4809960"/>
            <a:ext cx="193212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12"/>
          <a:stretch/>
        </p:blipFill>
        <p:spPr>
          <a:xfrm>
            <a:off x="3735360" y="5400720"/>
            <a:ext cx="356220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9" name="Picture 13" descr=""/>
          <p:cNvPicPr/>
          <p:nvPr/>
        </p:nvPicPr>
        <p:blipFill>
          <a:blip r:embed="rId13"/>
          <a:stretch/>
        </p:blipFill>
        <p:spPr>
          <a:xfrm>
            <a:off x="7623000" y="5764320"/>
            <a:ext cx="1524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6972120" cy="549612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4" descr=""/>
          <p:cNvPicPr/>
          <p:nvPr/>
        </p:nvPicPr>
        <p:blipFill>
          <a:blip r:embed="rId2"/>
          <a:stretch/>
        </p:blipFill>
        <p:spPr>
          <a:xfrm>
            <a:off x="5108400" y="2316240"/>
            <a:ext cx="329724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3562200" y="2327400"/>
            <a:ext cx="161928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495680" y="1844640"/>
            <a:ext cx="303480" cy="3794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410080" y="1309680"/>
            <a:ext cx="1828800" cy="457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324480" y="3595680"/>
            <a:ext cx="1209960" cy="96192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7" descr=""/>
          <p:cNvPicPr/>
          <p:nvPr/>
        </p:nvPicPr>
        <p:blipFill>
          <a:blip r:embed="rId4"/>
          <a:stretch/>
        </p:blipFill>
        <p:spPr>
          <a:xfrm>
            <a:off x="6407280" y="3236760"/>
            <a:ext cx="108396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6324480" y="3236760"/>
            <a:ext cx="1295640" cy="1197000"/>
          </a:xfrm>
          <a:prstGeom prst="rect">
            <a:avLst/>
          </a:prstGeom>
          <a:noFill/>
          <a:ln w="64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6004080"/>
            <a:ext cx="9137520" cy="54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7456680" y="60292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S Chap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5"/>
          <a:stretch/>
        </p:blipFill>
        <p:spPr>
          <a:xfrm>
            <a:off x="20520" y="5964120"/>
            <a:ext cx="1738440" cy="52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6"/>
          <a:stretch/>
        </p:blipFill>
        <p:spPr>
          <a:xfrm>
            <a:off x="1986120" y="6005520"/>
            <a:ext cx="2205000" cy="50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7"/>
          <a:stretch/>
        </p:blipFill>
        <p:spPr>
          <a:xfrm>
            <a:off x="4245120" y="6205680"/>
            <a:ext cx="1199880" cy="30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8"/>
          <a:stretch/>
        </p:blipFill>
        <p:spPr>
          <a:xfrm>
            <a:off x="4325760" y="6022800"/>
            <a:ext cx="642960" cy="1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9"/>
          <a:stretch/>
        </p:blipFill>
        <p:spPr>
          <a:xfrm>
            <a:off x="5721480" y="6105600"/>
            <a:ext cx="1600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46160" y="838080"/>
            <a:ext cx="7610400" cy="164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146160" y="2548080"/>
            <a:ext cx="65768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48520" cy="532440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4"/>
          <p:cNvCxnSpPr/>
          <p:nvPr/>
        </p:nvCxnSpPr>
        <p:spPr>
          <a:xfrm flipV="1">
            <a:off x="2361960" y="2437560"/>
            <a:ext cx="7668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93" name="TextBox 6" descr=""/>
          <p:cNvPicPr/>
          <p:nvPr/>
        </p:nvPicPr>
        <p:blipFill>
          <a:blip r:embed="rId2"/>
          <a:stretch/>
        </p:blipFill>
        <p:spPr>
          <a:xfrm>
            <a:off x="1785960" y="2743200"/>
            <a:ext cx="804960" cy="341280"/>
          </a:xfrm>
          <a:prstGeom prst="rect">
            <a:avLst/>
          </a:prstGeom>
          <a:ln w="0">
            <a:noFill/>
          </a:ln>
        </p:spPr>
      </p:pic>
      <p:cxnSp>
        <p:nvCxnSpPr>
          <p:cNvPr id="194" name="Straight Arrow Connector 8"/>
          <p:cNvCxnSpPr/>
          <p:nvPr/>
        </p:nvCxnSpPr>
        <p:spPr>
          <a:xfrm flipH="1">
            <a:off x="5257080" y="3661920"/>
            <a:ext cx="153000" cy="219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5" name="TextBox 10"/>
          <p:cNvSpPr/>
          <p:nvPr/>
        </p:nvSpPr>
        <p:spPr>
          <a:xfrm>
            <a:off x="5508720" y="3438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04720" y="1219320"/>
            <a:ext cx="8134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800600" y="3265560"/>
            <a:ext cx="4343400" cy="3270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8720" y="6013440"/>
            <a:ext cx="37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note: neglected external broadening eg. Doppl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sc. strength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gressio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electromagnetic induced transparency) &amp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low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71800" cy="35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038480" y="1009800"/>
            <a:ext cx="1676520" cy="107604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3" descr=""/>
          <p:cNvPicPr/>
          <p:nvPr/>
        </p:nvPicPr>
        <p:blipFill>
          <a:blip r:embed="rId3"/>
          <a:stretch/>
        </p:blipFill>
        <p:spPr>
          <a:xfrm>
            <a:off x="5724360" y="1335240"/>
            <a:ext cx="2992680" cy="80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t2.gstatic.com/images?q=tbn:ANd9GcQn86S1XAOdF5gMOPGFP7tH626ZuJ_isXoAaM_rrwCDLr5Uubb7zw"/>
          <p:cNvPicPr/>
          <p:nvPr/>
        </p:nvPicPr>
        <p:blipFill>
          <a:blip r:embed="rId4"/>
          <a:stretch/>
        </p:blipFill>
        <p:spPr>
          <a:xfrm>
            <a:off x="274680" y="3809880"/>
            <a:ext cx="3962520" cy="2548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981080" y="3809880"/>
            <a:ext cx="2590920" cy="27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Cycling at the speed of light?"/>
          <p:cNvPicPr/>
          <p:nvPr/>
        </p:nvPicPr>
        <p:blipFill>
          <a:blip r:embed="rId5"/>
          <a:stretch/>
        </p:blipFill>
        <p:spPr>
          <a:xfrm>
            <a:off x="2440080" y="3905280"/>
            <a:ext cx="1673280" cy="235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t3.gstatic.com/images?q=tbn:ANd9GcRgU2cxQl3T2EgjvLu_gSahEA8UwlErH_Cvnow0SsKi-j_Ulxo4gQ"/>
          <p:cNvPicPr/>
          <p:nvPr/>
        </p:nvPicPr>
        <p:blipFill>
          <a:blip r:embed="rId6"/>
          <a:stretch/>
        </p:blipFill>
        <p:spPr>
          <a:xfrm>
            <a:off x="5927760" y="419112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5990760" y="591192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op light /quantu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7"/>
          <a:stretch/>
        </p:blipFill>
        <p:spPr>
          <a:xfrm>
            <a:off x="4191120" y="480060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853452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836640"/>
            <a:ext cx="456264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-380880" y="914400"/>
            <a:ext cx="2671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743200" y="914400"/>
            <a:ext cx="558180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5189760" y="15238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uman princi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105760" cy="4972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41040" y="60390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g. so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657600" y="3048120"/>
            <a:ext cx="700200" cy="504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describe the image"/>
          <p:cNvPicPr/>
          <p:nvPr/>
        </p:nvPicPr>
        <p:blipFill>
          <a:blip r:embed="rId1"/>
          <a:stretch/>
        </p:blipFill>
        <p:spPr>
          <a:xfrm>
            <a:off x="3851280" y="2157480"/>
            <a:ext cx="5369040" cy="4143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59770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age credits: http://photodigm.com/literature/applications-notes/rubidium-absorption-spectroscop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.teachspin.com/instruments/diode_laser/experiment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http://www.teachspin.com/instruments/diode_laser/diode_laser_expt1.gif"/>
          <p:cNvPicPr/>
          <p:nvPr/>
        </p:nvPicPr>
        <p:blipFill>
          <a:blip r:embed="rId2"/>
          <a:stretch/>
        </p:blipFill>
        <p:spPr>
          <a:xfrm>
            <a:off x="4619520" y="1239840"/>
            <a:ext cx="4372200" cy="102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www.teachspin.com/instruments/diode_laser/experiments_clip_image001_0000.gif"/>
          <p:cNvPicPr/>
          <p:nvPr/>
        </p:nvPicPr>
        <p:blipFill>
          <a:blip r:embed="rId3"/>
          <a:stretch/>
        </p:blipFill>
        <p:spPr>
          <a:xfrm>
            <a:off x="14400" y="2819520"/>
            <a:ext cx="4535280" cy="2752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346040" y="249408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Rb energy lev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7245360" y="5757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~780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09560" y="690480"/>
            <a:ext cx="77248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36480" y="1066680"/>
            <a:ext cx="7489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79320" y="593640"/>
            <a:ext cx="8480520" cy="5575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6440" y="5486400"/>
            <a:ext cx="5272560" cy="825480"/>
          </a:xfrm>
          <a:prstGeom prst="rect">
            <a:avLst/>
          </a:prstGeom>
          <a:solidFill>
            <a:srgbClr val="f6f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ote: K-K is much more general, for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sponse function”, related to caus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76320" y="6259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www2.fkf.mpg.de/keimer/lecture/Solid_State_Spectroscopy_Ulrich/Kap_3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480" y="1295280"/>
            <a:ext cx="6248160" cy="5316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6059520" y="3408480"/>
            <a:ext cx="3114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sotropic crystal &amp; birefrin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9910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5181480" y="1662120"/>
            <a:ext cx="2733840" cy="105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2280" y="3503520"/>
            <a:ext cx="5715000" cy="305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809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54040" y="853920"/>
            <a:ext cx="8970840" cy="560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7000" y="2895480"/>
            <a:ext cx="4210200" cy="2162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18600" y="9907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ator (semicon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(insulat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3900600"/>
            <a:ext cx="7772400" cy="23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0520" y="2590920"/>
            <a:ext cx="1513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57720" y="838080"/>
            <a:ext cx="4886280" cy="372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3209760" cy="14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 result for ruby"/>
          <p:cNvPicPr/>
          <p:nvPr/>
        </p:nvPicPr>
        <p:blipFill>
          <a:blip r:embed="rId3"/>
          <a:stretch/>
        </p:blipFill>
        <p:spPr>
          <a:xfrm>
            <a:off x="2138400" y="2597040"/>
            <a:ext cx="2190600" cy="122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patentlyapple.com/.a/6a0120a5580826970c017ee999eea8970d-800wi"/>
          <p:cNvPicPr/>
          <p:nvPr/>
        </p:nvPicPr>
        <p:blipFill>
          <a:blip r:embed="rId4"/>
          <a:stretch/>
        </p:blipFill>
        <p:spPr>
          <a:xfrm>
            <a:off x="0" y="1506600"/>
            <a:ext cx="2174760" cy="2181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595760" y="6257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webexhibits.org/causesofcolor/8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6"/>
          <a:stretch/>
        </p:blipFill>
        <p:spPr>
          <a:xfrm>
            <a:off x="0" y="3824280"/>
            <a:ext cx="30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gia.edu/cs/Satellite?blobcol=gfile&amp;blobheader=image%2Fjpeg&amp;blobkey=id&amp;blobtable=GIA_MediaFile&amp;blobwhere=1355964005427&amp;ssbinary=true"/>
          <p:cNvPicPr/>
          <p:nvPr/>
        </p:nvPicPr>
        <p:blipFill>
          <a:blip r:embed="rId7"/>
          <a:stretch/>
        </p:blipFill>
        <p:spPr>
          <a:xfrm>
            <a:off x="2895480" y="4519440"/>
            <a:ext cx="2454480" cy="1381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79800" y="6146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gia.edu/gems-gemology/WN13-Karampelas-Blue-Sapphires-Mog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4920" y="6843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ped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57560" y="1905120"/>
            <a:ext cx="5086440" cy="356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081760" y="5467320"/>
            <a:ext cx="3038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145040" y="1447920"/>
            <a:ext cx="4971960" cy="36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876920" y="5154480"/>
            <a:ext cx="38019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Levels of “quantu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533760" cy="3743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3"/>
          <p:cNvSpPr/>
          <p:nvPr/>
        </p:nvSpPr>
        <p:spPr>
          <a:xfrm>
            <a:off x="-6480" y="4876920"/>
            <a:ext cx="3581640" cy="69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0" y="1365120"/>
            <a:ext cx="3780000" cy="136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572000" y="3048120"/>
            <a:ext cx="3780000" cy="1366560"/>
          </a:xfrm>
          <a:prstGeom prst="rect">
            <a:avLst/>
          </a:prstGeom>
          <a:ln w="0">
            <a:noFill/>
          </a:ln>
        </p:spPr>
      </p:pic>
      <p:sp>
        <p:nvSpPr>
          <p:cNvPr id="95" name="Oval 4"/>
          <p:cNvSpPr/>
          <p:nvPr/>
        </p:nvSpPr>
        <p:spPr>
          <a:xfrm>
            <a:off x="5791320" y="3433680"/>
            <a:ext cx="129528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67280" y="3706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26"/>
          <p:cNvSpPr/>
          <p:nvPr/>
        </p:nvSpPr>
        <p:spPr>
          <a:xfrm>
            <a:off x="5867280" y="4114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97279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reeform 97280"/>
          <p:cNvSpPr/>
          <p:nvPr/>
        </p:nvSpPr>
        <p:spPr>
          <a:xfrm flipH="1">
            <a:off x="6392880" y="370692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http://t0.gstatic.com/images?q=tbn:ANd9GcQbbl_HAYxU362Tra3oHju1l4Jk70hxmtdtW-qCsFP4J9PF2KsC"/>
          <p:cNvPicPr/>
          <p:nvPr/>
        </p:nvPicPr>
        <p:blipFill>
          <a:blip r:embed="rId6"/>
          <a:stretch/>
        </p:blipFill>
        <p:spPr>
          <a:xfrm>
            <a:off x="3809880" y="2678040"/>
            <a:ext cx="134640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t0.gstatic.com/images?q=tbn:ANd9GcQbbl_HAYxU362Tra3oHju1l4Jk70hxmtdtW-qCsFP4J9PF2KsC"/>
          <p:cNvPicPr/>
          <p:nvPr/>
        </p:nvPicPr>
        <p:blipFill>
          <a:blip r:embed="rId7"/>
          <a:stretch/>
        </p:blipFill>
        <p:spPr>
          <a:xfrm>
            <a:off x="7678800" y="263700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8"/>
          <a:stretch/>
        </p:blipFill>
        <p:spPr>
          <a:xfrm>
            <a:off x="4552920" y="4653000"/>
            <a:ext cx="378000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Oval 41"/>
          <p:cNvSpPr/>
          <p:nvPr/>
        </p:nvSpPr>
        <p:spPr>
          <a:xfrm>
            <a:off x="5772240" y="5040360"/>
            <a:ext cx="1295280" cy="90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42"/>
          <p:cNvSpPr/>
          <p:nvPr/>
        </p:nvSpPr>
        <p:spPr>
          <a:xfrm>
            <a:off x="5848200" y="53118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traight Connector 43"/>
          <p:cNvSpPr/>
          <p:nvPr/>
        </p:nvSpPr>
        <p:spPr>
          <a:xfrm>
            <a:off x="5848200" y="5719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4"/>
          <p:cNvGraphicFramePr/>
          <p:nvPr/>
        </p:nvGraphicFramePr>
        <p:xfrm>
          <a:off x="4495680" y="4943520"/>
          <a:ext cx="114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494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Freeform 45"/>
          <p:cNvSpPr/>
          <p:nvPr/>
        </p:nvSpPr>
        <p:spPr>
          <a:xfrm flipH="1">
            <a:off x="6373800" y="531180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1"/>
          <a:stretch/>
        </p:blipFill>
        <p:spPr>
          <a:xfrm>
            <a:off x="4437000" y="5572080"/>
            <a:ext cx="71928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2"/>
          <a:stretch/>
        </p:blipFill>
        <p:spPr>
          <a:xfrm>
            <a:off x="7585200" y="5622840"/>
            <a:ext cx="71892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13"/>
          <a:stretch/>
        </p:blipFill>
        <p:spPr>
          <a:xfrm>
            <a:off x="6248520" y="1752480"/>
            <a:ext cx="417240" cy="90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6648120" y="1828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extBox 27" descr=""/>
          <p:cNvPicPr/>
          <p:nvPr/>
        </p:nvPicPr>
        <p:blipFill>
          <a:blip r:embed="rId14"/>
          <a:stretch/>
        </p:blipFill>
        <p:spPr>
          <a:xfrm>
            <a:off x="6400800" y="3693960"/>
            <a:ext cx="596880" cy="40176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28" descr=""/>
          <p:cNvPicPr/>
          <p:nvPr/>
        </p:nvPicPr>
        <p:blipFill>
          <a:blip r:embed="rId15"/>
          <a:stretch/>
        </p:blipFill>
        <p:spPr>
          <a:xfrm>
            <a:off x="6377040" y="5273640"/>
            <a:ext cx="590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3040" y="5281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&amp; Semiclassical L-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4440" y="4308480"/>
            <a:ext cx="37796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Oval 4"/>
          <p:cNvSpPr/>
          <p:nvPr/>
        </p:nvSpPr>
        <p:spPr>
          <a:xfrm>
            <a:off x="1733400" y="4694400"/>
            <a:ext cx="1295640" cy="909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21"/>
          <p:cNvSpPr/>
          <p:nvPr/>
        </p:nvSpPr>
        <p:spPr>
          <a:xfrm>
            <a:off x="1809720" y="4967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26"/>
          <p:cNvSpPr/>
          <p:nvPr/>
        </p:nvSpPr>
        <p:spPr>
          <a:xfrm>
            <a:off x="1809720" y="53751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97279"/>
          <p:cNvGraphicFramePr/>
          <p:nvPr/>
        </p:nvGraphicFramePr>
        <p:xfrm>
          <a:off x="457200" y="459900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459900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Freeform 97280"/>
          <p:cNvSpPr/>
          <p:nvPr/>
        </p:nvSpPr>
        <p:spPr>
          <a:xfrm flipH="1">
            <a:off x="2335320" y="4967280"/>
            <a:ext cx="46080" cy="40788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" descr="http://t0.gstatic.com/images?q=tbn:ANd9GcQbbl_HAYxU362Tra3oHju1l4Jk70hxmtdtW-qCsFP4J9PF2KsC"/>
          <p:cNvPicPr/>
          <p:nvPr/>
        </p:nvPicPr>
        <p:blipFill>
          <a:blip r:embed="rId4"/>
          <a:stretch/>
        </p:blipFill>
        <p:spPr>
          <a:xfrm>
            <a:off x="73080" y="299232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4425840" y="2468520"/>
            <a:ext cx="41760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7" descr=""/>
          <p:cNvPicPr/>
          <p:nvPr/>
        </p:nvPicPr>
        <p:blipFill>
          <a:blip r:embed="rId6"/>
          <a:stretch/>
        </p:blipFill>
        <p:spPr>
          <a:xfrm>
            <a:off x="2341440" y="4956120"/>
            <a:ext cx="596880" cy="3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97279"/>
          <p:cNvGraphicFramePr/>
          <p:nvPr/>
        </p:nvGraphicFramePr>
        <p:xfrm>
          <a:off x="4805280" y="4605480"/>
          <a:ext cx="114480" cy="17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Object 9727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5280" y="46054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10" descr="http://t0.gstatic.com/images?q=tbn:ANd9GcQbbl_HAYxU362Tra3oHju1l4Jk70hxmtdtW-qCsFP4J9PF2KsC"/>
          <p:cNvPicPr/>
          <p:nvPr/>
        </p:nvPicPr>
        <p:blipFill>
          <a:blip r:embed="rId9"/>
          <a:stretch/>
        </p:blipFill>
        <p:spPr>
          <a:xfrm>
            <a:off x="7797960" y="3137040"/>
            <a:ext cx="1346040" cy="58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10"/>
          <a:stretch/>
        </p:blipFill>
        <p:spPr>
          <a:xfrm>
            <a:off x="2362320" y="1940040"/>
            <a:ext cx="4545000" cy="164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11"/>
          <a:stretch/>
        </p:blipFill>
        <p:spPr>
          <a:xfrm>
            <a:off x="4278240" y="2468520"/>
            <a:ext cx="417600" cy="900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2"/>
          <p:cNvSpPr/>
          <p:nvPr/>
        </p:nvSpPr>
        <p:spPr>
          <a:xfrm>
            <a:off x="4671720" y="25639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2"/>
          <a:stretch/>
        </p:blipFill>
        <p:spPr>
          <a:xfrm>
            <a:off x="4741920" y="4268880"/>
            <a:ext cx="4014720" cy="144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13"/>
          <a:stretch/>
        </p:blipFill>
        <p:spPr>
          <a:xfrm>
            <a:off x="6116760" y="476892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54" descr=""/>
          <p:cNvPicPr/>
          <p:nvPr/>
        </p:nvPicPr>
        <p:blipFill>
          <a:blip r:embed="rId14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92320" y="15462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5"/>
          <p:cNvSpPr/>
          <p:nvPr/>
        </p:nvSpPr>
        <p:spPr>
          <a:xfrm>
            <a:off x="3479760" y="403848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Semi-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http://t2.gstatic.com/images?q=tbn:ANd9GcRVhWSvl1rZtdHH37NwFmaVUYEHKwgOIyzLs3ICfgyozeQ7v_f4qg"/>
          <p:cNvPicPr/>
          <p:nvPr/>
        </p:nvPicPr>
        <p:blipFill>
          <a:blip r:embed="rId15"/>
          <a:stretch/>
        </p:blipFill>
        <p:spPr>
          <a:xfrm>
            <a:off x="6267600" y="5603760"/>
            <a:ext cx="963360" cy="7714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2702880" y="340056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(Lorentz)dipole oscilla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1-28T12:35:15Z</dcterms:modified>
  <cp:revision>443</cp:revision>
  <dc:subject>Physics 272H, Spring 2007</dc:subject>
  <dc:title>Lecture 2</dc:title>
</cp:coreProperties>
</file>