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91.png" ContentType="image/png"/>
  <Override PartName="/ppt/media/image89.png" ContentType="image/png"/>
  <Override PartName="/ppt/media/image77.png" ContentType="image/png"/>
  <Override PartName="/ppt/media/image90.png" ContentType="image/png"/>
  <Override PartName="/ppt/media/image11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8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21.png" ContentType="image/png"/>
  <Override PartName="/ppt/media/image58.png" ContentType="image/png"/>
  <Override PartName="/ppt/media/image18.jpeg" ContentType="image/jpeg"/>
  <Override PartName="/ppt/media/image73.jpeg" ContentType="image/jpeg"/>
  <Override PartName="/ppt/media/image24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B821D-7564-46CB-A29A-6DDE5BA8C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24A3C-ED5C-46FD-B7A7-EDC178B3823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ubs.rsc.org/en/content/articlelanding/2011/cs/c0cs00184h#!div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BA7BF-3406-4BF2-AD78-72274312F5F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310-0D89-4239-8D46-31FBCFA4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647-CA6B-4897-9FAF-5FD1A561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58A-9912-4B04-9EB3-5635E405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CBF-5E50-4737-9684-46D1AF46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7BD-50E1-4F51-9748-203CF3AC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C1A-3C57-4D41-BA60-F125FB97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A31-4DAA-44B7-846B-741C64CE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FE0-9D6B-4411-AD5D-EC474371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1DB-D84D-4CCC-9730-460EA132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A2B-ABEA-4D78-A8D6-65C2E27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D05-48D0-4E17-9D56-754073B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95E-8822-4AB2-9DC5-0FE0D91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5350-D51A-457F-A8D7-F5D3281D20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10C6-F7E9-477F-B875-00E4A219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yongchen@purdue.edu)      Lecture 5     (1/26/2016)         Slide </a:t>
            </a:r>
            <a:fld id="{139C4858-C73D-40B0-94E1-13B27A32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2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3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4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5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5.wm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jpeg"/><Relationship Id="rId10" Type="http://schemas.openxmlformats.org/officeDocument/2006/relationships/image" Target="../media/image32.png"/><Relationship Id="rId11" Type="http://schemas.openxmlformats.org/officeDocument/2006/relationships/image" Target="../media/image28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rocesses in Solids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ors Pi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Chap 1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assical L-M interaction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Lorentz dipole oscillator mode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2456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6226200" y="5754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mplest p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-70560" y="624852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mage/slides from M.Fox FS no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511440" y="25146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b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pplies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4102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8229600" cy="5372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2960" y="11574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Powerful mechanical an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of L-M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-274680" y="26859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989640" y="32432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65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93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5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504720" y="1219320"/>
            <a:ext cx="8134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333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800600" y="3265560"/>
            <a:ext cx="4343400" cy="3270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8720" y="6013440"/>
            <a:ext cx="37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te: neglected external broadening eg. Doppl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sc. strength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ressio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electromagnetic induced transparency) &amp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low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038480" y="1009800"/>
            <a:ext cx="1676520" cy="107604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3" descr=""/>
          <p:cNvPicPr/>
          <p:nvPr/>
        </p:nvPicPr>
        <p:blipFill>
          <a:blip r:embed="rId3"/>
          <a:stretch/>
        </p:blipFill>
        <p:spPr>
          <a:xfrm>
            <a:off x="5724360" y="1335240"/>
            <a:ext cx="2992680" cy="80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t2.gstatic.com/images?q=tbn:ANd9GcQn86S1XAOdF5gMOPGFP7tH626ZuJ_isXoAaM_rrwCDLr5Uubb7zw"/>
          <p:cNvPicPr/>
          <p:nvPr/>
        </p:nvPicPr>
        <p:blipFill>
          <a:blip r:embed="rId4"/>
          <a:stretch/>
        </p:blipFill>
        <p:spPr>
          <a:xfrm>
            <a:off x="274680" y="3809880"/>
            <a:ext cx="3962520" cy="2548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981080" y="3809880"/>
            <a:ext cx="2590920" cy="27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Cycling at the speed of light?"/>
          <p:cNvPicPr/>
          <p:nvPr/>
        </p:nvPicPr>
        <p:blipFill>
          <a:blip r:embed="rId5"/>
          <a:stretch/>
        </p:blipFill>
        <p:spPr>
          <a:xfrm>
            <a:off x="2440080" y="3905280"/>
            <a:ext cx="1673280" cy="235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t3.gstatic.com/images?q=tbn:ANd9GcRgU2cxQl3T2EgjvLu_gSahEA8UwlErH_Cvnow0SsKi-j_Ulxo4gQ"/>
          <p:cNvPicPr/>
          <p:nvPr/>
        </p:nvPicPr>
        <p:blipFill>
          <a:blip r:embed="rId6"/>
          <a:stretch/>
        </p:blipFill>
        <p:spPr>
          <a:xfrm>
            <a:off x="5927760" y="419112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5990760" y="591192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op light /quantu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7"/>
          <a:stretch/>
        </p:blipFill>
        <p:spPr>
          <a:xfrm>
            <a:off x="4191120" y="480060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8534520" cy="385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836640"/>
            <a:ext cx="456264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-380880" y="914400"/>
            <a:ext cx="26715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743200" y="914400"/>
            <a:ext cx="5581800" cy="60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5189760" y="15238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uman princi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105760" cy="4972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41040" y="60390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so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657600" y="3048120"/>
            <a:ext cx="700200" cy="504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describe the image"/>
          <p:cNvPicPr/>
          <p:nvPr/>
        </p:nvPicPr>
        <p:blipFill>
          <a:blip r:embed="rId1"/>
          <a:stretch/>
        </p:blipFill>
        <p:spPr>
          <a:xfrm>
            <a:off x="3851280" y="2157480"/>
            <a:ext cx="5369040" cy="4143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59770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age credits: http://photodigm.com/literature/applications-notes/rubidium-absorption-spectroscop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teachspin.com/instruments/diode_laser/experiment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http://www.teachspin.com/instruments/diode_laser/diode_laser_expt1.gif"/>
          <p:cNvPicPr/>
          <p:nvPr/>
        </p:nvPicPr>
        <p:blipFill>
          <a:blip r:embed="rId2"/>
          <a:stretch/>
        </p:blipFill>
        <p:spPr>
          <a:xfrm>
            <a:off x="4619520" y="1239840"/>
            <a:ext cx="4372200" cy="102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www.teachspin.com/instruments/diode_laser/experiments_clip_image001_0000.gif"/>
          <p:cNvPicPr/>
          <p:nvPr/>
        </p:nvPicPr>
        <p:blipFill>
          <a:blip r:embed="rId3"/>
          <a:stretch/>
        </p:blipFill>
        <p:spPr>
          <a:xfrm>
            <a:off x="14400" y="2819520"/>
            <a:ext cx="4535280" cy="2752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346040" y="24940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b energy lev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7245360" y="5757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780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09560" y="690480"/>
            <a:ext cx="77248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36480" y="1066680"/>
            <a:ext cx="7489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79320" y="593640"/>
            <a:ext cx="8480520" cy="5575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46440" y="5486400"/>
            <a:ext cx="5272560" cy="825480"/>
          </a:xfrm>
          <a:prstGeom prst="rect">
            <a:avLst/>
          </a:prstGeom>
          <a:solidFill>
            <a:srgbClr val="f6f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e: K-K is much more general, for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e function”, related to 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76320" y="6259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2.fkf.mpg.de/keimer/lecture/Solid_State_Spectroscopy_Ulrich/Kap_3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480" y="1295280"/>
            <a:ext cx="6248160" cy="5316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6059520" y="3408480"/>
            <a:ext cx="3114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sotropic crystal &amp; birefrin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99104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5181480" y="1662120"/>
            <a:ext cx="2733840" cy="1057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2280" y="3503520"/>
            <a:ext cx="5715000" cy="305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809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54040" y="853920"/>
            <a:ext cx="8970840" cy="560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7000" y="2895480"/>
            <a:ext cx="4210200" cy="216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18600" y="9907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lator (semicon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(insulat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3900600"/>
            <a:ext cx="7772400" cy="23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0520" y="2590920"/>
            <a:ext cx="1513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57720" y="838080"/>
            <a:ext cx="4886280" cy="372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3209760" cy="14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 result for ruby"/>
          <p:cNvPicPr/>
          <p:nvPr/>
        </p:nvPicPr>
        <p:blipFill>
          <a:blip r:embed="rId3"/>
          <a:stretch/>
        </p:blipFill>
        <p:spPr>
          <a:xfrm>
            <a:off x="2138400" y="2597040"/>
            <a:ext cx="2190600" cy="122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www.patentlyapple.com/.a/6a0120a5580826970c017ee999eea8970d-800wi"/>
          <p:cNvPicPr/>
          <p:nvPr/>
        </p:nvPicPr>
        <p:blipFill>
          <a:blip r:embed="rId4"/>
          <a:stretch/>
        </p:blipFill>
        <p:spPr>
          <a:xfrm>
            <a:off x="0" y="1506600"/>
            <a:ext cx="2174760" cy="2181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595760" y="6257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ebexhibits.org/causesofcolor/8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1636560" cy="16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6"/>
          <a:stretch/>
        </p:blipFill>
        <p:spPr>
          <a:xfrm>
            <a:off x="0" y="3824280"/>
            <a:ext cx="3024360" cy="27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http://www.gia.edu/cs/Satellite?blobcol=gfile&amp;blobheader=image%2Fjpeg&amp;blobkey=id&amp;blobtable=GIA_MediaFile&amp;blobwhere=1355964005427&amp;ssbinary=true"/>
          <p:cNvPicPr/>
          <p:nvPr/>
        </p:nvPicPr>
        <p:blipFill>
          <a:blip r:embed="rId7"/>
          <a:stretch/>
        </p:blipFill>
        <p:spPr>
          <a:xfrm>
            <a:off x="2895480" y="4519440"/>
            <a:ext cx="2454480" cy="1381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079800" y="6146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gia.edu/gems-gemology/WN13-Karampelas-Blue-Sapphires-Mog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4920" y="6843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ed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57560" y="1905120"/>
            <a:ext cx="5086440" cy="356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081760" y="5467320"/>
            <a:ext cx="3038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145040" y="1447920"/>
            <a:ext cx="4971960" cy="36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876920" y="5154480"/>
            <a:ext cx="38019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95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9727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8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05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4"/>
          <p:cNvGraphicFramePr/>
          <p:nvPr/>
        </p:nvGraphicFramePr>
        <p:xfrm>
          <a:off x="4495680" y="4943520"/>
          <a:ext cx="1144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Object 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494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1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12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13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extBox 27" descr=""/>
          <p:cNvPicPr/>
          <p:nvPr/>
        </p:nvPicPr>
        <p:blipFill>
          <a:blip r:embed="rId14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28" descr=""/>
          <p:cNvPicPr/>
          <p:nvPr/>
        </p:nvPicPr>
        <p:blipFill>
          <a:blip r:embed="rId15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97279"/>
          <p:cNvGraphicFramePr/>
          <p:nvPr/>
        </p:nvGraphicFramePr>
        <p:xfrm>
          <a:off x="457200" y="459900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59900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" descr="http://t0.gstatic.com/images?q=tbn:ANd9GcQbbl_HAYxU362Tra3oHju1l4Jk70hxmtdtW-qCsFP4J9PF2KsC"/>
          <p:cNvPicPr/>
          <p:nvPr/>
        </p:nvPicPr>
        <p:blipFill>
          <a:blip r:embed="rId4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27" descr=""/>
          <p:cNvPicPr/>
          <p:nvPr/>
        </p:nvPicPr>
        <p:blipFill>
          <a:blip r:embed="rId6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97279"/>
          <p:cNvGraphicFramePr/>
          <p:nvPr/>
        </p:nvGraphicFramePr>
        <p:xfrm>
          <a:off x="4805280" y="4605480"/>
          <a:ext cx="114480" cy="17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972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5280" y="46054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10" descr="http://t0.gstatic.com/images?q=tbn:ANd9GcQbbl_HAYxU362Tra3oHju1l4Jk70hxmtdtW-qCsFP4J9PF2KsC"/>
          <p:cNvPicPr/>
          <p:nvPr/>
        </p:nvPicPr>
        <p:blipFill>
          <a:blip r:embed="rId9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10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11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2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13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54" descr=""/>
          <p:cNvPicPr/>
          <p:nvPr/>
        </p:nvPicPr>
        <p:blipFill>
          <a:blip r:embed="rId14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http://t2.gstatic.com/images?q=tbn:ANd9GcRVhWSvl1rZtdHH37NwFmaVUYEHKwgOIyzLs3ICfgyozeQ7v_f4qg"/>
          <p:cNvPicPr/>
          <p:nvPr/>
        </p:nvPicPr>
        <p:blipFill>
          <a:blip r:embed="rId15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5:15Z</dcterms:modified>
  <cp:revision>443</cp:revision>
  <dc:subject>Physics 272H, Spring 2007</dc:subject>
  <dc:title>Lecture 2</dc:title>
</cp:coreProperties>
</file>