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0.jpeg" ContentType="image/jpeg"/>
  <Override PartName="/ppt/media/image51.png" ContentType="image/png"/>
  <Override PartName="/ppt/media/image49.wmf" ContentType="image/x-wmf"/>
  <Override PartName="/ppt/media/image47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54.png" ContentType="image/png"/>
  <Override PartName="/ppt/media/image48.png" ContentType="image/png"/>
  <Override PartName="/ppt/media/image11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58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73.png" ContentType="image/png"/>
  <Override PartName="/ppt/media/image71.png" ContentType="image/png"/>
  <Override PartName="/ppt/media/image69.wmf" ContentType="image/x-wmf"/>
  <Override PartName="/ppt/media/image29.png" ContentType="image/png"/>
  <Override PartName="/ppt/media/image23.png" ContentType="image/png"/>
  <Override PartName="/ppt/media/image10.jpeg" ContentType="image/jpe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65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jpeg" ContentType="image/jpeg"/>
  <Override PartName="/ppt/media/image64.png" ContentType="image/png"/>
  <Override PartName="/ppt/media/image27.png" ContentType="image/png"/>
  <Override PartName="/ppt/media/image61.png" ContentType="image/png"/>
  <Override PartName="/ppt/media/image5.jpeg" ContentType="image/jpeg"/>
  <Override PartName="/ppt/media/image7.jpeg" ContentType="image/jpeg"/>
  <Override PartName="/ppt/media/image16.png" ContentType="image/png"/>
  <Override PartName="/ppt/media/image4.png" ContentType="image/png"/>
  <Override PartName="/ppt/media/image38.jpeg" ContentType="image/jpeg"/>
  <Override PartName="/ppt/media/image72.png" ContentType="image/png"/>
  <Override PartName="/ppt/media/image26.png" ContentType="image/png"/>
  <Override PartName="/ppt/media/image8.jpeg" ContentType="image/jpeg"/>
  <Override PartName="/ppt/media/image9.jpeg" ContentType="image/jpeg"/>
  <Override PartName="/ppt/media/image36.png" ContentType="image/png"/>
  <Override PartName="/ppt/media/image57.png" ContentType="image/png"/>
  <Override PartName="/ppt/media/image37.jpeg" ContentType="image/jpeg"/>
  <Override PartName="/ppt/media/image20.png" ContentType="image/png"/>
  <Override PartName="/ppt/media/image42.jpeg" ContentType="image/jpeg"/>
  <Override PartName="/ppt/media/image6.png" ContentType="image/png"/>
  <Override PartName="/ppt/media/image18.png" ContentType="image/png"/>
  <Override PartName="/ppt/media/image12.png" ContentType="image/png"/>
  <Override PartName="/ppt/media/image1.png" ContentType="image/png"/>
  <Override PartName="/ppt/media/image13.png" ContentType="image/png"/>
  <Override PartName="/ppt/media/image31.jpeg" ContentType="image/jpeg"/>
  <Override PartName="/ppt/media/image34.jpeg" ContentType="image/jpeg"/>
  <Override PartName="/ppt/media/image35.png" ContentType="image/png"/>
  <Override PartName="/ppt/media/image39.png" ContentType="image/png"/>
  <Override PartName="/ppt/media/image40.png" ContentType="image/png"/>
  <Override PartName="/ppt/media/image41.jpeg" ContentType="image/jpeg"/>
  <Override PartName="/ppt/media/image6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A704-317B-41D1-81A0-27224E79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1241-87F5-44E7-9143-5783CF18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1240-AC65-4344-A1F4-051EA9D0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DD08-A098-41DF-BDEF-1C8616D8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04B0-8517-4D5C-9207-DC1AE780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74EE-15ED-404F-89E8-623B6E66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59D5-E67D-4A8A-A5D1-CC3655B2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7F6E-B7DD-4CD3-8A76-B72DACBA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A018-3057-4070-9D47-A5FCF566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789D-DB6B-43BE-9E61-082F10BE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FDAD-BD73-445F-AD90-C3F9D281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672C-648F-4CAA-9407-BF00F0EB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6027-589D-4E71-B461-AE07D174293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7A5A-2D9C-45BE-91AC-BB7F01D2A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4     (1/21/2016)         Slide </a:t>
            </a:r>
            <a:fld id="{EBA0DB4C-AB73-4CFA-B18B-10880AD1A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9.wmf"/><Relationship Id="rId5" Type="http://schemas.openxmlformats.org/officeDocument/2006/relationships/image" Target="../media/image50.jpeg"/><Relationship Id="rId6" Type="http://schemas.openxmlformats.org/officeDocument/2006/relationships/image" Target="../media/image50.jpeg"/><Relationship Id="rId7" Type="http://schemas.openxmlformats.org/officeDocument/2006/relationships/image" Target="../media/image48.png"/><Relationship Id="rId8" Type="http://schemas.openxmlformats.org/officeDocument/2006/relationships/image" Target="../media/image49.wmf"/><Relationship Id="rId9" Type="http://schemas.openxmlformats.org/officeDocument/2006/relationships/image" Target="../media/image51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image" Target="../media/image53.png"/><Relationship Id="rId13" Type="http://schemas.openxmlformats.org/officeDocument/2006/relationships/image" Target="../media/image54.pn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wmf"/><Relationship Id="rId3" Type="http://schemas.openxmlformats.org/officeDocument/2006/relationships/image" Target="../media/image50.jpeg"/><Relationship Id="rId4" Type="http://schemas.openxmlformats.org/officeDocument/2006/relationships/image" Target="../media/image52.png"/><Relationship Id="rId5" Type="http://schemas.openxmlformats.org/officeDocument/2006/relationships/image" Target="../media/image55.png"/><Relationship Id="rId6" Type="http://schemas.openxmlformats.org/officeDocument/2006/relationships/image" Target="../media/image49.wmf"/><Relationship Id="rId7" Type="http://schemas.openxmlformats.org/officeDocument/2006/relationships/image" Target="../media/image50.jpeg"/><Relationship Id="rId8" Type="http://schemas.openxmlformats.org/officeDocument/2006/relationships/image" Target="../media/image56.png"/><Relationship Id="rId9" Type="http://schemas.openxmlformats.org/officeDocument/2006/relationships/image" Target="../media/image52.png"/><Relationship Id="rId10" Type="http://schemas.openxmlformats.org/officeDocument/2006/relationships/image" Target="../media/image57.png"/><Relationship Id="rId11" Type="http://schemas.openxmlformats.org/officeDocument/2006/relationships/image" Target="../media/image58.png"/><Relationship Id="rId12" Type="http://schemas.openxmlformats.org/officeDocument/2006/relationships/image" Target="../media/image59.png"/><Relationship Id="rId13" Type="http://schemas.openxmlformats.org/officeDocument/2006/relationships/image" Target="../media/image60.jpeg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image" Target="../media/image69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16.png"/><Relationship Id="rId11" Type="http://schemas.openxmlformats.org/officeDocument/2006/relationships/image" Target="../media/image26.png"/><Relationship Id="rId12" Type="http://schemas.openxmlformats.org/officeDocument/2006/relationships/image" Target="../media/image18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jpe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jpe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s in Crystalline Sol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ey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4043520" y="15238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ect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2463480" y="1143000"/>
            <a:ext cx="474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f band varies with sp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167400" y="3330720"/>
            <a:ext cx="414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unction, quantum well/wire/d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D quantum mechanic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terband tunn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1"/>
          <a:stretch/>
        </p:blipFill>
        <p:spPr>
          <a:xfrm>
            <a:off x="6013440" y="2293920"/>
            <a:ext cx="1940040" cy="28195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5715000" y="2133720"/>
            <a:ext cx="251460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981760" y="4065480"/>
            <a:ext cx="2514600" cy="104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5776920" y="4484520"/>
            <a:ext cx="2390760" cy="19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©2008 </a:t>
            </a:r>
            <a:r>
              <a:rPr b="0" lang="en-US" sz="1400" spc="-1" strike="noStrike">
                <a:solidFill>
                  <a:srgbClr val="000000"/>
                </a:solidFill>
                <a:latin typeface="Palatino-Roman"/>
                <a:ea typeface="MS PGothic"/>
              </a:rPr>
              <a:t>by W.H. Freeman and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2" descr="C:\Documents and Settings\Pedram\Desktop\Arts\gallery\ch08\figure_08_31.jpg"/>
          <p:cNvPicPr/>
          <p:nvPr/>
        </p:nvPicPr>
        <p:blipFill>
          <a:blip r:embed="rId1"/>
          <a:stretch/>
        </p:blipFill>
        <p:spPr>
          <a:xfrm>
            <a:off x="723960" y="979560"/>
            <a:ext cx="76262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©2008 </a:t>
            </a:r>
            <a:r>
              <a:rPr b="0" lang="en-US" sz="1400" spc="-1" strike="noStrike">
                <a:solidFill>
                  <a:srgbClr val="000000"/>
                </a:solidFill>
                <a:latin typeface="Palatino-Roman"/>
                <a:ea typeface="MS PGothic"/>
              </a:rPr>
              <a:t>by W.H. Freeman and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C:\Documents and Settings\Pedram\Desktop\Arts\gallery\ch08\figure_08_32.jpg"/>
          <p:cNvPicPr/>
          <p:nvPr/>
        </p:nvPicPr>
        <p:blipFill>
          <a:blip r:embed="rId1"/>
          <a:stretch/>
        </p:blipFill>
        <p:spPr>
          <a:xfrm>
            <a:off x="623880" y="741240"/>
            <a:ext cx="762336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07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ght-Matter Inter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2957400" y="3151080"/>
            <a:ext cx="3886200" cy="2210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ight Arrow 4"/>
          <p:cNvSpPr/>
          <p:nvPr/>
        </p:nvSpPr>
        <p:spPr>
          <a:xfrm>
            <a:off x="762120" y="4025880"/>
            <a:ext cx="3338280" cy="72396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ight Arrow 5"/>
          <p:cNvSpPr/>
          <p:nvPr/>
        </p:nvSpPr>
        <p:spPr>
          <a:xfrm>
            <a:off x="5715000" y="4025880"/>
            <a:ext cx="3338640" cy="72396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Down Arrow 6"/>
          <p:cNvSpPr/>
          <p:nvPr/>
        </p:nvSpPr>
        <p:spPr>
          <a:xfrm>
            <a:off x="4633920" y="2106720"/>
            <a:ext cx="533520" cy="15238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Down Arrow 7"/>
          <p:cNvSpPr/>
          <p:nvPr/>
        </p:nvSpPr>
        <p:spPr>
          <a:xfrm>
            <a:off x="4654440" y="5105520"/>
            <a:ext cx="515880" cy="144756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768240" y="379584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ght (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7252560" y="37670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ght (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5000040" y="203040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 (light or other partic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5125680" y="604512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Y (light or other partic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11520" y="1343160"/>
            <a:ext cx="47221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Quantum optics 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(broadly defined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Light (radiation) &amp; light-matter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where quantum physics ma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MS PGothic"/>
              </a:rPr>
              <a:t>[further generalization: extend from light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MS PGothic"/>
              </a:rPr>
              <a:t>other waves (including matter/particle waves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-22680" y="5614920"/>
            <a:ext cx="392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Quantum photonics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(broadly defined)“Quantum optics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applications &amp;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5330880" y="116856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light cannot be studied al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8280" y="293220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ad: FQ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182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38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ent Levels of “quantum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3533760" cy="3743280"/>
          </a:xfrm>
          <a:prstGeom prst="rect">
            <a:avLst/>
          </a:prstGeom>
          <a:ln w="0">
            <a:noFill/>
          </a:ln>
        </p:spPr>
      </p:pic>
      <p:sp>
        <p:nvSpPr>
          <p:cNvPr id="177" name="Rounded Rectangle 3"/>
          <p:cNvSpPr/>
          <p:nvPr/>
        </p:nvSpPr>
        <p:spPr>
          <a:xfrm>
            <a:off x="-6480" y="4876920"/>
            <a:ext cx="3581640" cy="695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4572000" y="1365120"/>
            <a:ext cx="3780000" cy="1365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3"/>
          <a:stretch/>
        </p:blipFill>
        <p:spPr>
          <a:xfrm>
            <a:off x="4572000" y="3048120"/>
            <a:ext cx="3780000" cy="1366560"/>
          </a:xfrm>
          <a:prstGeom prst="rect">
            <a:avLst/>
          </a:prstGeom>
          <a:ln w="0">
            <a:noFill/>
          </a:ln>
        </p:spPr>
      </p:pic>
      <p:sp>
        <p:nvSpPr>
          <p:cNvPr id="180" name="Oval 4"/>
          <p:cNvSpPr/>
          <p:nvPr/>
        </p:nvSpPr>
        <p:spPr>
          <a:xfrm>
            <a:off x="5791320" y="3433680"/>
            <a:ext cx="1295280" cy="909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traight Connector 21"/>
          <p:cNvSpPr/>
          <p:nvPr/>
        </p:nvSpPr>
        <p:spPr>
          <a:xfrm>
            <a:off x="5867280" y="37069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traight Connector 26"/>
          <p:cNvSpPr/>
          <p:nvPr/>
        </p:nvSpPr>
        <p:spPr>
          <a:xfrm>
            <a:off x="5867280" y="41148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Object 97279" descr=""/>
          <p:cNvPicPr/>
          <p:nvPr/>
        </p:nvPicPr>
        <p:blipFill>
          <a:blip r:embed="rId4"/>
          <a:stretch/>
        </p:blipFill>
        <p:spPr>
          <a:xfrm>
            <a:off x="4514760" y="3338640"/>
            <a:ext cx="114480" cy="177840"/>
          </a:xfrm>
          <a:prstGeom prst="rect">
            <a:avLst/>
          </a:prstGeom>
          <a:ln w="0">
            <a:noFill/>
          </a:ln>
        </p:spPr>
      </p:pic>
      <p:sp>
        <p:nvSpPr>
          <p:cNvPr id="184" name="Freeform 97280"/>
          <p:cNvSpPr/>
          <p:nvPr/>
        </p:nvSpPr>
        <p:spPr>
          <a:xfrm flipH="1">
            <a:off x="6392880" y="3706920"/>
            <a:ext cx="46080" cy="407880"/>
          </a:xfrm>
          <a:custGeom>
            <a:avLst/>
            <a:gdLst/>
            <a:ahLst/>
            <a:rect l="l" t="t" r="r" b="b"/>
            <a:pathLst>
              <a:path w="291746" h="1510145">
                <a:moveTo>
                  <a:pt x="55936" y="1510145"/>
                </a:moveTo>
                <a:cubicBezTo>
                  <a:pt x="177163" y="1420090"/>
                  <a:pt x="298390" y="1330036"/>
                  <a:pt x="291463" y="1246909"/>
                </a:cubicBezTo>
                <a:cubicBezTo>
                  <a:pt x="284536" y="1163782"/>
                  <a:pt x="16681" y="1087581"/>
                  <a:pt x="14372" y="1011381"/>
                </a:cubicBezTo>
                <a:cubicBezTo>
                  <a:pt x="12063" y="935181"/>
                  <a:pt x="279918" y="861291"/>
                  <a:pt x="277609" y="789709"/>
                </a:cubicBezTo>
                <a:cubicBezTo>
                  <a:pt x="275300" y="718127"/>
                  <a:pt x="12064" y="653473"/>
                  <a:pt x="518" y="581891"/>
                </a:cubicBezTo>
                <a:cubicBezTo>
                  <a:pt x="-11028" y="510309"/>
                  <a:pt x="173700" y="457200"/>
                  <a:pt x="208336" y="360218"/>
                </a:cubicBezTo>
                <a:cubicBezTo>
                  <a:pt x="242972" y="263236"/>
                  <a:pt x="208336" y="0"/>
                  <a:pt x="208336" y="0"/>
                </a:cubicBezTo>
                <a:lnTo>
                  <a:pt x="208336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10" descr="http://t0.gstatic.com/images?q=tbn:ANd9GcQbbl_HAYxU362Tra3oHju1l4Jk70hxmtdtW-qCsFP4J9PF2KsC"/>
          <p:cNvPicPr/>
          <p:nvPr/>
        </p:nvPicPr>
        <p:blipFill>
          <a:blip r:embed="rId5"/>
          <a:stretch/>
        </p:blipFill>
        <p:spPr>
          <a:xfrm>
            <a:off x="3809880" y="2678040"/>
            <a:ext cx="1346400" cy="588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http://t0.gstatic.com/images?q=tbn:ANd9GcQbbl_HAYxU362Tra3oHju1l4Jk70hxmtdtW-qCsFP4J9PF2KsC"/>
          <p:cNvPicPr/>
          <p:nvPr/>
        </p:nvPicPr>
        <p:blipFill>
          <a:blip r:embed="rId6"/>
          <a:stretch/>
        </p:blipFill>
        <p:spPr>
          <a:xfrm>
            <a:off x="7678800" y="2637000"/>
            <a:ext cx="1346040" cy="588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7"/>
          <a:stretch/>
        </p:blipFill>
        <p:spPr>
          <a:xfrm>
            <a:off x="4552920" y="4653000"/>
            <a:ext cx="3780000" cy="1366920"/>
          </a:xfrm>
          <a:prstGeom prst="rect">
            <a:avLst/>
          </a:prstGeom>
          <a:ln w="0">
            <a:noFill/>
          </a:ln>
        </p:spPr>
      </p:pic>
      <p:sp>
        <p:nvSpPr>
          <p:cNvPr id="189" name="Oval 41"/>
          <p:cNvSpPr/>
          <p:nvPr/>
        </p:nvSpPr>
        <p:spPr>
          <a:xfrm>
            <a:off x="5772240" y="5040360"/>
            <a:ext cx="1295280" cy="907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traight Connector 42"/>
          <p:cNvSpPr/>
          <p:nvPr/>
        </p:nvSpPr>
        <p:spPr>
          <a:xfrm>
            <a:off x="5848200" y="53118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traight Connector 43"/>
          <p:cNvSpPr/>
          <p:nvPr/>
        </p:nvSpPr>
        <p:spPr>
          <a:xfrm>
            <a:off x="5848200" y="57196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Object 44" descr=""/>
          <p:cNvPicPr/>
          <p:nvPr/>
        </p:nvPicPr>
        <p:blipFill>
          <a:blip r:embed="rId8"/>
          <a:stretch/>
        </p:blipFill>
        <p:spPr>
          <a:xfrm>
            <a:off x="4495680" y="4943520"/>
            <a:ext cx="114480" cy="177840"/>
          </a:xfrm>
          <a:prstGeom prst="rect">
            <a:avLst/>
          </a:prstGeom>
          <a:ln w="0">
            <a:noFill/>
          </a:ln>
        </p:spPr>
      </p:pic>
      <p:sp>
        <p:nvSpPr>
          <p:cNvPr id="193" name="Freeform 45"/>
          <p:cNvSpPr/>
          <p:nvPr/>
        </p:nvSpPr>
        <p:spPr>
          <a:xfrm flipH="1">
            <a:off x="6373800" y="5311800"/>
            <a:ext cx="46080" cy="407880"/>
          </a:xfrm>
          <a:custGeom>
            <a:avLst/>
            <a:gdLst/>
            <a:ahLst/>
            <a:rect l="l" t="t" r="r" b="b"/>
            <a:pathLst>
              <a:path w="291746" h="1510145">
                <a:moveTo>
                  <a:pt x="55936" y="1510145"/>
                </a:moveTo>
                <a:cubicBezTo>
                  <a:pt x="177163" y="1420090"/>
                  <a:pt x="298390" y="1330036"/>
                  <a:pt x="291463" y="1246909"/>
                </a:cubicBezTo>
                <a:cubicBezTo>
                  <a:pt x="284536" y="1163782"/>
                  <a:pt x="16681" y="1087581"/>
                  <a:pt x="14372" y="1011381"/>
                </a:cubicBezTo>
                <a:cubicBezTo>
                  <a:pt x="12063" y="935181"/>
                  <a:pt x="279918" y="861291"/>
                  <a:pt x="277609" y="789709"/>
                </a:cubicBezTo>
                <a:cubicBezTo>
                  <a:pt x="275300" y="718127"/>
                  <a:pt x="12064" y="653473"/>
                  <a:pt x="518" y="581891"/>
                </a:cubicBezTo>
                <a:cubicBezTo>
                  <a:pt x="-11028" y="510309"/>
                  <a:pt x="173700" y="457200"/>
                  <a:pt x="208336" y="360218"/>
                </a:cubicBezTo>
                <a:cubicBezTo>
                  <a:pt x="242972" y="263236"/>
                  <a:pt x="208336" y="0"/>
                  <a:pt x="208336" y="0"/>
                </a:cubicBezTo>
                <a:lnTo>
                  <a:pt x="208336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3" descr=""/>
          <p:cNvPicPr/>
          <p:nvPr/>
        </p:nvPicPr>
        <p:blipFill>
          <a:blip r:embed="rId9"/>
          <a:stretch/>
        </p:blipFill>
        <p:spPr>
          <a:xfrm>
            <a:off x="4437000" y="5572080"/>
            <a:ext cx="719280" cy="438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"/>
          <p:cNvPicPr/>
          <p:nvPr/>
        </p:nvPicPr>
        <p:blipFill>
          <a:blip r:embed="rId10"/>
          <a:stretch/>
        </p:blipFill>
        <p:spPr>
          <a:xfrm>
            <a:off x="7585200" y="5622840"/>
            <a:ext cx="718920" cy="438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11"/>
          <a:stretch/>
        </p:blipFill>
        <p:spPr>
          <a:xfrm>
            <a:off x="6248520" y="1752480"/>
            <a:ext cx="417240" cy="9003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"/>
          <p:cNvSpPr/>
          <p:nvPr/>
        </p:nvSpPr>
        <p:spPr>
          <a:xfrm>
            <a:off x="6648120" y="1828800"/>
            <a:ext cx="43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TextBox 27" descr=""/>
          <p:cNvPicPr/>
          <p:nvPr/>
        </p:nvPicPr>
        <p:blipFill>
          <a:blip r:embed="rId12"/>
          <a:stretch/>
        </p:blipFill>
        <p:spPr>
          <a:xfrm>
            <a:off x="6400800" y="3693960"/>
            <a:ext cx="596880" cy="401760"/>
          </a:xfrm>
          <a:prstGeom prst="rect">
            <a:avLst/>
          </a:prstGeom>
          <a:ln w="0">
            <a:noFill/>
          </a:ln>
        </p:spPr>
      </p:pic>
      <p:pic>
        <p:nvPicPr>
          <p:cNvPr id="199" name="TextBox 28" descr=""/>
          <p:cNvPicPr/>
          <p:nvPr/>
        </p:nvPicPr>
        <p:blipFill>
          <a:blip r:embed="rId13"/>
          <a:stretch/>
        </p:blipFill>
        <p:spPr>
          <a:xfrm>
            <a:off x="6377040" y="5273640"/>
            <a:ext cx="59040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73040" y="52812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al &amp; Semiclassical L-M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514440" y="4308480"/>
            <a:ext cx="3779640" cy="1366920"/>
          </a:xfrm>
          <a:prstGeom prst="rect">
            <a:avLst/>
          </a:prstGeom>
          <a:ln w="0">
            <a:noFill/>
          </a:ln>
        </p:spPr>
      </p:pic>
      <p:sp>
        <p:nvSpPr>
          <p:cNvPr id="202" name="Oval 4"/>
          <p:cNvSpPr/>
          <p:nvPr/>
        </p:nvSpPr>
        <p:spPr>
          <a:xfrm>
            <a:off x="1733400" y="4694400"/>
            <a:ext cx="1295640" cy="909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traight Connector 21"/>
          <p:cNvSpPr/>
          <p:nvPr/>
        </p:nvSpPr>
        <p:spPr>
          <a:xfrm>
            <a:off x="1809720" y="49672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traight Connector 26"/>
          <p:cNvSpPr/>
          <p:nvPr/>
        </p:nvSpPr>
        <p:spPr>
          <a:xfrm>
            <a:off x="1809720" y="537516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Object 97279" descr=""/>
          <p:cNvPicPr/>
          <p:nvPr/>
        </p:nvPicPr>
        <p:blipFill>
          <a:blip r:embed="rId2"/>
          <a:stretch/>
        </p:blipFill>
        <p:spPr>
          <a:xfrm>
            <a:off x="457200" y="4599000"/>
            <a:ext cx="114480" cy="177840"/>
          </a:xfrm>
          <a:prstGeom prst="rect">
            <a:avLst/>
          </a:prstGeom>
          <a:ln w="0">
            <a:noFill/>
          </a:ln>
        </p:spPr>
      </p:pic>
      <p:sp>
        <p:nvSpPr>
          <p:cNvPr id="206" name="Freeform 97280"/>
          <p:cNvSpPr/>
          <p:nvPr/>
        </p:nvSpPr>
        <p:spPr>
          <a:xfrm flipH="1">
            <a:off x="2335320" y="4967280"/>
            <a:ext cx="46080" cy="407880"/>
          </a:xfrm>
          <a:custGeom>
            <a:avLst/>
            <a:gdLst/>
            <a:ahLst/>
            <a:rect l="l" t="t" r="r" b="b"/>
            <a:pathLst>
              <a:path w="291746" h="1510145">
                <a:moveTo>
                  <a:pt x="55936" y="1510145"/>
                </a:moveTo>
                <a:cubicBezTo>
                  <a:pt x="177163" y="1420090"/>
                  <a:pt x="298390" y="1330036"/>
                  <a:pt x="291463" y="1246909"/>
                </a:cubicBezTo>
                <a:cubicBezTo>
                  <a:pt x="284536" y="1163782"/>
                  <a:pt x="16681" y="1087581"/>
                  <a:pt x="14372" y="1011381"/>
                </a:cubicBezTo>
                <a:cubicBezTo>
                  <a:pt x="12063" y="935181"/>
                  <a:pt x="279918" y="861291"/>
                  <a:pt x="277609" y="789709"/>
                </a:cubicBezTo>
                <a:cubicBezTo>
                  <a:pt x="275300" y="718127"/>
                  <a:pt x="12064" y="653473"/>
                  <a:pt x="518" y="581891"/>
                </a:cubicBezTo>
                <a:cubicBezTo>
                  <a:pt x="-11028" y="510309"/>
                  <a:pt x="173700" y="457200"/>
                  <a:pt x="208336" y="360218"/>
                </a:cubicBezTo>
                <a:cubicBezTo>
                  <a:pt x="242972" y="263236"/>
                  <a:pt x="208336" y="0"/>
                  <a:pt x="208336" y="0"/>
                </a:cubicBezTo>
                <a:lnTo>
                  <a:pt x="208336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0" descr="http://t0.gstatic.com/images?q=tbn:ANd9GcQbbl_HAYxU362Tra3oHju1l4Jk70hxmtdtW-qCsFP4J9PF2KsC"/>
          <p:cNvPicPr/>
          <p:nvPr/>
        </p:nvPicPr>
        <p:blipFill>
          <a:blip r:embed="rId3"/>
          <a:stretch/>
        </p:blipFill>
        <p:spPr>
          <a:xfrm>
            <a:off x="73080" y="2992320"/>
            <a:ext cx="1346040" cy="588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4"/>
          <a:stretch/>
        </p:blipFill>
        <p:spPr>
          <a:xfrm>
            <a:off x="4425840" y="2468520"/>
            <a:ext cx="417600" cy="900000"/>
          </a:xfrm>
          <a:prstGeom prst="rect">
            <a:avLst/>
          </a:prstGeom>
          <a:ln w="0">
            <a:noFill/>
          </a:ln>
        </p:spPr>
      </p:pic>
      <p:pic>
        <p:nvPicPr>
          <p:cNvPr id="210" name="TextBox 27" descr=""/>
          <p:cNvPicPr/>
          <p:nvPr/>
        </p:nvPicPr>
        <p:blipFill>
          <a:blip r:embed="rId5"/>
          <a:stretch/>
        </p:blipFill>
        <p:spPr>
          <a:xfrm>
            <a:off x="2341440" y="4956120"/>
            <a:ext cx="596880" cy="397080"/>
          </a:xfrm>
          <a:prstGeom prst="rect">
            <a:avLst/>
          </a:prstGeom>
          <a:ln w="0">
            <a:noFill/>
          </a:ln>
        </p:spPr>
      </p:pic>
      <p:pic>
        <p:nvPicPr>
          <p:cNvPr id="211" name="Object 97279" descr=""/>
          <p:cNvPicPr/>
          <p:nvPr/>
        </p:nvPicPr>
        <p:blipFill>
          <a:blip r:embed="rId6"/>
          <a:stretch/>
        </p:blipFill>
        <p:spPr>
          <a:xfrm>
            <a:off x="4805280" y="4605480"/>
            <a:ext cx="114480" cy="1774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http://t0.gstatic.com/images?q=tbn:ANd9GcQbbl_HAYxU362Tra3oHju1l4Jk70hxmtdtW-qCsFP4J9PF2KsC"/>
          <p:cNvPicPr/>
          <p:nvPr/>
        </p:nvPicPr>
        <p:blipFill>
          <a:blip r:embed="rId7"/>
          <a:stretch/>
        </p:blipFill>
        <p:spPr>
          <a:xfrm>
            <a:off x="7797960" y="3137040"/>
            <a:ext cx="1346040" cy="588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8"/>
          <a:stretch/>
        </p:blipFill>
        <p:spPr>
          <a:xfrm>
            <a:off x="2362320" y="1940040"/>
            <a:ext cx="4545000" cy="1641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"/>
          <p:cNvPicPr/>
          <p:nvPr/>
        </p:nvPicPr>
        <p:blipFill>
          <a:blip r:embed="rId9"/>
          <a:stretch/>
        </p:blipFill>
        <p:spPr>
          <a:xfrm>
            <a:off x="4278240" y="2468520"/>
            <a:ext cx="417600" cy="9000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52"/>
          <p:cNvSpPr/>
          <p:nvPr/>
        </p:nvSpPr>
        <p:spPr>
          <a:xfrm>
            <a:off x="4671720" y="2563920"/>
            <a:ext cx="43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0"/>
          <a:stretch/>
        </p:blipFill>
        <p:spPr>
          <a:xfrm>
            <a:off x="4741920" y="4268880"/>
            <a:ext cx="4014720" cy="1446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11"/>
          <a:stretch/>
        </p:blipFill>
        <p:spPr>
          <a:xfrm>
            <a:off x="6116760" y="4768920"/>
            <a:ext cx="1212840" cy="760320"/>
          </a:xfrm>
          <a:prstGeom prst="rect">
            <a:avLst/>
          </a:prstGeom>
          <a:ln w="0">
            <a:noFill/>
          </a:ln>
        </p:spPr>
      </p:pic>
      <p:pic>
        <p:nvPicPr>
          <p:cNvPr id="218" name="TextBox 54" descr=""/>
          <p:cNvPicPr/>
          <p:nvPr/>
        </p:nvPicPr>
        <p:blipFill>
          <a:blip r:embed="rId12"/>
          <a:stretch/>
        </p:blipFill>
        <p:spPr>
          <a:xfrm>
            <a:off x="6467400" y="4968720"/>
            <a:ext cx="426960" cy="27324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5"/>
          <p:cNvSpPr/>
          <p:nvPr/>
        </p:nvSpPr>
        <p:spPr>
          <a:xfrm>
            <a:off x="3892320" y="154620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5"/>
          <p:cNvSpPr/>
          <p:nvPr/>
        </p:nvSpPr>
        <p:spPr>
          <a:xfrm>
            <a:off x="3479760" y="403848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imes New Roman"/>
                <a:ea typeface="MS PGothic"/>
              </a:rPr>
              <a:t>Semi-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5" descr="http://t2.gstatic.com/images?q=tbn:ANd9GcRVhWSvl1rZtdHH37NwFmaVUYEHKwgOIyzLs3ICfgyozeQ7v_f4qg"/>
          <p:cNvPicPr/>
          <p:nvPr/>
        </p:nvPicPr>
        <p:blipFill>
          <a:blip r:embed="rId13"/>
          <a:stretch/>
        </p:blipFill>
        <p:spPr>
          <a:xfrm>
            <a:off x="6267600" y="5603760"/>
            <a:ext cx="963360" cy="7714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6"/>
          <p:cNvSpPr/>
          <p:nvPr/>
        </p:nvSpPr>
        <p:spPr>
          <a:xfrm>
            <a:off x="2702880" y="3400560"/>
            <a:ext cx="41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(Lorentz)dipole oscillato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6972120" cy="5496120"/>
          </a:xfrm>
          <a:prstGeom prst="rect">
            <a:avLst/>
          </a:prstGeom>
          <a:ln w="0">
            <a:noFill/>
          </a:ln>
        </p:spPr>
      </p:pic>
      <p:pic>
        <p:nvPicPr>
          <p:cNvPr id="225" name="TextBox 4" descr=""/>
          <p:cNvPicPr/>
          <p:nvPr/>
        </p:nvPicPr>
        <p:blipFill>
          <a:blip r:embed="rId2"/>
          <a:stretch/>
        </p:blipFill>
        <p:spPr>
          <a:xfrm>
            <a:off x="5108400" y="2316240"/>
            <a:ext cx="3297240" cy="4633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8"/>
          <p:cNvSpPr/>
          <p:nvPr/>
        </p:nvSpPr>
        <p:spPr>
          <a:xfrm>
            <a:off x="3562200" y="2327400"/>
            <a:ext cx="1619280" cy="457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4495680" y="1844640"/>
            <a:ext cx="303480" cy="3794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5410080" y="1309680"/>
            <a:ext cx="1828800" cy="457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3"/>
          <a:stretch/>
        </p:blipFill>
        <p:spPr>
          <a:xfrm>
            <a:off x="6324480" y="3595680"/>
            <a:ext cx="1209960" cy="961920"/>
          </a:xfrm>
          <a:prstGeom prst="rect">
            <a:avLst/>
          </a:prstGeom>
          <a:ln w="0">
            <a:noFill/>
          </a:ln>
        </p:spPr>
      </p:pic>
      <p:pic>
        <p:nvPicPr>
          <p:cNvPr id="230" name="TextBox 7" descr=""/>
          <p:cNvPicPr/>
          <p:nvPr/>
        </p:nvPicPr>
        <p:blipFill>
          <a:blip r:embed="rId4"/>
          <a:stretch/>
        </p:blipFill>
        <p:spPr>
          <a:xfrm>
            <a:off x="6407280" y="3236760"/>
            <a:ext cx="1083960" cy="37152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5"/>
          <p:cNvSpPr/>
          <p:nvPr/>
        </p:nvSpPr>
        <p:spPr>
          <a:xfrm>
            <a:off x="6324480" y="3236760"/>
            <a:ext cx="1295640" cy="1197000"/>
          </a:xfrm>
          <a:prstGeom prst="rect">
            <a:avLst/>
          </a:prstGeom>
          <a:noFill/>
          <a:ln w="64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0" y="6004080"/>
            <a:ext cx="9137520" cy="54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3"/>
          <p:cNvSpPr/>
          <p:nvPr/>
        </p:nvSpPr>
        <p:spPr>
          <a:xfrm>
            <a:off x="7456680" y="60292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FS Chap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5"/>
          <a:stretch/>
        </p:blipFill>
        <p:spPr>
          <a:xfrm>
            <a:off x="20520" y="5964120"/>
            <a:ext cx="1738440" cy="520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"/>
          <p:cNvPicPr/>
          <p:nvPr/>
        </p:nvPicPr>
        <p:blipFill>
          <a:blip r:embed="rId6"/>
          <a:stretch/>
        </p:blipFill>
        <p:spPr>
          <a:xfrm>
            <a:off x="1986120" y="6005520"/>
            <a:ext cx="2205000" cy="507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7"/>
          <a:stretch/>
        </p:blipFill>
        <p:spPr>
          <a:xfrm>
            <a:off x="4245120" y="6205680"/>
            <a:ext cx="1199880" cy="307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/>
          <p:cNvPicPr/>
          <p:nvPr/>
        </p:nvPicPr>
        <p:blipFill>
          <a:blip r:embed="rId8"/>
          <a:stretch/>
        </p:blipFill>
        <p:spPr>
          <a:xfrm>
            <a:off x="4325760" y="6022800"/>
            <a:ext cx="642960" cy="182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"/>
          <p:cNvPicPr/>
          <p:nvPr/>
        </p:nvPicPr>
        <p:blipFill>
          <a:blip r:embed="rId9"/>
          <a:stretch/>
        </p:blipFill>
        <p:spPr>
          <a:xfrm>
            <a:off x="5721480" y="6105600"/>
            <a:ext cx="16002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Pedram\Desktop\Arts\gallery\ch10\figure_10_23.jpg"/>
          <p:cNvPicPr/>
          <p:nvPr/>
        </p:nvPicPr>
        <p:blipFill>
          <a:blip r:embed="rId1"/>
          <a:stretch/>
        </p:blipFill>
        <p:spPr>
          <a:xfrm>
            <a:off x="1981080" y="1096920"/>
            <a:ext cx="7736040" cy="527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0" y="1069920"/>
            <a:ext cx="277668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2"/>
          <a:stretch/>
        </p:blipFill>
        <p:spPr>
          <a:xfrm>
            <a:off x="146160" y="838080"/>
            <a:ext cx="7610400" cy="1648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3"/>
          <a:stretch/>
        </p:blipFill>
        <p:spPr>
          <a:xfrm>
            <a:off x="146160" y="2548080"/>
            <a:ext cx="657684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7291440" cy="48974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 1: M. Fox “Optical Properties of Solids”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d, Oxf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44280" y="6156360"/>
            <a:ext cx="47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nline pdf (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ed) seems to be available (goog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156960" y="1905120"/>
            <a:ext cx="79056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93960" y="2514600"/>
            <a:ext cx="32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a good portion of 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 selected modern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8"/>
          <p:cNvSpPr/>
          <p:nvPr/>
        </p:nvSpPr>
        <p:spPr>
          <a:xfrm>
            <a:off x="4267080" y="5486400"/>
            <a:ext cx="1067040" cy="669960"/>
          </a:xfrm>
          <a:prstGeom prst="line">
            <a:avLst/>
          </a:prstGeom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639720"/>
            <a:ext cx="91440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 2: M. Fox “Quantum Optics” (Oxf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666720" y="1219320"/>
            <a:ext cx="7074000" cy="48830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3"/>
          <p:cNvSpPr/>
          <p:nvPr/>
        </p:nvSpPr>
        <p:spPr>
          <a:xfrm>
            <a:off x="37440" y="6073920"/>
            <a:ext cx="58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Available online from Purdue Library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157320" y="1905120"/>
            <a:ext cx="84060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Q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5"/>
          <p:cNvSpPr/>
          <p:nvPr/>
        </p:nvSpPr>
        <p:spPr>
          <a:xfrm>
            <a:off x="3960" y="4952880"/>
            <a:ext cx="35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part of FQ+suppl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Pedram\Desktop\Arts\gallery\ch10\figure_10_22.jpg"/>
          <p:cNvPicPr/>
          <p:nvPr/>
        </p:nvPicPr>
        <p:blipFill>
          <a:blip r:embed="rId1"/>
          <a:stretch/>
        </p:blipFill>
        <p:spPr>
          <a:xfrm>
            <a:off x="758880" y="304920"/>
            <a:ext cx="7912080" cy="53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1"/>
          <p:cNvSpPr/>
          <p:nvPr/>
        </p:nvSpPr>
        <p:spPr>
          <a:xfrm>
            <a:off x="187200" y="559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©2008 </a:t>
            </a:r>
            <a:r>
              <a:rPr b="0" lang="en-US" sz="1400" spc="-1" strike="noStrike">
                <a:solidFill>
                  <a:srgbClr val="000000"/>
                </a:solidFill>
                <a:latin typeface="Palatino-Roman"/>
                <a:ea typeface="MS PGothic"/>
              </a:rPr>
              <a:t>by W.H. Freeman and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C:\Documents and Settings\Pedram\Desktop\Arts\gallery\ch10\figure_10_19.jpg"/>
          <p:cNvPicPr/>
          <p:nvPr/>
        </p:nvPicPr>
        <p:blipFill>
          <a:blip r:embed="rId1"/>
          <a:stretch/>
        </p:blipFill>
        <p:spPr>
          <a:xfrm>
            <a:off x="3124080" y="2278080"/>
            <a:ext cx="5558040" cy="3789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Documents and Settings\Pedram\Desktop\Arts\gallery\ch10\figure_10_17.jpg"/>
          <p:cNvPicPr/>
          <p:nvPr/>
        </p:nvPicPr>
        <p:blipFill>
          <a:blip r:embed="rId2"/>
          <a:stretch/>
        </p:blipFill>
        <p:spPr>
          <a:xfrm>
            <a:off x="504720" y="1725480"/>
            <a:ext cx="361800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13"/>
          <p:cNvGrpSpPr/>
          <p:nvPr/>
        </p:nvGrpSpPr>
        <p:grpSpPr>
          <a:xfrm>
            <a:off x="1589040" y="1914480"/>
            <a:ext cx="6440400" cy="3054240"/>
            <a:chOff x="1589040" y="1914480"/>
            <a:chExt cx="6440400" cy="3054240"/>
          </a:xfrm>
        </p:grpSpPr>
        <p:pic>
          <p:nvPicPr>
            <p:cNvPr id="62" name="Picture 12" descr="Image result for quartz"/>
            <p:cNvPicPr/>
            <p:nvPr/>
          </p:nvPicPr>
          <p:blipFill>
            <a:blip r:embed="rId1"/>
            <a:stretch/>
          </p:blipFill>
          <p:spPr>
            <a:xfrm>
              <a:off x="1750680" y="2248560"/>
              <a:ext cx="586800" cy="58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0" descr=""/>
            <p:cNvPicPr/>
            <p:nvPr/>
          </p:nvPicPr>
          <p:blipFill>
            <a:blip r:embed="rId2"/>
            <a:stretch/>
          </p:blipFill>
          <p:spPr>
            <a:xfrm>
              <a:off x="2298960" y="2156400"/>
              <a:ext cx="1073520" cy="804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" name="Group 24"/>
            <p:cNvGrpSpPr/>
            <p:nvPr/>
          </p:nvGrpSpPr>
          <p:grpSpPr>
            <a:xfrm>
              <a:off x="1589040" y="3223440"/>
              <a:ext cx="4012200" cy="1590480"/>
              <a:chOff x="1589040" y="3223440"/>
              <a:chExt cx="4012200" cy="1590480"/>
            </a:xfrm>
          </p:grpSpPr>
          <p:grpSp>
            <p:nvGrpSpPr>
              <p:cNvPr id="65" name="Group 25"/>
              <p:cNvGrpSpPr/>
              <p:nvPr/>
            </p:nvGrpSpPr>
            <p:grpSpPr>
              <a:xfrm>
                <a:off x="1892160" y="3223440"/>
                <a:ext cx="3138120" cy="1200600"/>
                <a:chOff x="1892160" y="3223440"/>
                <a:chExt cx="3138120" cy="1200600"/>
              </a:xfrm>
            </p:grpSpPr>
            <p:pic>
              <p:nvPicPr>
                <p:cNvPr id="66" name="Picture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92160" y="3604680"/>
                  <a:ext cx="2995560" cy="618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TextBox 2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046240" y="3223440"/>
                  <a:ext cx="2984040" cy="310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TextBox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143800" y="4143960"/>
                  <a:ext cx="1458360" cy="280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9" name="TextBox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589040" y="4527720"/>
                <a:ext cx="4012200" cy="286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" name="Group 30"/>
            <p:cNvGrpSpPr/>
            <p:nvPr/>
          </p:nvGrpSpPr>
          <p:grpSpPr>
            <a:xfrm>
              <a:off x="4520880" y="3475440"/>
              <a:ext cx="731520" cy="519840"/>
              <a:chOff x="4520880" y="3475440"/>
              <a:chExt cx="731520" cy="519840"/>
            </a:xfrm>
          </p:grpSpPr>
          <p:pic>
            <p:nvPicPr>
              <p:cNvPr id="71" name="Picture 30" descr=""/>
              <p:cNvPicPr/>
              <p:nvPr/>
            </p:nvPicPr>
            <p:blipFill>
              <a:blip r:embed="rId7"/>
              <a:stretch/>
            </p:blipFill>
            <p:spPr>
              <a:xfrm rot="10800000">
                <a:off x="4520880" y="3522240"/>
                <a:ext cx="630720" cy="47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TextBox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4541400" y="3475440"/>
                <a:ext cx="711000" cy="285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3" name="Picture 27" descr="https://upload.wikimedia.org/wikipedia/en/4/4a/BandstructureNFE.PNG"/>
            <p:cNvPicPr/>
            <p:nvPr/>
          </p:nvPicPr>
          <p:blipFill>
            <a:blip r:embed="rId9"/>
            <a:stretch/>
          </p:blipFill>
          <p:spPr>
            <a:xfrm>
              <a:off x="5617800" y="2548800"/>
              <a:ext cx="2411640" cy="24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36"/>
            <p:cNvSpPr/>
            <p:nvPr/>
          </p:nvSpPr>
          <p:spPr>
            <a:xfrm>
              <a:off x="4595760" y="2441520"/>
              <a:ext cx="131760" cy="153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37"/>
            <p:cNvGrpSpPr/>
            <p:nvPr/>
          </p:nvGrpSpPr>
          <p:grpSpPr>
            <a:xfrm>
              <a:off x="5194440" y="3832200"/>
              <a:ext cx="2358360" cy="691200"/>
              <a:chOff x="5194440" y="3832200"/>
              <a:chExt cx="2358360" cy="691200"/>
            </a:xfrm>
          </p:grpSpPr>
          <p:sp>
            <p:nvSpPr>
              <p:cNvPr id="76" name="Straight Connector 38"/>
              <p:cNvSpPr/>
              <p:nvPr/>
            </p:nvSpPr>
            <p:spPr>
              <a:xfrm>
                <a:off x="5803560" y="4444920"/>
                <a:ext cx="1361880" cy="0"/>
              </a:xfrm>
              <a:prstGeom prst="line">
                <a:avLst/>
              </a:prstGeom>
              <a:ln w="9360">
                <a:solidFill>
                  <a:srgbClr val="b6dcd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Straight Connector 39"/>
              <p:cNvSpPr/>
              <p:nvPr/>
            </p:nvSpPr>
            <p:spPr>
              <a:xfrm>
                <a:off x="5827320" y="4059000"/>
                <a:ext cx="1360440" cy="0"/>
              </a:xfrm>
              <a:prstGeom prst="line">
                <a:avLst/>
              </a:prstGeom>
              <a:ln w="9360">
                <a:solidFill>
                  <a:srgbClr val="b6dcd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TextBox 40"/>
              <p:cNvSpPr/>
              <p:nvPr/>
            </p:nvSpPr>
            <p:spPr>
              <a:xfrm>
                <a:off x="6974280" y="4216320"/>
                <a:ext cx="57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70c0"/>
                    </a:solidFill>
                    <a:latin typeface="Times New Roman"/>
                    <a:ea typeface="MS PGothic"/>
                  </a:rPr>
                  <a:t>met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TextBox 41"/>
              <p:cNvSpPr/>
              <p:nvPr/>
            </p:nvSpPr>
            <p:spPr>
              <a:xfrm>
                <a:off x="5194440" y="3832200"/>
                <a:ext cx="831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70c0"/>
                    </a:solidFill>
                    <a:latin typeface="Times New Roman"/>
                    <a:ea typeface="MS PGothic"/>
                  </a:rPr>
                  <a:t>insulat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0" name="TextBox 43" descr=""/>
            <p:cNvPicPr/>
            <p:nvPr/>
          </p:nvPicPr>
          <p:blipFill>
            <a:blip r:embed="rId10"/>
            <a:stretch/>
          </p:blipFill>
          <p:spPr>
            <a:xfrm>
              <a:off x="4492800" y="2919960"/>
              <a:ext cx="1359360" cy="2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Box 44"/>
            <p:cNvSpPr/>
            <p:nvPr/>
          </p:nvSpPr>
          <p:spPr>
            <a:xfrm>
              <a:off x="3223800" y="2924640"/>
              <a:ext cx="134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(one-particle view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Box 45"/>
            <p:cNvSpPr/>
            <p:nvPr/>
          </p:nvSpPr>
          <p:spPr>
            <a:xfrm>
              <a:off x="3443760" y="1914480"/>
              <a:ext cx="400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MS PGothic"/>
                </a:rPr>
                <a:t>Insulator/semiconducto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Box 46"/>
            <p:cNvSpPr/>
            <p:nvPr/>
          </p:nvSpPr>
          <p:spPr>
            <a:xfrm>
              <a:off x="7047360" y="3899160"/>
              <a:ext cx="8330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band g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89"/>
          <p:cNvGrpSpPr/>
          <p:nvPr/>
        </p:nvGrpSpPr>
        <p:grpSpPr>
          <a:xfrm>
            <a:off x="2129400" y="755640"/>
            <a:ext cx="6539760" cy="839880"/>
            <a:chOff x="2129400" y="755640"/>
            <a:chExt cx="6539760" cy="839880"/>
          </a:xfrm>
        </p:grpSpPr>
        <p:grpSp>
          <p:nvGrpSpPr>
            <p:cNvPr id="86" name="Group 88"/>
            <p:cNvGrpSpPr/>
            <p:nvPr/>
          </p:nvGrpSpPr>
          <p:grpSpPr>
            <a:xfrm>
              <a:off x="2129400" y="757080"/>
              <a:ext cx="6539760" cy="838440"/>
              <a:chOff x="2129400" y="757080"/>
              <a:chExt cx="6539760" cy="838440"/>
            </a:xfrm>
          </p:grpSpPr>
          <p:grpSp>
            <p:nvGrpSpPr>
              <p:cNvPr id="87" name="Group 87"/>
              <p:cNvGrpSpPr/>
              <p:nvPr/>
            </p:nvGrpSpPr>
            <p:grpSpPr>
              <a:xfrm>
                <a:off x="5299560" y="757080"/>
                <a:ext cx="3369600" cy="838440"/>
                <a:chOff x="5299560" y="757080"/>
                <a:chExt cx="3369600" cy="838440"/>
              </a:xfrm>
            </p:grpSpPr>
            <p:pic>
              <p:nvPicPr>
                <p:cNvPr id="88" name="Picture 48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373880" y="782280"/>
                  <a:ext cx="1295280" cy="813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4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299560" y="757080"/>
                  <a:ext cx="1312200" cy="738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0" name="Text Box 74"/>
              <p:cNvSpPr/>
              <p:nvPr/>
            </p:nvSpPr>
            <p:spPr>
              <a:xfrm>
                <a:off x="2129400" y="782280"/>
                <a:ext cx="3006360" cy="793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f81bd"/>
                    </a:solidFill>
                    <a:latin typeface="Arial"/>
                    <a:ea typeface="MS PGothic"/>
                  </a:rPr>
                  <a:t>Symmetry</a:t>
                </a:r>
                <a:r>
                  <a:rPr b="0" lang="en-US" sz="1600" spc="-1" strike="noStrike">
                    <a:solidFill>
                      <a:srgbClr val="4f81bd"/>
                    </a:solidFill>
                    <a:latin typeface="Arial"/>
                    <a:ea typeface="MS PGothic"/>
                  </a:rPr>
                  <a:t>: not so robu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  <a:ea typeface="MS PGothic"/>
                  </a:rPr>
                  <a:t>Topology</a:t>
                </a:r>
                <a:r>
                  <a:rPr b="0" lang="en-US" sz="1600" spc="-1" strike="noStrike">
                    <a:solidFill>
                      <a:srgbClr val="ff3300"/>
                    </a:solidFill>
                    <a:latin typeface="Arial"/>
                    <a:ea typeface="MS PGothic"/>
                  </a:rPr>
                  <a:t>: more robu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ff3300"/>
                    </a:solidFill>
                    <a:latin typeface="Arial"/>
                    <a:ea typeface="MS PGothic"/>
                  </a:rPr>
                  <a:t> </a:t>
                </a:r>
                <a:r>
                  <a:rPr b="0" i="1" lang="en-US" sz="1400" spc="-1" strike="noStrike">
                    <a:solidFill>
                      <a:srgbClr val="ff3300"/>
                    </a:solidFill>
                    <a:latin typeface="Arial"/>
                    <a:ea typeface="MS PGothic"/>
                  </a:rPr>
                  <a:t>Q: (how) can we use it in devices 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1" name="Picture 47" descr=""/>
            <p:cNvPicPr/>
            <p:nvPr/>
          </p:nvPicPr>
          <p:blipFill>
            <a:blip r:embed="rId3"/>
            <a:stretch/>
          </p:blipFill>
          <p:spPr>
            <a:xfrm>
              <a:off x="6215040" y="755640"/>
              <a:ext cx="1371600" cy="75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Group 13"/>
          <p:cNvGrpSpPr/>
          <p:nvPr/>
        </p:nvGrpSpPr>
        <p:grpSpPr>
          <a:xfrm>
            <a:off x="-152280" y="1447920"/>
            <a:ext cx="6440400" cy="3052800"/>
            <a:chOff x="-152280" y="1447920"/>
            <a:chExt cx="6440400" cy="3052800"/>
          </a:xfrm>
        </p:grpSpPr>
        <p:pic>
          <p:nvPicPr>
            <p:cNvPr id="93" name="Picture 12" descr="Image result for quartz"/>
            <p:cNvPicPr/>
            <p:nvPr/>
          </p:nvPicPr>
          <p:blipFill>
            <a:blip r:embed="rId4"/>
            <a:stretch/>
          </p:blipFill>
          <p:spPr>
            <a:xfrm>
              <a:off x="9360" y="1782000"/>
              <a:ext cx="586800" cy="58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0" descr=""/>
            <p:cNvPicPr/>
            <p:nvPr/>
          </p:nvPicPr>
          <p:blipFill>
            <a:blip r:embed="rId5"/>
            <a:stretch/>
          </p:blipFill>
          <p:spPr>
            <a:xfrm>
              <a:off x="557640" y="1689480"/>
              <a:ext cx="1073520" cy="80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Group 24"/>
            <p:cNvGrpSpPr/>
            <p:nvPr/>
          </p:nvGrpSpPr>
          <p:grpSpPr>
            <a:xfrm>
              <a:off x="-152280" y="2756160"/>
              <a:ext cx="4012200" cy="1589760"/>
              <a:chOff x="-152280" y="2756160"/>
              <a:chExt cx="4012200" cy="1589760"/>
            </a:xfrm>
          </p:grpSpPr>
          <p:grpSp>
            <p:nvGrpSpPr>
              <p:cNvPr id="96" name="Group 25"/>
              <p:cNvGrpSpPr/>
              <p:nvPr/>
            </p:nvGrpSpPr>
            <p:grpSpPr>
              <a:xfrm>
                <a:off x="153000" y="2756160"/>
                <a:ext cx="3138120" cy="1200960"/>
                <a:chOff x="153000" y="2756160"/>
                <a:chExt cx="3138120" cy="1200960"/>
              </a:xfrm>
            </p:grpSpPr>
            <p:pic>
              <p:nvPicPr>
                <p:cNvPr id="97" name="Picture 28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53000" y="3139560"/>
                  <a:ext cx="2991600" cy="617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TextBox 2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04920" y="2756160"/>
                  <a:ext cx="2986200" cy="316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TextBox 2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02120" y="3682800"/>
                  <a:ext cx="1456560" cy="274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0" name="TextBox 26" descr=""/>
              <p:cNvPicPr/>
              <p:nvPr/>
            </p:nvPicPr>
            <p:blipFill>
              <a:blip r:embed="rId9"/>
              <a:stretch/>
            </p:blipFill>
            <p:spPr>
              <a:xfrm>
                <a:off x="-152280" y="4059720"/>
                <a:ext cx="4012200" cy="286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Group 30"/>
            <p:cNvGrpSpPr/>
            <p:nvPr/>
          </p:nvGrpSpPr>
          <p:grpSpPr>
            <a:xfrm>
              <a:off x="2779200" y="3008160"/>
              <a:ext cx="731880" cy="519480"/>
              <a:chOff x="2779200" y="3008160"/>
              <a:chExt cx="731880" cy="519480"/>
            </a:xfrm>
          </p:grpSpPr>
          <p:pic>
            <p:nvPicPr>
              <p:cNvPr id="102" name="Picture 30" descr=""/>
              <p:cNvPicPr/>
              <p:nvPr/>
            </p:nvPicPr>
            <p:blipFill>
              <a:blip r:embed="rId10"/>
              <a:stretch/>
            </p:blipFill>
            <p:spPr>
              <a:xfrm rot="10800000">
                <a:off x="2779200" y="3056400"/>
                <a:ext cx="632520" cy="47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TextBox 32" descr=""/>
              <p:cNvPicPr/>
              <p:nvPr/>
            </p:nvPicPr>
            <p:blipFill>
              <a:blip r:embed="rId11"/>
              <a:stretch/>
            </p:blipFill>
            <p:spPr>
              <a:xfrm>
                <a:off x="2797920" y="3008160"/>
                <a:ext cx="713160" cy="285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4" name="Picture 27" descr="https://upload.wikimedia.org/wikipedia/en/4/4a/BandstructureNFE.PNG"/>
            <p:cNvPicPr/>
            <p:nvPr/>
          </p:nvPicPr>
          <p:blipFill>
            <a:blip r:embed="rId12"/>
            <a:stretch/>
          </p:blipFill>
          <p:spPr>
            <a:xfrm>
              <a:off x="3876480" y="2081880"/>
              <a:ext cx="2411640" cy="24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36"/>
            <p:cNvSpPr/>
            <p:nvPr/>
          </p:nvSpPr>
          <p:spPr>
            <a:xfrm>
              <a:off x="2854440" y="1974960"/>
              <a:ext cx="131760" cy="153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Group 37"/>
            <p:cNvGrpSpPr/>
            <p:nvPr/>
          </p:nvGrpSpPr>
          <p:grpSpPr>
            <a:xfrm>
              <a:off x="3453120" y="3364920"/>
              <a:ext cx="2358360" cy="690840"/>
              <a:chOff x="3453120" y="3364920"/>
              <a:chExt cx="2358360" cy="690840"/>
            </a:xfrm>
          </p:grpSpPr>
          <p:sp>
            <p:nvSpPr>
              <p:cNvPr id="107" name="Straight Connector 38"/>
              <p:cNvSpPr/>
              <p:nvPr/>
            </p:nvSpPr>
            <p:spPr>
              <a:xfrm>
                <a:off x="4062240" y="3976920"/>
                <a:ext cx="1361880" cy="0"/>
              </a:xfrm>
              <a:prstGeom prst="line">
                <a:avLst/>
              </a:prstGeom>
              <a:ln w="9360">
                <a:solidFill>
                  <a:srgbClr val="b6dcd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Straight Connector 39"/>
              <p:cNvSpPr/>
              <p:nvPr/>
            </p:nvSpPr>
            <p:spPr>
              <a:xfrm>
                <a:off x="4086000" y="3591000"/>
                <a:ext cx="1360440" cy="0"/>
              </a:xfrm>
              <a:prstGeom prst="line">
                <a:avLst/>
              </a:prstGeom>
              <a:ln w="9360">
                <a:solidFill>
                  <a:srgbClr val="b6dcd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TextBox 40"/>
              <p:cNvSpPr/>
              <p:nvPr/>
            </p:nvSpPr>
            <p:spPr>
              <a:xfrm>
                <a:off x="5232960" y="3748680"/>
                <a:ext cx="57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70c0"/>
                    </a:solidFill>
                    <a:latin typeface="Times New Roman"/>
                    <a:ea typeface="MS PGothic"/>
                  </a:rPr>
                  <a:t>met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TextBox 41"/>
              <p:cNvSpPr/>
              <p:nvPr/>
            </p:nvSpPr>
            <p:spPr>
              <a:xfrm>
                <a:off x="3453120" y="3364920"/>
                <a:ext cx="831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70c0"/>
                    </a:solidFill>
                    <a:latin typeface="Times New Roman"/>
                    <a:ea typeface="MS PGothic"/>
                  </a:rPr>
                  <a:t>insulat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1" name="TextBox 43" descr=""/>
            <p:cNvPicPr/>
            <p:nvPr/>
          </p:nvPicPr>
          <p:blipFill>
            <a:blip r:embed="rId13"/>
            <a:stretch/>
          </p:blipFill>
          <p:spPr>
            <a:xfrm>
              <a:off x="2755440" y="2450520"/>
              <a:ext cx="13593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Box 44"/>
            <p:cNvSpPr/>
            <p:nvPr/>
          </p:nvSpPr>
          <p:spPr>
            <a:xfrm>
              <a:off x="1482480" y="2457720"/>
              <a:ext cx="134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(one-particle view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Box 45"/>
            <p:cNvSpPr/>
            <p:nvPr/>
          </p:nvSpPr>
          <p:spPr>
            <a:xfrm>
              <a:off x="1660680" y="1447920"/>
              <a:ext cx="400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MS PGothic"/>
                </a:rPr>
                <a:t>Insulator/semiconducto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MS PGothic"/>
                </a:rPr>
                <a:t>[conventional “trivial”]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Box 46"/>
            <p:cNvSpPr/>
            <p:nvPr/>
          </p:nvSpPr>
          <p:spPr>
            <a:xfrm>
              <a:off x="5306040" y="3431880"/>
              <a:ext cx="8330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band g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33"/>
          <p:cNvGrpSpPr/>
          <p:nvPr/>
        </p:nvGrpSpPr>
        <p:grpSpPr>
          <a:xfrm>
            <a:off x="6149880" y="1633680"/>
            <a:ext cx="2917800" cy="2874960"/>
            <a:chOff x="6149880" y="1633680"/>
            <a:chExt cx="2917800" cy="2874960"/>
          </a:xfrm>
        </p:grpSpPr>
        <p:pic>
          <p:nvPicPr>
            <p:cNvPr id="116" name="Picture 2" descr=""/>
            <p:cNvPicPr/>
            <p:nvPr/>
          </p:nvPicPr>
          <p:blipFill>
            <a:blip r:embed="rId14"/>
            <a:stretch/>
          </p:blipFill>
          <p:spPr>
            <a:xfrm>
              <a:off x="6149880" y="2709720"/>
              <a:ext cx="2917800" cy="17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1"/>
            <p:cNvSpPr/>
            <p:nvPr/>
          </p:nvSpPr>
          <p:spPr>
            <a:xfrm>
              <a:off x="6477480" y="1633680"/>
              <a:ext cx="1991160" cy="94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MS PGothic"/>
                </a:rPr>
                <a:t>Topologic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MS PGothic"/>
                </a:rPr>
                <a:t>“</a:t>
              </a: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MS PGothic"/>
                </a:rPr>
                <a:t>insulator”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23"/>
          <p:cNvGrpSpPr/>
          <p:nvPr/>
        </p:nvGrpSpPr>
        <p:grpSpPr>
          <a:xfrm>
            <a:off x="4191840" y="4708440"/>
            <a:ext cx="4967640" cy="1829880"/>
            <a:chOff x="4191840" y="4708440"/>
            <a:chExt cx="4967640" cy="1829880"/>
          </a:xfrm>
        </p:grpSpPr>
        <p:grpSp>
          <p:nvGrpSpPr>
            <p:cNvPr id="119" name="Group 72"/>
            <p:cNvGrpSpPr/>
            <p:nvPr/>
          </p:nvGrpSpPr>
          <p:grpSpPr>
            <a:xfrm>
              <a:off x="4191840" y="5077800"/>
              <a:ext cx="4967640" cy="1460520"/>
              <a:chOff x="4191840" y="5077800"/>
              <a:chExt cx="4967640" cy="1460520"/>
            </a:xfrm>
          </p:grpSpPr>
          <p:pic>
            <p:nvPicPr>
              <p:cNvPr id="120" name="Picture 168" descr=""/>
              <p:cNvPicPr/>
              <p:nvPr/>
            </p:nvPicPr>
            <p:blipFill>
              <a:blip r:embed="rId15"/>
              <a:stretch/>
            </p:blipFill>
            <p:spPr>
              <a:xfrm>
                <a:off x="4455720" y="5491080"/>
                <a:ext cx="4582080" cy="69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TextBox 74" descr=""/>
              <p:cNvPicPr/>
              <p:nvPr/>
            </p:nvPicPr>
            <p:blipFill>
              <a:blip r:embed="rId16"/>
              <a:stretch/>
            </p:blipFill>
            <p:spPr>
              <a:xfrm>
                <a:off x="4504680" y="5547240"/>
                <a:ext cx="1036080" cy="55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TextBox 76"/>
              <p:cNvSpPr/>
              <p:nvPr/>
            </p:nvSpPr>
            <p:spPr>
              <a:xfrm>
                <a:off x="4191840" y="6231240"/>
                <a:ext cx="4967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70c0"/>
                    </a:solidFill>
                    <a:latin typeface="Times New Roman"/>
                    <a:ea typeface="MS PGothic"/>
                  </a:rPr>
                  <a:t>K is a topological invariant --  trivial (0), topological insulator (1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Box 77"/>
              <p:cNvSpPr/>
              <p:nvPr/>
            </p:nvSpPr>
            <p:spPr>
              <a:xfrm>
                <a:off x="5230800" y="5077800"/>
                <a:ext cx="387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  <a:ea typeface="MS PGothic"/>
                  </a:rPr>
                  <a:t>topology (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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  <a:ea typeface="MS PGothic"/>
                  </a:rPr>
                  <a:t>quantum states &amp; wavefunction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TextBox 79"/>
            <p:cNvSpPr/>
            <p:nvPr/>
          </p:nvSpPr>
          <p:spPr>
            <a:xfrm>
              <a:off x="5934240" y="4708440"/>
              <a:ext cx="229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0a0"/>
                  </a:solidFill>
                  <a:latin typeface="Times New Roman"/>
                  <a:ea typeface="MS PGothic"/>
                </a:rPr>
                <a:t>Topology (physics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Box 12"/>
            <p:cNvSpPr/>
            <p:nvPr/>
          </p:nvSpPr>
          <p:spPr>
            <a:xfrm flipH="1">
              <a:off x="5883120" y="59950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B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Picture 2" descr="Image result for topological donut"/>
            <p:cNvPicPr/>
            <p:nvPr/>
          </p:nvPicPr>
          <p:blipFill>
            <a:blip r:embed="rId17"/>
            <a:stretch/>
          </p:blipFill>
          <p:spPr>
            <a:xfrm>
              <a:off x="5670360" y="6022440"/>
              <a:ext cx="286920" cy="22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22"/>
          <p:cNvGrpSpPr/>
          <p:nvPr/>
        </p:nvGrpSpPr>
        <p:grpSpPr>
          <a:xfrm>
            <a:off x="152280" y="4660920"/>
            <a:ext cx="4505400" cy="1723320"/>
            <a:chOff x="152280" y="4660920"/>
            <a:chExt cx="4505400" cy="1723320"/>
          </a:xfrm>
        </p:grpSpPr>
        <p:grpSp>
          <p:nvGrpSpPr>
            <p:cNvPr id="128" name="Group 65"/>
            <p:cNvGrpSpPr/>
            <p:nvPr/>
          </p:nvGrpSpPr>
          <p:grpSpPr>
            <a:xfrm>
              <a:off x="152280" y="5169600"/>
              <a:ext cx="2952000" cy="1214640"/>
              <a:chOff x="152280" y="5169600"/>
              <a:chExt cx="2952000" cy="1214640"/>
            </a:xfrm>
          </p:grpSpPr>
          <p:pic>
            <p:nvPicPr>
              <p:cNvPr id="129" name="Picture 172" descr=""/>
              <p:cNvPicPr/>
              <p:nvPr/>
            </p:nvPicPr>
            <p:blipFill>
              <a:blip r:embed="rId18"/>
              <a:stretch/>
            </p:blipFill>
            <p:spPr>
              <a:xfrm>
                <a:off x="152280" y="5432040"/>
                <a:ext cx="2779560" cy="56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Picture 173" descr=""/>
              <p:cNvPicPr/>
              <p:nvPr/>
            </p:nvPicPr>
            <p:blipFill>
              <a:blip r:embed="rId19"/>
              <a:stretch/>
            </p:blipFill>
            <p:spPr>
              <a:xfrm>
                <a:off x="671760" y="5935680"/>
                <a:ext cx="1657800" cy="19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TextBox 69"/>
              <p:cNvSpPr/>
              <p:nvPr/>
            </p:nvSpPr>
            <p:spPr>
              <a:xfrm>
                <a:off x="2246400" y="5889600"/>
                <a:ext cx="53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  <a:ea typeface="MS PGothic"/>
                  </a:rPr>
                  <a:t>‘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  <a:ea typeface="MS PGothic"/>
                  </a:rPr>
                  <a:t>184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TextBox 70"/>
              <p:cNvSpPr/>
              <p:nvPr/>
            </p:nvSpPr>
            <p:spPr>
              <a:xfrm>
                <a:off x="1414800" y="6107760"/>
                <a:ext cx="168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  <a:ea typeface="MS PGothic"/>
                  </a:rPr>
                  <a:t>(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  <a:ea typeface="MS PGothic"/>
                  </a:rPr>
                  <a:t> Atiyah-Singer’1963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TextBox 71"/>
              <p:cNvSpPr/>
              <p:nvPr/>
            </p:nvSpPr>
            <p:spPr>
              <a:xfrm>
                <a:off x="619920" y="5169600"/>
                <a:ext cx="205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  <a:ea typeface="MS PGothic"/>
                  </a:rPr>
                  <a:t>topology (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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  <a:ea typeface="MS PGothic"/>
                  </a:rPr>
                  <a:t>geometry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TextBox 2"/>
            <p:cNvSpPr/>
            <p:nvPr/>
          </p:nvSpPr>
          <p:spPr>
            <a:xfrm>
              <a:off x="1255320" y="4660920"/>
              <a:ext cx="282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0a0"/>
                  </a:solidFill>
                  <a:latin typeface="Times New Roman"/>
                  <a:ea typeface="MS PGothic"/>
                </a:rPr>
                <a:t>Topology (mathematic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Picture 2" descr="Image result for topological donut"/>
            <p:cNvPicPr/>
            <p:nvPr/>
          </p:nvPicPr>
          <p:blipFill>
            <a:blip r:embed="rId20"/>
            <a:stretch/>
          </p:blipFill>
          <p:spPr>
            <a:xfrm>
              <a:off x="3712320" y="4965840"/>
              <a:ext cx="945360" cy="73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Box 61"/>
            <p:cNvSpPr/>
            <p:nvPr/>
          </p:nvSpPr>
          <p:spPr>
            <a:xfrm>
              <a:off x="2829600" y="5548680"/>
              <a:ext cx="109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ff"/>
                  </a:solidFill>
                  <a:latin typeface="Times New Roman"/>
                  <a:ea typeface="MS PGothic"/>
                </a:rPr>
                <a:t>Topologic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ff"/>
                  </a:solidFill>
                  <a:latin typeface="Times New Roman"/>
                  <a:ea typeface="MS PGothic"/>
                </a:rPr>
                <a:t>invari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2946600" cy="5052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http://www.rp-photonics.com/img/gain_in_semiconductor.png"/>
          <p:cNvPicPr/>
          <p:nvPr/>
        </p:nvPicPr>
        <p:blipFill>
          <a:blip r:embed="rId2"/>
          <a:stretch/>
        </p:blipFill>
        <p:spPr>
          <a:xfrm>
            <a:off x="3886200" y="1649520"/>
            <a:ext cx="4635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©2008 </a:t>
            </a:r>
            <a:r>
              <a:rPr b="0" lang="en-US" sz="1400" spc="-1" strike="noStrike">
                <a:solidFill>
                  <a:srgbClr val="000000"/>
                </a:solidFill>
                <a:latin typeface="Palatino-Roman"/>
                <a:ea typeface="MS PGothic"/>
              </a:rPr>
              <a:t>by W.H. Freeman and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2" descr="C:\Documents and Settings\Pedram\Desktop\Arts\gallery\ch10\figure_10_27.jpg"/>
          <p:cNvPicPr/>
          <p:nvPr/>
        </p:nvPicPr>
        <p:blipFill>
          <a:blip r:embed="rId1"/>
          <a:stretch/>
        </p:blipFill>
        <p:spPr>
          <a:xfrm>
            <a:off x="561960" y="969840"/>
            <a:ext cx="7900920" cy="53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©2008 </a:t>
            </a:r>
            <a:r>
              <a:rPr b="0" lang="en-US" sz="1400" spc="-1" strike="noStrike">
                <a:solidFill>
                  <a:srgbClr val="000000"/>
                </a:solidFill>
                <a:latin typeface="Palatino-Roman"/>
                <a:ea typeface="MS PGothic"/>
              </a:rPr>
              <a:t>by W.H. Freeman and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C:\Documents and Settings\Pedram\Desktop\Arts\gallery\ch10\figure_10_28.jpg"/>
          <p:cNvPicPr/>
          <p:nvPr/>
        </p:nvPicPr>
        <p:blipFill>
          <a:blip r:embed="rId1"/>
          <a:stretch/>
        </p:blipFill>
        <p:spPr>
          <a:xfrm>
            <a:off x="471600" y="768240"/>
            <a:ext cx="819468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1-28T12:36:37Z</dcterms:modified>
  <cp:revision>440</cp:revision>
  <dc:subject>Physics 272H, Spring 2007</dc:subject>
  <dc:title>Lecture 2</dc:title>
</cp:coreProperties>
</file>