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0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54.wmf" ContentType="image/x-wmf"/>
  <Override PartName="/ppt/media/image97.png" ContentType="image/png"/>
  <Override PartName="/ppt/media/image10.jpeg" ContentType="image/jpeg"/>
  <Override PartName="/ppt/media/image35.png" ContentType="image/png"/>
  <Override PartName="/ppt/media/image5.png" ContentType="image/png"/>
  <Override PartName="/ppt/media/image98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7.jpeg" ContentType="image/jpeg"/>
  <Override PartName="/ppt/media/image4.png" ContentType="image/png"/>
  <Override PartName="/ppt/media/image6.png" ContentType="image/png"/>
  <Override PartName="/ppt/media/image8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27.png" ContentType="image/png"/>
  <Override PartName="/ppt/media/image92.png" ContentType="image/png"/>
  <Override PartName="/ppt/media/image33.png" ContentType="image/png"/>
  <Override PartName="/ppt/media/image6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96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4.png" ContentType="image/png"/>
  <Override PartName="/ppt/media/image60.png" ContentType="image/png"/>
  <Override PartName="/ppt/media/image79.png" ContentType="image/png"/>
  <Override PartName="/ppt/media/image64.png" ContentType="image/png"/>
  <Override PartName="/ppt/media/image15.jpeg" ContentType="image/jpeg"/>
  <Override PartName="/ppt/media/image99.png" ContentType="image/png"/>
  <Override PartName="/ppt/media/image62.png" ContentType="image/png"/>
  <Override PartName="/ppt/media/image87.png" ContentType="image/png"/>
  <Override PartName="/ppt/media/image103.png" ContentType="image/png"/>
  <Override PartName="/ppt/media/image74.wmf" ContentType="image/x-wmf"/>
  <Override PartName="/ppt/media/image89.png" ContentType="image/png"/>
  <Override PartName="/ppt/media/image88.png" ContentType="image/png"/>
  <Override PartName="/ppt/media/image86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2.gif" ContentType="image/gif"/>
  <Override PartName="/ppt/media/image105.png" ContentType="image/png"/>
  <Override PartName="/ppt/media/image61.png" ContentType="image/png"/>
  <Override PartName="/ppt/media/image95.png" ContentType="image/png"/>
  <Override PartName="/ppt/media/image85.png" ContentType="image/png"/>
  <Override PartName="/ppt/media/image82.jpeg" ContentType="image/jpeg"/>
  <Override PartName="/ppt/media/image22.png" ContentType="image/png"/>
  <Override PartName="/ppt/media/image59.png" ContentType="image/png"/>
  <Override PartName="/ppt/media/image21.jpeg" ContentType="image/jpeg"/>
  <Override PartName="/ppt/media/image100.jpeg" ContentType="image/jpeg"/>
  <Override PartName="/ppt/media/image65.png" ContentType="image/png"/>
  <Override PartName="/ppt/media/image29.png" ContentType="image/png"/>
  <Override PartName="/ppt/media/image94.png" ContentType="image/png"/>
  <Override PartName="/ppt/media/image18.jpeg" ContentType="image/jpeg"/>
  <Override PartName="/ppt/media/image19.png" ContentType="image/png"/>
  <Override PartName="/ppt/media/image84.png" ContentType="image/png"/>
  <Override PartName="/ppt/media/image17.jpeg" ContentType="image/jpeg"/>
  <Override PartName="/ppt/media/image106.png" ContentType="image/png"/>
  <Override PartName="/ppt/media/image16.jpeg" ContentType="image/jpeg"/>
  <Override PartName="/ppt/media/image14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90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3.png" ContentType="image/png"/>
  <Override PartName="/ppt/media/image8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17BE0-6EFD-4178-BCDC-BF8571D80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9FD76-A185-421D-9B92-4EAD8F690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ton De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AE689-43FE-4195-BD7B-8E592394C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78C6E-06D2-4C37-A5BA-D23824540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4EE-DE56-452D-A6E1-C0864384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10E-6007-4599-ABB7-ED5DA0E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0B5-BE6B-4B66-B655-A35668AB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21B-DD36-43FF-852B-AA98A0E3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CF19-109A-48FF-8832-F3150C8B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4FFA-AD47-4669-B1ED-5FAD6CEE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C80-8CB5-47FF-ABE8-317460B7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AAC8-27B5-447F-80B9-DFE202DC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AD96-433B-4442-AA9C-BFDD1FFB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33B2-EE10-499B-82C0-B03E3918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7ADD-3F8E-4392-B98D-CB75305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844-678A-4C6C-A353-EC99AA9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0E43-547C-4055-AE0F-7C4774A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617A-C556-4BA7-BF11-C92C5F8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F6CC-3C2D-421C-BB11-8FA3640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BB42-7D37-4B3A-8E7E-CD566FB8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5AC-43C1-4BCA-85C8-8F109F44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FA9-A08E-46D5-95F2-1A9F63BB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8EC-18DC-4EAF-8AE7-7FA29AE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0BB-47BC-485D-9FB6-CA9DB12F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8A7-A12A-421E-BDF8-67014E8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853-F72E-4C67-82F7-65E0ED5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765-D9C0-4392-9DE0-C305199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C36-DF00-41A5-B038-0086148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AAE-690F-4281-AE89-B6AF011C05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51E5-B1DF-42F3-998A-F87E2CF86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00A569F3-D5BF-469F-8D19-1F48756D9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8FDCAA04-9E60-4F64-9AF7-6494515B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2BF-D3FC-44C1-B86C-C1B762ED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urdue.edu/newsroom/health_safety/mail.html" TargetMode="External"/><Relationship Id="rId2" Type="http://schemas.openxmlformats.org/officeDocument/2006/relationships/hyperlink" Target="http://www.purdue.edu/emergency_preparedness/" TargetMode="External"/><Relationship Id="rId3" Type="http://schemas.openxmlformats.org/officeDocument/2006/relationships/hyperlink" Target="http://www.purdue.edu/securePurdue/news/2010/emergency-preparedness-shots-fired-on-campus-video.cfm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physics.purdue.edu/resources/emergency_plans/PHYS_Building_Emergency_Plan.pdf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pn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gif"/><Relationship Id="rId3" Type="http://schemas.openxmlformats.org/officeDocument/2006/relationships/image" Target="../media/image102.gif"/><Relationship Id="rId4" Type="http://schemas.openxmlformats.org/officeDocument/2006/relationships/image" Target="../media/image102.gif"/><Relationship Id="rId5" Type="http://schemas.openxmlformats.org/officeDocument/2006/relationships/image" Target="../media/image10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Quantum Physics &amp; Basic AMO Phys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do”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tries to “understand” it (part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ntum Interpre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83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kinetic energy of the electron does not depend on the light intensity at all, but only on the light frequency and the work function of the mate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instein in 1905 predicted that the stopping potential was linearly proportional to the light frequency, with a slop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he same constant found by Plan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this, Einstein concluded that light is a particle with ener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1"/>
          <a:stretch/>
        </p:blipFill>
        <p:spPr>
          <a:xfrm>
            <a:off x="3297240" y="2381400"/>
            <a:ext cx="2549520" cy="64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2"/>
          <a:stretch/>
        </p:blipFill>
        <p:spPr>
          <a:xfrm>
            <a:off x="2523960" y="4191120"/>
            <a:ext cx="4096080" cy="64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"/>
          <p:cNvPicPr/>
          <p:nvPr/>
        </p:nvPicPr>
        <p:blipFill>
          <a:blip r:embed="rId3"/>
          <a:stretch/>
        </p:blipFill>
        <p:spPr>
          <a:xfrm>
            <a:off x="3827520" y="5362560"/>
            <a:ext cx="148896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igure 1"/>
          <p:cNvPicPr/>
          <p:nvPr/>
        </p:nvPicPr>
        <p:blipFill>
          <a:blip r:embed="rId1"/>
          <a:stretch/>
        </p:blipFill>
        <p:spPr>
          <a:xfrm>
            <a:off x="141120" y="2209680"/>
            <a:ext cx="2857680" cy="264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09080" y="487188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7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7160" y="160020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ectrum of Ball 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8280" y="5491080"/>
            <a:ext cx="88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Observation of the Optical and Spectral Characteristics of Ball Light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ianyong Cen, Ping Yuan, and Simin X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ys. Rev. Lett.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035001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t2.gstatic.com/images?q=tbn:ANd9GcRX9W92uihqkRHJTNTMIuIBp6aZV5kMJHsAy-ZFZpDHl0nj8enN"/>
          <p:cNvPicPr/>
          <p:nvPr/>
        </p:nvPicPr>
        <p:blipFill>
          <a:blip r:embed="rId2"/>
          <a:stretch/>
        </p:blipFill>
        <p:spPr>
          <a:xfrm>
            <a:off x="5029200" y="192420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TNl6-fK0FeYCnMxImy7eBdKClmMXO3Z5sot7w2WpelzASM-jh-mw"/>
          <p:cNvPicPr/>
          <p:nvPr/>
        </p:nvPicPr>
        <p:blipFill>
          <a:blip r:embed="rId3"/>
          <a:stretch/>
        </p:blipFill>
        <p:spPr>
          <a:xfrm>
            <a:off x="5214960" y="3727440"/>
            <a:ext cx="2662200" cy="12333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5217840" y="16002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ual/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 wave; wave-particle duality (De Brog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, momentum, wavelength,  for free particle  [dispers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y princi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ier transform 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9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70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odinger Eq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79108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30320" y="2162160"/>
            <a:ext cx="7439040" cy="126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155520" y="411480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4267080" y="4067280"/>
            <a:ext cx="3810240" cy="85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1960560" y="3368520"/>
            <a:ext cx="4000680" cy="771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5969880" y="35244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6"/>
          <a:stretch/>
        </p:blipFill>
        <p:spPr>
          <a:xfrm>
            <a:off x="304920" y="5029200"/>
            <a:ext cx="2190600" cy="504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2693520" y="24112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time depen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7"/>
          <a:stretch/>
        </p:blipFill>
        <p:spPr>
          <a:xfrm>
            <a:off x="237960" y="5738760"/>
            <a:ext cx="488664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8"/>
          <a:stretch/>
        </p:blipFill>
        <p:spPr>
          <a:xfrm>
            <a:off x="2681280" y="5048280"/>
            <a:ext cx="3067200" cy="46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9"/>
          <a:stretch/>
        </p:blipFill>
        <p:spPr>
          <a:xfrm>
            <a:off x="542880" y="5533920"/>
            <a:ext cx="4800600" cy="26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0"/>
          <a:stretch/>
        </p:blipFill>
        <p:spPr>
          <a:xfrm>
            <a:off x="5683320" y="5738760"/>
            <a:ext cx="2266920" cy="438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5"/>
          <p:cNvSpPr/>
          <p:nvPr/>
        </p:nvSpPr>
        <p:spPr>
          <a:xfrm>
            <a:off x="5209920" y="622620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gen states &amp; eigen values =&gt; stationar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6172200" y="52815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-17640" y="1082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ability d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rmalizable (bound) vs unnormalizable (extended)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perpositio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(! ..”weak” measure) &amp; expectation value/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mmutator/commutation &amp; general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200400" y="620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uld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362400" y="5199120"/>
            <a:ext cx="3133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50760" y="5176800"/>
            <a:ext cx="2514600" cy="466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533520" y="5884920"/>
            <a:ext cx="12477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3333600" y="5845320"/>
            <a:ext cx="1657440" cy="476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502320" y="60339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t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4991040" y="3159000"/>
            <a:ext cx="31719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2557440" y="3429000"/>
            <a:ext cx="128592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7"/>
          <a:stretch/>
        </p:blipFill>
        <p:spPr>
          <a:xfrm>
            <a:off x="7343640" y="4419720"/>
            <a:ext cx="1638360" cy="533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8"/>
          <a:stretch/>
        </p:blipFill>
        <p:spPr>
          <a:xfrm>
            <a:off x="2271600" y="1752480"/>
            <a:ext cx="21812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480" y="502920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  [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rahams exampl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10120" y="4889520"/>
            <a:ext cx="208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function &lt;-&gt; vector in Hilber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: Feynma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228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ery Student Should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5840" y="1229760"/>
            <a:ext cx="9042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w to signup to receive emergency text mess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1"/>
              </a:rPr>
              <a:t>http://www.purdue.edu/newsroom/health_safety/mail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rdue Emergency Preparation Resour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2"/>
              </a:rPr>
              <a:t>http://www.purdue.edu/emergency_preparednes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ts Fired on Campus: When Lightning Strikes  --- a training video on how to respond to sho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3"/>
              </a:rPr>
              <a:t>http://www.purdue.edu/securePurdue/news/2010/emergency-preparedness-shots-fired-on-campus-video.cf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20520" y="3581280"/>
            <a:ext cx="7010640" cy="3014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4546080" y="189720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An “in case of emergency” section/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as been added to sylla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866640" y="3886200"/>
            <a:ext cx="23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door sheltering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side physics building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ne-fire related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tails, see sylla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physics building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9320" y="4348080"/>
            <a:ext cx="642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5"/>
              </a:rPr>
              <a:t>http://www.physics.purdue.edu/resources/emergency_plans/PHYS_Building_Emergency_Pla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in a box/1D Schrod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square well  (uncertai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square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scattering state (refection &amp; transmission --- “quantum reflection”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even “resonant tunnel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field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4276800"/>
            <a:ext cx="3609720" cy="169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646200" y="3429000"/>
            <a:ext cx="391464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5829480" y="1295280"/>
            <a:ext cx="3314520" cy="3162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4"/>
          <a:stretch/>
        </p:blipFill>
        <p:spPr>
          <a:xfrm>
            <a:off x="1165320" y="6122880"/>
            <a:ext cx="1438200" cy="257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5"/>
          <a:stretch/>
        </p:blipFill>
        <p:spPr>
          <a:xfrm>
            <a:off x="3962520" y="4645080"/>
            <a:ext cx="2368440" cy="1833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0800" y="574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rmonic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6"/>
          <a:stretch/>
        </p:blipFill>
        <p:spPr>
          <a:xfrm>
            <a:off x="6919920" y="5656320"/>
            <a:ext cx="2209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3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24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536560" y="5638680"/>
            <a:ext cx="42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ase vs group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ac vs Schrodinger eq. (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O (Atomic and Molecular &amp; Optical Physi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4829040" cy="924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6789240" y="58993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105120" y="533520"/>
            <a:ext cx="59720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Atom (Z=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r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odinge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503892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28640" y="2362320"/>
            <a:ext cx="2562120" cy="771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766800" y="323388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803160" y="4267080"/>
            <a:ext cx="5934240" cy="33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5"/>
          <a:stretch/>
        </p:blipFill>
        <p:spPr>
          <a:xfrm>
            <a:off x="3962520" y="2517840"/>
            <a:ext cx="1476360" cy="600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6"/>
          <a:stretch/>
        </p:blipFill>
        <p:spPr>
          <a:xfrm>
            <a:off x="3801960" y="3029040"/>
            <a:ext cx="493416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http://faculty.sdmiramar.edu/fgarces/labmatters/instruments/aa/Pic_AAS/BohrHatom1.gif"/>
          <p:cNvPicPr/>
          <p:nvPr/>
        </p:nvPicPr>
        <p:blipFill>
          <a:blip r:embed="rId7"/>
          <a:stretch/>
        </p:blipFill>
        <p:spPr>
          <a:xfrm>
            <a:off x="6062760" y="533520"/>
            <a:ext cx="2684520" cy="26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8"/>
          <a:stretch/>
        </p:blipFill>
        <p:spPr>
          <a:xfrm>
            <a:off x="3327480" y="1327320"/>
            <a:ext cx="137304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274080" y="5116680"/>
            <a:ext cx="28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ydrogenic” atom /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Dopant in semiconducto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quantum) Angular Moment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rinsic angular momen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714920" y="2200320"/>
            <a:ext cx="4429080" cy="2581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1238400" cy="447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1281240" y="2276640"/>
            <a:ext cx="12477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tretch/>
        </p:blipFill>
        <p:spPr>
          <a:xfrm>
            <a:off x="225360" y="2932200"/>
            <a:ext cx="440064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tretch/>
        </p:blipFill>
        <p:spPr>
          <a:xfrm>
            <a:off x="520560" y="3490920"/>
            <a:ext cx="3810240" cy="180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6"/>
          <a:stretch/>
        </p:blipFill>
        <p:spPr>
          <a:xfrm>
            <a:off x="4876920" y="4745160"/>
            <a:ext cx="379080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7"/>
          <a:stretch/>
        </p:blipFill>
        <p:spPr>
          <a:xfrm>
            <a:off x="5867280" y="5613480"/>
            <a:ext cx="1133640" cy="825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8"/>
          <a:stretch/>
        </p:blipFill>
        <p:spPr>
          <a:xfrm>
            <a:off x="7000920" y="5753160"/>
            <a:ext cx="1985760" cy="654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48960" y="617544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gular momentum addition, S-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Pedram\Desktop\Arts\gallery\ch07\table_07_01.jpg"/>
          <p:cNvPicPr/>
          <p:nvPr/>
        </p:nvPicPr>
        <p:blipFill>
          <a:blip r:embed="rId1"/>
          <a:stretch/>
        </p:blipFill>
        <p:spPr>
          <a:xfrm>
            <a:off x="4149720" y="1828800"/>
            <a:ext cx="6257880" cy="4267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Pedram\Desktop\Arts\gallery\ch07\table_07_02.jpg"/>
          <p:cNvPicPr/>
          <p:nvPr/>
        </p:nvPicPr>
        <p:blipFill>
          <a:blip r:embed="rId2"/>
          <a:stretch/>
        </p:blipFill>
        <p:spPr>
          <a:xfrm>
            <a:off x="-152280" y="1828800"/>
            <a:ext cx="5500440" cy="3751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1025640" y="182880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54840" y="175248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1676520" y="1066680"/>
          <a:ext cx="59896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066680"/>
                    <a:ext cx="5989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12"/>
          <p:cNvSpPr/>
          <p:nvPr/>
        </p:nvSpPr>
        <p:spPr>
          <a:xfrm>
            <a:off x="-227160" y="3049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atom wavefunction  (for the electron or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7C5-D61B-4F3B-8052-322E85E2C37F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2FD-9F05-41EE-911C-4EE0F4635B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7" descr="Picture 21"/>
          <p:cNvPicPr/>
          <p:nvPr/>
        </p:nvPicPr>
        <p:blipFill>
          <a:blip r:embed="rId1"/>
          <a:stretch/>
        </p:blipFill>
        <p:spPr>
          <a:xfrm>
            <a:off x="5218200" y="1228680"/>
            <a:ext cx="2606760" cy="3002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Picture 20"/>
          <p:cNvPicPr/>
          <p:nvPr/>
        </p:nvPicPr>
        <p:blipFill>
          <a:blip r:embed="rId2"/>
          <a:stretch/>
        </p:blipFill>
        <p:spPr>
          <a:xfrm>
            <a:off x="1430280" y="1305000"/>
            <a:ext cx="2484360" cy="2925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74760"/>
            <a:ext cx="73850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5ADF-28F3-4A72-BFCC-2E9CF85630B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734160" y="624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627B-CB6C-44F1-A99B-2CA104CB0C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3" descr="Picture 15"/>
          <p:cNvPicPr/>
          <p:nvPr/>
        </p:nvPicPr>
        <p:blipFill>
          <a:blip r:embed="rId1"/>
          <a:stretch/>
        </p:blipFill>
        <p:spPr>
          <a:xfrm>
            <a:off x="819000" y="1014480"/>
            <a:ext cx="7409160" cy="40543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285840" y="210960"/>
            <a:ext cx="735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Functions for a few states of 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4" descr="Picture 16"/>
          <p:cNvPicPr/>
          <p:nvPr/>
        </p:nvPicPr>
        <p:blipFill>
          <a:blip r:embed="rId2"/>
          <a:stretch/>
        </p:blipFill>
        <p:spPr>
          <a:xfrm>
            <a:off x="3205080" y="5205240"/>
            <a:ext cx="28591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ile:Hydrogen Density Plots.png"/>
          <p:cNvPicPr/>
          <p:nvPr/>
        </p:nvPicPr>
        <p:blipFill>
          <a:blip r:embed="rId1"/>
          <a:stretch/>
        </p:blipFill>
        <p:spPr>
          <a:xfrm>
            <a:off x="609480" y="14400"/>
            <a:ext cx="73152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concepts from quantum mechanics &amp; 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f. 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Q  Chap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f interes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FS Appendi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Ken Krane “Modern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. Griffiths: intro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(AMO): Chris Foot, atomic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Fig.: The radial eigenfunctions of the hydrogen atom.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895480" y="2714760"/>
            <a:ext cx="6075360" cy="41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Documents and Settings\Pedram\Desktop\Arts\gallery\ch07\figure_07_09.jpg"/>
          <p:cNvPicPr/>
          <p:nvPr/>
        </p:nvPicPr>
        <p:blipFill>
          <a:blip r:embed="rId2"/>
          <a:stretch/>
        </p:blipFill>
        <p:spPr>
          <a:xfrm>
            <a:off x="0" y="0"/>
            <a:ext cx="4038480" cy="2754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1788120" y="1376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=1,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00" y="639360"/>
            <a:ext cx="539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r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eman effect (B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k effect (E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6694560" y="3860640"/>
            <a:ext cx="1982880" cy="2586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0" y="4440240"/>
            <a:ext cx="3691080" cy="1144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5076720" y="4078440"/>
            <a:ext cx="1567080" cy="36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4"/>
          <a:stretch/>
        </p:blipFill>
        <p:spPr>
          <a:xfrm>
            <a:off x="2362320" y="3352680"/>
            <a:ext cx="4038480" cy="58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5"/>
          <a:stretch/>
        </p:blipFill>
        <p:spPr>
          <a:xfrm>
            <a:off x="4383000" y="2820960"/>
            <a:ext cx="1905120" cy="531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6"/>
          <a:stretch/>
        </p:blipFill>
        <p:spPr>
          <a:xfrm>
            <a:off x="838080" y="3432240"/>
            <a:ext cx="1257480" cy="42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7"/>
          <a:stretch/>
        </p:blipFill>
        <p:spPr>
          <a:xfrm>
            <a:off x="6622920" y="2365200"/>
            <a:ext cx="2054520" cy="14432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"/>
          <p:cNvSpPr/>
          <p:nvPr/>
        </p:nvSpPr>
        <p:spPr>
          <a:xfrm>
            <a:off x="6700320" y="30862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c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8"/>
          <a:stretch/>
        </p:blipFill>
        <p:spPr>
          <a:xfrm>
            <a:off x="4789440" y="628560"/>
            <a:ext cx="1941480" cy="185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9"/>
          <a:stretch/>
        </p:blipFill>
        <p:spPr>
          <a:xfrm>
            <a:off x="6622920" y="1384200"/>
            <a:ext cx="2521080" cy="622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"/>
          <p:cNvPicPr/>
          <p:nvPr/>
        </p:nvPicPr>
        <p:blipFill>
          <a:blip r:embed="rId10"/>
          <a:stretch/>
        </p:blipFill>
        <p:spPr>
          <a:xfrm>
            <a:off x="3427560" y="1695600"/>
            <a:ext cx="1361880" cy="32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11"/>
          <a:stretch/>
        </p:blipFill>
        <p:spPr>
          <a:xfrm>
            <a:off x="668160" y="2360520"/>
            <a:ext cx="3440160" cy="35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12"/>
          <a:stretch/>
        </p:blipFill>
        <p:spPr>
          <a:xfrm>
            <a:off x="25560" y="1235160"/>
            <a:ext cx="2543040" cy="342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"/>
          <p:cNvPicPr/>
          <p:nvPr/>
        </p:nvPicPr>
        <p:blipFill>
          <a:blip r:embed="rId13"/>
          <a:stretch/>
        </p:blipFill>
        <p:spPr>
          <a:xfrm>
            <a:off x="7202520" y="628560"/>
            <a:ext cx="14922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der of filling atomic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Picture 5"/>
          <p:cNvPicPr/>
          <p:nvPr/>
        </p:nvPicPr>
        <p:blipFill>
          <a:blip r:embed="rId1"/>
          <a:stretch/>
        </p:blipFill>
        <p:spPr>
          <a:xfrm>
            <a:off x="865080" y="1371600"/>
            <a:ext cx="7010640" cy="49449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-222120" y="52736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 (n=1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-208800" y="45720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 (n=2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-267840" y="4038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Times New Roman"/>
                <a:ea typeface="Arial"/>
              </a:rPr>
              <a:t>M (n=3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875160" y="6126120"/>
            <a:ext cx="81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bshell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s, p, d, f), each can accommodate 2(2l+1)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1599120" y="1371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 filling the orbitals: 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13"/>
          <p:cNvGrpSpPr/>
          <p:nvPr/>
        </p:nvGrpSpPr>
        <p:grpSpPr>
          <a:xfrm>
            <a:off x="-211680" y="2367000"/>
            <a:ext cx="2040840" cy="1138680"/>
            <a:chOff x="-211680" y="2367000"/>
            <a:chExt cx="2040840" cy="1138680"/>
          </a:xfrm>
        </p:grpSpPr>
        <p:sp>
          <p:nvSpPr>
            <p:cNvPr id="306" name="TextBox 9"/>
            <p:cNvSpPr/>
            <p:nvPr/>
          </p:nvSpPr>
          <p:spPr>
            <a:xfrm>
              <a:off x="-211680" y="23670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4s before 3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Straight Arrow Connector 11"/>
            <p:cNvCxnSpPr/>
            <p:nvPr/>
          </p:nvCxnSpPr>
          <p:spPr>
            <a:xfrm>
              <a:off x="682560" y="2770200"/>
              <a:ext cx="1146960" cy="7358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308" name="TextBox 14"/>
          <p:cNvSpPr/>
          <p:nvPr/>
        </p:nvSpPr>
        <p:spPr>
          <a:xfrm>
            <a:off x="6148800" y="38703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draw levels on boar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70000" y="2013120"/>
            <a:ext cx="6805440" cy="4641840"/>
          </a:xfrm>
          <a:prstGeom prst="rect">
            <a:avLst/>
          </a:prstGeom>
          <a:ln w="0">
            <a:noFill/>
          </a:ln>
        </p:spPr>
      </p:pic>
      <p:sp>
        <p:nvSpPr>
          <p:cNvPr id="311" name="Oval 4"/>
          <p:cNvSpPr/>
          <p:nvPr/>
        </p:nvSpPr>
        <p:spPr>
          <a:xfrm>
            <a:off x="1676520" y="3962520"/>
            <a:ext cx="1828800" cy="1752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028200" y="4149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59493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5462280" y="60310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d ---- turns out 4s will come low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270000" y="690480"/>
            <a:ext cx="868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n&gt;=3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&amp; p orbitals more “penetrating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get closer to nucleus) ---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 in ener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, f orbitals less penetrating (cannot get as close to nucleus) ---- higher i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quence in filling order, (4s, 3d, 4p), (5s, 4d, 5p), (6s, 4f/5d, 6p)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with few excep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06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2669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143000" y="1981080"/>
            <a:ext cx="99072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153280" y="1981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400800" y="1981080"/>
            <a:ext cx="274320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71880" y="49528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1712520" y="957240"/>
            <a:ext cx="84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ka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143000" y="2438280"/>
            <a:ext cx="495360" cy="2668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8469360" y="636480"/>
            <a:ext cx="8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in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8610480" y="1981080"/>
            <a:ext cx="495360" cy="2668680"/>
          </a:xfrm>
          <a:prstGeom prst="rect">
            <a:avLst/>
          </a:prstGeom>
          <a:noFill/>
          <a:ln w="255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7784280" y="21002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al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8153280" y="2433600"/>
            <a:ext cx="436680" cy="221616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2133720" y="3124080"/>
            <a:ext cx="4267080" cy="221004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3899880" y="3048120"/>
            <a:ext cx="22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Transition  metal (ele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1330560" y="56070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re ear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ounded Rectangle 20"/>
          <p:cNvSpPr/>
          <p:nvPr/>
        </p:nvSpPr>
        <p:spPr>
          <a:xfrm>
            <a:off x="5562720" y="3314880"/>
            <a:ext cx="457200" cy="1334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34880"/>
              <a:gd name="textAreaBottom" fmla="*/ 1312560 h 1334880"/>
            </a:gdLst>
            <a:ahLst/>
            <a:rect l="textAreaLeft" t="textAreaTop" r="textAreaRight" b="textAreaBottom"/>
            <a:pathLst>
              <a:path w="21600" h="63033">
                <a:moveTo>
                  <a:pt x="3600" y="0"/>
                </a:moveTo>
                <a:arcTo wR="3600" hR="3600" stAng="16200000" swAng="-5400000"/>
                <a:lnTo>
                  <a:pt x="0" y="59433"/>
                </a:lnTo>
                <a:arcTo wR="3600" hR="3600" stAng="10800000" swAng="-5400000"/>
                <a:lnTo>
                  <a:pt x="18000" y="63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Straight Arrow Connector 22"/>
          <p:cNvCxnSpPr/>
          <p:nvPr/>
        </p:nvCxnSpPr>
        <p:spPr>
          <a:xfrm>
            <a:off x="2332080" y="4419720"/>
            <a:ext cx="411840" cy="1187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34" name="Straight Arrow Connector 24"/>
          <p:cNvCxnSpPr/>
          <p:nvPr/>
        </p:nvCxnSpPr>
        <p:spPr>
          <a:xfrm>
            <a:off x="2331720" y="4952520"/>
            <a:ext cx="205560" cy="1220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35" name="TextBox 25"/>
          <p:cNvSpPr/>
          <p:nvPr/>
        </p:nvSpPr>
        <p:spPr>
          <a:xfrm>
            <a:off x="2161080" y="4297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26"/>
          <p:cNvSpPr/>
          <p:nvPr/>
        </p:nvSpPr>
        <p:spPr>
          <a:xfrm>
            <a:off x="216900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few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electrons (most important for usual chemical/physical properties, &amp; optical transition), screening of nucleus charge by inner electrons (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[example 8.3 --- excited state approach hydrogenic atom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://upload.wikimedia.org/wikipedia/commons/thumb/a/ac/PhotoelectricEffect.jpg/320px-PhotoelectricEffect.jpg"/>
          <p:cNvPicPr/>
          <p:nvPr/>
        </p:nvPicPr>
        <p:blipFill>
          <a:blip r:embed="rId1"/>
          <a:stretch/>
        </p:blipFill>
        <p:spPr>
          <a:xfrm>
            <a:off x="1676520" y="3048120"/>
            <a:ext cx="6167160" cy="32763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1684440" y="599436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 absorption e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6544080" y="5810400"/>
            <a:ext cx="71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5680" y="15238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ner electron (“core” electr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-- much more tightly bound, X-ray absorption edge and X-ray transition [K, L x-rays, etc.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seley’s law to determine atomic Z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http://fiziks.net/webpages/moseley1.gif"/>
          <p:cNvPicPr/>
          <p:nvPr/>
        </p:nvPicPr>
        <p:blipFill>
          <a:blip r:embed="rId2"/>
          <a:stretch/>
        </p:blipFill>
        <p:spPr>
          <a:xfrm>
            <a:off x="7174080" y="2362320"/>
            <a:ext cx="1838160" cy="19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http://t3.gstatic.com/images?q=tbn:ANd9GcSrhcIbWhfux6ryYAmlCNLSYkBfHlf1WK-Wf1jynuQ27B-oM5MiRw"/>
          <p:cNvPicPr/>
          <p:nvPr/>
        </p:nvPicPr>
        <p:blipFill>
          <a:blip r:embed="rId3"/>
          <a:stretch/>
        </p:blipFill>
        <p:spPr>
          <a:xfrm>
            <a:off x="214200" y="3276720"/>
            <a:ext cx="2133720" cy="13237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6"/>
          <p:cNvSpPr/>
          <p:nvPr/>
        </p:nvSpPr>
        <p:spPr>
          <a:xfrm>
            <a:off x="5590080" y="11872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periodic behavior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olecules form (bo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most important model systems in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tate QM (d=2, simplest hilbert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-1/2 (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 2-polarization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in box /1D Schrod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ato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potenti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orbitals interact and form molecular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ing and anti-bonding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+, H2 molecule, s-s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p bond, eg. N2,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 bond, HC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hybrid,  involving C, Si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3080" y="512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bration and Ro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http://astro1.panet.utoledo.edu/~ljc/moln1.jpg"/>
          <p:cNvPicPr/>
          <p:nvPr/>
        </p:nvPicPr>
        <p:blipFill>
          <a:blip r:embed="rId1"/>
          <a:stretch/>
        </p:blipFill>
        <p:spPr>
          <a:xfrm>
            <a:off x="380880" y="1066680"/>
            <a:ext cx="4286520" cy="5362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chemcraftprog.com/info_files/ans2.gif"/>
          <p:cNvPicPr/>
          <p:nvPr/>
        </p:nvPicPr>
        <p:blipFill>
          <a:blip r:embed="rId2"/>
          <a:stretch/>
        </p:blipFill>
        <p:spPr>
          <a:xfrm>
            <a:off x="6019920" y="4900680"/>
            <a:ext cx="1428480" cy="1047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ttp://www.chemcraftprog.com/info_files/ans2.gif"/>
          <p:cNvPicPr/>
          <p:nvPr/>
        </p:nvPicPr>
        <p:blipFill>
          <a:blip r:embed="rId3"/>
          <a:stretch/>
        </p:blipFill>
        <p:spPr>
          <a:xfrm>
            <a:off x="6172200" y="50529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www.chemcraftprog.com/info_files/ans2.gif"/>
          <p:cNvPicPr/>
          <p:nvPr/>
        </p:nvPicPr>
        <p:blipFill>
          <a:blip r:embed="rId4"/>
          <a:stretch/>
        </p:blipFill>
        <p:spPr>
          <a:xfrm>
            <a:off x="5487840" y="1225440"/>
            <a:ext cx="249264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-152280" y="41148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-95760" y="857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3259080" y="5424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4509000" y="19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J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TextBox 11" descr=""/>
          <p:cNvPicPr/>
          <p:nvPr/>
        </p:nvPicPr>
        <p:blipFill>
          <a:blip r:embed="rId5"/>
          <a:stretch/>
        </p:blipFill>
        <p:spPr>
          <a:xfrm>
            <a:off x="4992840" y="974880"/>
            <a:ext cx="1487160" cy="500040"/>
          </a:xfrm>
          <a:prstGeom prst="rect">
            <a:avLst/>
          </a:prstGeom>
          <a:ln w="0">
            <a:noFill/>
          </a:ln>
        </p:spPr>
      </p:pic>
      <p:cxnSp>
        <p:nvCxnSpPr>
          <p:cNvPr id="361" name="Straight Arrow Connector 7"/>
          <p:cNvCxnSpPr/>
          <p:nvPr/>
        </p:nvCxnSpPr>
        <p:spPr>
          <a:xfrm>
            <a:off x="3580920" y="1994040"/>
            <a:ext cx="1080" cy="44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TextBox 13"/>
          <p:cNvSpPr/>
          <p:nvPr/>
        </p:nvSpPr>
        <p:spPr>
          <a:xfrm>
            <a:off x="2714760" y="2062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rc 14"/>
          <p:cNvSpPr/>
          <p:nvPr/>
        </p:nvSpPr>
        <p:spPr>
          <a:xfrm rot="5704200">
            <a:off x="6133680" y="2277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  <a:lnTo>
                  <a:pt x="457200" y="457200"/>
                </a:lnTo>
                <a:cubicBezTo>
                  <a:pt x="457200" y="304800"/>
                  <a:pt x="457199" y="152400"/>
                  <a:pt x="457199" y="0"/>
                </a:cubicBezTo>
                <a:close/>
              </a:path>
              <a:path fill="none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ShockwaveFlash1"/>
          <p:cNvGraphicFramePr/>
          <p:nvPr/>
        </p:nvGraphicFramePr>
        <p:xfrm>
          <a:off x="5334120" y="4114800"/>
          <a:ext cx="32385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5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114800"/>
                    <a:ext cx="3238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320" y="423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potentials, ro-vibration levels &amp;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365040" y="2871720"/>
            <a:ext cx="4435560" cy="3986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http://hyperphysics.phy-astr.gsu.edu/hbase/molecule/imgmol/hclspec.gif"/>
          <p:cNvPicPr/>
          <p:nvPr/>
        </p:nvPicPr>
        <p:blipFill>
          <a:blip r:embed="rId2"/>
          <a:stretch/>
        </p:blipFill>
        <p:spPr>
          <a:xfrm>
            <a:off x="3892680" y="1143000"/>
            <a:ext cx="5251320" cy="2379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4418640" y="129528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Straight Arrow Connector 5"/>
          <p:cNvCxnSpPr/>
          <p:nvPr/>
        </p:nvCxnSpPr>
        <p:spPr>
          <a:xfrm>
            <a:off x="6705360" y="1143000"/>
            <a:ext cx="108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72" name="TextBox 8"/>
          <p:cNvSpPr/>
          <p:nvPr/>
        </p:nvSpPr>
        <p:spPr>
          <a:xfrm>
            <a:off x="6545160" y="8287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Straight Arrow Connector 7"/>
          <p:cNvCxnSpPr/>
          <p:nvPr/>
        </p:nvCxnSpPr>
        <p:spPr>
          <a:xfrm>
            <a:off x="5334120" y="1665000"/>
            <a:ext cx="3052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74" name="TextBox 14"/>
          <p:cNvSpPr/>
          <p:nvPr/>
        </p:nvSpPr>
        <p:spPr>
          <a:xfrm>
            <a:off x="5316840" y="1254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odern Areas in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ic/molecular structure and spectros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w-body physics, chemical phys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cision measurements, fundamental constants, “beyond standard model” physics, atomic cloc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cold atoms/molecules, quantum gases ---BEC, fermi gas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fast science (from fs to as), quantum dyna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ntum” physics &amp; technology: quantum information/computing/communication, quantum control, quantum op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er physics:  ultra-intense/fast lasers, light-matter interaction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19520" y="5850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physics.purdue.edu/research/amo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828800" y="6218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nap.edu/catalog.php?record_id=11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ations of QM: early 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(Planck blackbody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=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-electric effect &amp; Compton scattering (light matter interac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 can measure Planck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scopy (atomic physics/astronomy) --- start from hydrogen --- Bohr’s model (atom/matter quantized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photon: birth of qua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311"/>
          <p:cNvPicPr/>
          <p:nvPr/>
        </p:nvPicPr>
        <p:blipFill>
          <a:blip r:embed="rId1"/>
          <a:stretch/>
        </p:blipFill>
        <p:spPr>
          <a:xfrm>
            <a:off x="1219320" y="1098720"/>
            <a:ext cx="7162560" cy="497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electric Effect Experimental Set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0314"/>
          <p:cNvPicPr/>
          <p:nvPr/>
        </p:nvPicPr>
        <p:blipFill>
          <a:blip r:embed="rId1"/>
          <a:stretch/>
        </p:blipFill>
        <p:spPr>
          <a:xfrm>
            <a:off x="5029200" y="787320"/>
            <a:ext cx="3630600" cy="3022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0313"/>
          <p:cNvPicPr/>
          <p:nvPr/>
        </p:nvPicPr>
        <p:blipFill>
          <a:blip r:embed="rId2"/>
          <a:stretch/>
        </p:blipFill>
        <p:spPr>
          <a:xfrm>
            <a:off x="457200" y="1447920"/>
            <a:ext cx="4254480" cy="292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0315"/>
          <p:cNvPicPr/>
          <p:nvPr/>
        </p:nvPicPr>
        <p:blipFill>
          <a:blip r:embed="rId3"/>
          <a:stretch/>
        </p:blipFill>
        <p:spPr>
          <a:xfrm>
            <a:off x="5043600" y="3962520"/>
            <a:ext cx="3109680" cy="2079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ervation of energy yiel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     is the work function of the met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icitly the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tarding potentials measured in the photoelectric effect are the opposing potentials needed to stop the most energetic electr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stein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6" descr=""/>
          <p:cNvPicPr/>
          <p:nvPr/>
        </p:nvPicPr>
        <p:blipFill>
          <a:blip r:embed="rId1"/>
          <a:stretch/>
        </p:blipFill>
        <p:spPr>
          <a:xfrm>
            <a:off x="3568680" y="3927600"/>
            <a:ext cx="2006640" cy="49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1727280" y="3014640"/>
            <a:ext cx="206280" cy="36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117880" y="1797120"/>
            <a:ext cx="4908240" cy="264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8" descr=""/>
          <p:cNvPicPr/>
          <p:nvPr/>
        </p:nvPicPr>
        <p:blipFill>
          <a:blip r:embed="rId4"/>
          <a:stretch/>
        </p:blipFill>
        <p:spPr>
          <a:xfrm>
            <a:off x="4224240" y="2201760"/>
            <a:ext cx="2378160" cy="265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"/>
          <p:cNvPicPr/>
          <p:nvPr/>
        </p:nvPicPr>
        <p:blipFill>
          <a:blip r:embed="rId5"/>
          <a:stretch/>
        </p:blipFill>
        <p:spPr>
          <a:xfrm>
            <a:off x="3728880" y="5583240"/>
            <a:ext cx="1686240" cy="4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1T05:22:01Z</dcterms:modified>
  <cp:revision>434</cp:revision>
  <dc:subject>Physics 272H, Spring 2007</dc:subject>
  <dc:title>Lecture 2</dc:title>
</cp:coreProperties>
</file>