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jpeg" ContentType="image/jpeg"/>
  <Override PartName="/ppt/media/image72.png" ContentType="image/png"/>
  <Override PartName="/ppt/media/image37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75.png" ContentType="image/png"/>
  <Override PartName="/ppt/media/image52.png" ContentType="image/png"/>
  <Override PartName="/ppt/media/image13.wmf" ContentType="image/x-wmf"/>
  <Override PartName="/ppt/media/image56.png" ContentType="image/png"/>
  <Override PartName="/ppt/media/image5.png" ContentType="image/png"/>
  <Override PartName="/ppt/media/image39.png" ContentType="image/png"/>
  <Override PartName="/ppt/media/image17.wmf" ContentType="image/x-wmf"/>
  <Override PartName="/ppt/media/image82.wmf" ContentType="image/x-wmf"/>
  <Override PartName="/ppt/media/image8.png" ContentType="image/png"/>
  <Override PartName="/ppt/media/image55.png" ContentType="image/png"/>
  <Override PartName="/ppt/media/image16.wmf" ContentType="image/x-wmf"/>
  <Override PartName="/ppt/media/image59.png" ContentType="image/png"/>
  <Override PartName="/ppt/media/image81.wmf" ContentType="image/x-wmf"/>
  <Override PartName="/ppt/media/image49.png" ContentType="image/png"/>
  <Override PartName="/ppt/media/image27.wmf" ContentType="image/x-wmf"/>
  <Override PartName="/ppt/media/image66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84.wmf" ContentType="image/x-wmf"/>
  <Override PartName="/ppt/media/image19.wmf" ContentType="image/x-wmf"/>
  <Override PartName="/ppt/media/image76.wmf" ContentType="image/x-wmf"/>
  <Override PartName="/ppt/media/image6.png" ContentType="image/png"/>
  <Override PartName="/ppt/media/image36.png" ContentType="image/png"/>
  <Override PartName="/ppt/media/image24.wmf" ContentType="image/x-wmf"/>
  <Override PartName="/ppt/media/image67.png" ContentType="image/png"/>
  <Override PartName="/ppt/media/image28.wmf" ContentType="image/x-wmf"/>
  <Override PartName="/ppt/media/image30.png" ContentType="image/png"/>
  <Override PartName="/ppt/media/image87.wmf" ContentType="image/x-wmf"/>
  <Override PartName="/ppt/media/image47.png" ContentType="image/png"/>
  <Override PartName="/ppt/media/image86.wmf" ContentType="image/x-wmf"/>
  <Override PartName="/ppt/media/image65.png" ContentType="image/png"/>
  <Override PartName="/ppt/media/image85.wmf" ContentType="image/x-wmf"/>
  <Override PartName="/ppt/media/image74.png" ContentType="image/png"/>
  <Override PartName="/ppt/media/image22.png" ContentType="image/png"/>
  <Override PartName="/ppt/media/image77.wmf" ContentType="image/x-wmf"/>
  <Override PartName="/ppt/media/image7.png" ContentType="image/png"/>
  <Override PartName="/ppt/media/image73.png" ContentType="image/png"/>
  <Override PartName="/ppt/media/image21.png" ContentType="image/png"/>
  <Override PartName="/ppt/media/image89.wmf" ContentType="image/x-wmf"/>
  <Override PartName="/ppt/media/image12.png" ContentType="image/png"/>
  <Override PartName="/ppt/media/image71.png" ContentType="image/png"/>
  <Override PartName="/ppt/media/image69.png" ContentType="image/png"/>
  <Override PartName="/ppt/media/image2.png" ContentType="image/png"/>
  <Override PartName="/ppt/media/image88.wmf" ContentType="image/x-wmf"/>
  <Override PartName="/ppt/media/image48.png" ContentType="image/png"/>
  <Override PartName="/ppt/media/image70.png" ContentType="image/png"/>
  <Override PartName="/ppt/media/image90.wmf" ContentType="image/x-wmf"/>
  <Override PartName="/ppt/media/image68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63.png" ContentType="image/png"/>
  <Override PartName="/ppt/media/image20.wmf" ContentType="image/x-wmf"/>
  <Override PartName="/ppt/media/image83.wmf" ContentType="image/x-wmf"/>
  <Override PartName="/ppt/media/image18.wmf" ContentType="image/x-wmf"/>
  <Override PartName="/ppt/media/image25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8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11.png" ContentType="image/png"/>
  <Override PartName="/ppt/media/image79.wmf" ContentType="image/x-wmf"/>
  <Override PartName="/ppt/media/image58.png" ContentType="image/png"/>
  <Override PartName="/ppt/media/image80.wmf" ContentType="image/x-wmf"/>
  <Override PartName="/ppt/media/image15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A3C0B-BAE9-44FF-AD80-FBADE1000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99011-B88A-4AA5-9BFF-C2EA3E44A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B91-504B-4666-BF81-51993D44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34A-3206-4B5D-A80B-D096DD18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525-19CD-4975-A4CE-84372DFD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9D6-C215-42CC-B44D-ADE60C0A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E20-4091-4E0A-95D3-7A8872E7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AF6-06FE-42B2-82C4-26A5F21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FAC-B55C-46CC-AE9D-BAF7C5F9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95E-E2C4-4C4B-9E91-CE2392B2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F9E-F0B1-4371-BFAC-D5BCD4EE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C83-2058-4103-89A3-CE891BA4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539-3B95-41C5-A79D-5D0A20E7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EC1-F3BF-4F73-97DE-E622EDA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0CE6-82CB-44B5-8682-41A34E9411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1093-BE28-404F-BCD5-ED0EF3A42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18     (3/24/2016)       Slide </a:t>
            </a:r>
            <a:fld id="{C1FFEC39-F3E8-4911-A632-D852A092A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urdue.edu/eva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1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26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concepts &amp; topics in Quantum Photonics and Quantum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Q 6-7, 13, Appendix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0" y="914400"/>
            <a:ext cx="7763040" cy="327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838080" y="4325760"/>
            <a:ext cx="5162760" cy="1924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 rot="16200000">
            <a:off x="207720" y="5134680"/>
            <a:ext cx="15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ntum regist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um paralle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5813640" cy="761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2145960" y="4876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06216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3260880" y="2689200"/>
            <a:ext cx="5505120" cy="237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4"/>
          <a:stretch/>
        </p:blipFill>
        <p:spPr>
          <a:xfrm>
            <a:off x="3962520" y="1676520"/>
            <a:ext cx="2931840" cy="63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5"/>
          <a:stretch/>
        </p:blipFill>
        <p:spPr>
          <a:xfrm>
            <a:off x="4568760" y="1325520"/>
            <a:ext cx="860400" cy="31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6"/>
          <a:stretch/>
        </p:blipFill>
        <p:spPr>
          <a:xfrm>
            <a:off x="3290760" y="5697360"/>
            <a:ext cx="5700960" cy="48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7"/>
          <a:stretch/>
        </p:blipFill>
        <p:spPr>
          <a:xfrm>
            <a:off x="7383600" y="633240"/>
            <a:ext cx="1751040" cy="1789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qubit gate (Bloch sphere ro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647800" cy="393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3301920" cy="2463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2301840" y="515880"/>
            <a:ext cx="49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qubit gates + controlled unitary 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g. CNO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um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4"/>
          <a:stretch/>
        </p:blipFill>
        <p:spPr>
          <a:xfrm>
            <a:off x="3581280" y="4419720"/>
            <a:ext cx="44323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86584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541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OT gate: an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705800" cy="5057640"/>
          </a:xfrm>
          <a:prstGeom prst="rect">
            <a:avLst/>
          </a:prstGeom>
          <a:ln w="0">
            <a:noFill/>
          </a:ln>
        </p:spPr>
      </p:pic>
      <p:sp>
        <p:nvSpPr>
          <p:cNvPr id="122" name="Oval 1"/>
          <p:cNvSpPr/>
          <p:nvPr/>
        </p:nvSpPr>
        <p:spPr>
          <a:xfrm>
            <a:off x="6629400" y="2819520"/>
            <a:ext cx="38088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5412600" y="160020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ng qubi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herence &amp; Gate Opera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95120" y="2209680"/>
            <a:ext cx="8753760" cy="3173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4126680" y="5562720"/>
            <a:ext cx="33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-tolerant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1960" y="65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ological quantum computing (TQ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681520" y="3125880"/>
            <a:ext cx="2833920" cy="2266920"/>
            <a:chOff x="5681520" y="3125880"/>
            <a:chExt cx="2833920" cy="2266920"/>
          </a:xfrm>
        </p:grpSpPr>
        <p:grpSp>
          <p:nvGrpSpPr>
            <p:cNvPr id="129" name="Group 4"/>
            <p:cNvGrpSpPr/>
            <p:nvPr/>
          </p:nvGrpSpPr>
          <p:grpSpPr>
            <a:xfrm>
              <a:off x="5681520" y="3125880"/>
              <a:ext cx="2833920" cy="2266920"/>
              <a:chOff x="5681520" y="3125880"/>
              <a:chExt cx="2833920" cy="2266920"/>
            </a:xfrm>
          </p:grpSpPr>
          <p:pic>
            <p:nvPicPr>
              <p:cNvPr id="130" name="Picture 22" descr="Image result for topological superconductivity majorana"/>
              <p:cNvPicPr/>
              <p:nvPr/>
            </p:nvPicPr>
            <p:blipFill>
              <a:blip r:embed="rId1"/>
              <a:stretch/>
            </p:blipFill>
            <p:spPr>
              <a:xfrm>
                <a:off x="5681520" y="3125880"/>
                <a:ext cx="283392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Rectangle 7"/>
              <p:cNvSpPr/>
              <p:nvPr/>
            </p:nvSpPr>
            <p:spPr>
              <a:xfrm>
                <a:off x="5681520" y="3197880"/>
                <a:ext cx="792720" cy="174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TextBox 5"/>
            <p:cNvSpPr/>
            <p:nvPr/>
          </p:nvSpPr>
          <p:spPr>
            <a:xfrm>
              <a:off x="7855200" y="4455000"/>
              <a:ext cx="23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Box 19"/>
          <p:cNvSpPr/>
          <p:nvPr/>
        </p:nvSpPr>
        <p:spPr>
          <a:xfrm>
            <a:off x="2141640" y="4037040"/>
            <a:ext cx="3835440" cy="1189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didate syst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ractional quantum Hall (GaAs 2D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pological insulator (e.g. BiSbTeSe2)+super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in-orbit semiconductor (e.g. InSb) +super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20"/>
          <p:cNvGrpSpPr/>
          <p:nvPr/>
        </p:nvGrpSpPr>
        <p:grpSpPr>
          <a:xfrm>
            <a:off x="163080" y="2581200"/>
            <a:ext cx="4207320" cy="3366000"/>
            <a:chOff x="163080" y="2581200"/>
            <a:chExt cx="4207320" cy="3366000"/>
          </a:xfrm>
        </p:grpSpPr>
        <p:grpSp>
          <p:nvGrpSpPr>
            <p:cNvPr id="135" name="Group 21"/>
            <p:cNvGrpSpPr/>
            <p:nvPr/>
          </p:nvGrpSpPr>
          <p:grpSpPr>
            <a:xfrm>
              <a:off x="163080" y="2581200"/>
              <a:ext cx="4207320" cy="3366000"/>
              <a:chOff x="163080" y="2581200"/>
              <a:chExt cx="4207320" cy="3366000"/>
            </a:xfrm>
          </p:grpSpPr>
          <p:pic>
            <p:nvPicPr>
              <p:cNvPr id="136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98440" y="3374280"/>
                <a:ext cx="1793880" cy="239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4000" y="2581200"/>
                <a:ext cx="1886400" cy="136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TextBox 28"/>
              <p:cNvSpPr/>
              <p:nvPr/>
            </p:nvSpPr>
            <p:spPr>
              <a:xfrm>
                <a:off x="288360" y="5716080"/>
                <a:ext cx="1811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G. Collins, Scientific American ‘0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Box 29"/>
              <p:cNvSpPr/>
              <p:nvPr/>
            </p:nvSpPr>
            <p:spPr>
              <a:xfrm>
                <a:off x="2105640" y="2745360"/>
                <a:ext cx="909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on-Abelian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tatstics (2D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Box 30"/>
              <p:cNvSpPr/>
              <p:nvPr/>
            </p:nvSpPr>
            <p:spPr>
              <a:xfrm>
                <a:off x="163080" y="3140280"/>
                <a:ext cx="195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Times New Roman"/>
                  </a:rPr>
                  <a:t>Topological quantum comput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769320" y="2676240"/>
              <a:ext cx="1136160" cy="514440"/>
              <a:chOff x="769320" y="2676240"/>
              <a:chExt cx="1136160" cy="514440"/>
            </a:xfrm>
          </p:grpSpPr>
          <p:pic>
            <p:nvPicPr>
              <p:cNvPr id="142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69320" y="2676240"/>
                <a:ext cx="113616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Straight Connector 24"/>
              <p:cNvSpPr/>
              <p:nvPr/>
            </p:nvSpPr>
            <p:spPr>
              <a:xfrm flipH="1">
                <a:off x="857160" y="2733120"/>
                <a:ext cx="32112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Straight Connector 25"/>
              <p:cNvSpPr/>
              <p:nvPr/>
            </p:nvSpPr>
            <p:spPr>
              <a:xfrm>
                <a:off x="857160" y="2733120"/>
                <a:ext cx="32112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Box 31"/>
          <p:cNvSpPr/>
          <p:nvPr/>
        </p:nvSpPr>
        <p:spPr>
          <a:xfrm>
            <a:off x="2160720" y="554184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rdue has the most complete and highest quality material se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jorana/TQC candida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4765680" y="22226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mise to be more immune to decoh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ult-tolera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397400" y="329076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4,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quantum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1143000" y="2209680"/>
            <a:ext cx="4800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eutsc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rover search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ho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Quantum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Quantum rep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[new quantum algorith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 algor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3080" y="1417680"/>
            <a:ext cx="696276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7035840" y="712800"/>
            <a:ext cx="2117520" cy="300816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5029200" y="1219320"/>
            <a:ext cx="990720" cy="6094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220480" y="579132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n” check an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72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26449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Colloquium on Thursday "Quantum optics with ultra-cold atoms” (Alex Kuzmich, Michig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ngXian"/>
              </a:rPr>
              <a:t>PHYS 203, 3:30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-1440" y="4419720"/>
            <a:ext cx="9067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Helvetica Neue"/>
              </a:rPr>
              <a:t>Abstract:  The advent of laser cooling thirty years ago enabled studies of properties of ultra-cold atomic gases and led to their applications in metrology and quantum information. Against this backdrop, in the last decade a world-wide effort in using ultra-cold atoms as nonlinear media for single photons has emerged. The near-ideal character of interaction between light and atomic ensembles cooled to micro-Kelvin-scale temperatures permits realization of textbook quantum-optical Hamiltonians while coupling to unwanted environments can be nearly eliminated. In this way ultra-cold atoms have been used for generation of single-photon and entangled light fields, their wavelength conversion and entanglement with atoms, and realization of many-body dynamics and long-term storage of quantum states.  Besides offering a rich new system for studying quantum mechanics, these advances may find applications in future information distribution and processing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ncenzo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802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5000760" cy="1685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6257880" cy="315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000760" y="205740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181480" y="3971880"/>
            <a:ext cx="2733840" cy="3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5"/>
          <a:stretch/>
        </p:blipFill>
        <p:spPr>
          <a:xfrm>
            <a:off x="5091120" y="4648320"/>
            <a:ext cx="2333520" cy="40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6"/>
          <a:stretch/>
        </p:blipFill>
        <p:spPr>
          <a:xfrm>
            <a:off x="3733920" y="5257800"/>
            <a:ext cx="5410080" cy="654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419720" y="5257800"/>
            <a:ext cx="2280960" cy="654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7711200" y="4691160"/>
            <a:ext cx="82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mor Pre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505320" cy="464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641760" y="1574640"/>
            <a:ext cx="1390680" cy="46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3610080" y="2055960"/>
            <a:ext cx="961920" cy="52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4"/>
          <a:stretch/>
        </p:blipFill>
        <p:spPr>
          <a:xfrm>
            <a:off x="5018040" y="2087640"/>
            <a:ext cx="24670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5"/>
          <a:stretch/>
        </p:blipFill>
        <p:spPr>
          <a:xfrm>
            <a:off x="3411360" y="2797200"/>
            <a:ext cx="41529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6"/>
          <a:stretch/>
        </p:blipFill>
        <p:spPr>
          <a:xfrm>
            <a:off x="4030560" y="3478320"/>
            <a:ext cx="1771920" cy="63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400800" y="3911760"/>
            <a:ext cx="1362240" cy="40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Rotating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31444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552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9360" y="2576520"/>
            <a:ext cx="275292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25560" y="4281480"/>
            <a:ext cx="2085840" cy="38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380880" y="4952880"/>
            <a:ext cx="828720" cy="2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7" descr=""/>
          <p:cNvPicPr/>
          <p:nvPr/>
        </p:nvPicPr>
        <p:blipFill>
          <a:blip r:embed="rId6"/>
          <a:stretch/>
        </p:blipFill>
        <p:spPr>
          <a:xfrm>
            <a:off x="4495680" y="1536840"/>
            <a:ext cx="4237200" cy="207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7"/>
          <a:stretch/>
        </p:blipFill>
        <p:spPr>
          <a:xfrm>
            <a:off x="7027920" y="1359000"/>
            <a:ext cx="2047680" cy="3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3960720" y="1414440"/>
            <a:ext cx="2138400" cy="28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tretch/>
        </p:blipFill>
        <p:spPr>
          <a:xfrm>
            <a:off x="2387520" y="3606840"/>
            <a:ext cx="2787840" cy="288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10"/>
          <a:stretch/>
        </p:blipFill>
        <p:spPr>
          <a:xfrm>
            <a:off x="5410080" y="4398840"/>
            <a:ext cx="1838520" cy="4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12" descr=""/>
          <p:cNvPicPr/>
          <p:nvPr/>
        </p:nvPicPr>
        <p:blipFill>
          <a:blip r:embed="rId11"/>
          <a:stretch/>
        </p:blipFill>
        <p:spPr>
          <a:xfrm>
            <a:off x="5251320" y="4973760"/>
            <a:ext cx="1781280" cy="44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12"/>
          <a:stretch/>
        </p:blipFill>
        <p:spPr>
          <a:xfrm>
            <a:off x="5175360" y="5421240"/>
            <a:ext cx="243828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5701680" y="61246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bi osci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MR) Bloch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952800" cy="20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1171440" y="4495680"/>
            <a:ext cx="6801120" cy="695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45520" y="57913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analogue:  optical Bloc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i Matrices (spin-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&#10;\sigma_1 = \sigma_x =&#10;\begin{pmatrix}&#10;0&amp;1\\&#10;1&amp;0&#10;\end{pmatrix}&#10;"/>
          <p:cNvPicPr/>
          <p:nvPr/>
        </p:nvPicPr>
        <p:blipFill>
          <a:blip r:embed="rId1"/>
          <a:stretch/>
        </p:blipFill>
        <p:spPr>
          <a:xfrm>
            <a:off x="981000" y="1600200"/>
            <a:ext cx="14572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&#10;\sigma_2 = \sigma_y =&#10;\begin{pmatrix}&#10;0&amp;-i\\&#10;i&amp;0&#10;\end{pmatrix}&#10;"/>
          <p:cNvPicPr/>
          <p:nvPr/>
        </p:nvPicPr>
        <p:blipFill>
          <a:blip r:embed="rId2"/>
          <a:stretch/>
        </p:blipFill>
        <p:spPr>
          <a:xfrm>
            <a:off x="981000" y="228600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&#10;\sigma_3 = \sigma_z =&#10;\begin{pmatrix}&#10;1&amp;0\\&#10;0&amp;-1&#10;\end{pmatrix}&#10;"/>
          <p:cNvPicPr/>
          <p:nvPr/>
        </p:nvPicPr>
        <p:blipFill>
          <a:blip r:embed="rId3"/>
          <a:stretch/>
        </p:blipFill>
        <p:spPr>
          <a:xfrm>
            <a:off x="952560" y="304812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&#10;\begin{array}{lclc}&#10;\psi_{x+}=\displaystyle\frac{1}{\sqrt{2}}\!\!\!\!\! &amp; \begin{pmatrix}{1}\\{1}\end{pmatrix}, &amp; \psi_{x-}=\displaystyle\frac{1}{\sqrt{2}}\!\!\!\!\! &amp; \begin{pmatrix}{1}\\{-1}\end{pmatrix}, \\&#10;\psi_{y+}=\displaystyle\frac{1}{\sqrt{2}}\!\!\!\!\! &amp; \begin{pmatrix}{1}\\{i}\end{pmatrix}, &amp; \psi_{y-}=\displaystyle\frac{1}{\sqrt{2}}\!\!\!\!\! &amp; \begin{pmatrix}{1}\\{-i}\end{pmatrix}, \\&#10;\psi_{z+}=                                          &amp; \begin{pmatrix}{1}\\{0}\end{pmatrix}, &amp; \psi_{z-}=                                          &amp; \begin{pmatrix}{0}\\{1}\end{pmatrix}.&#10;\end{array}&#10;"/>
          <p:cNvPicPr/>
          <p:nvPr/>
        </p:nvPicPr>
        <p:blipFill>
          <a:blip r:embed="rId4"/>
          <a:stretch/>
        </p:blipFill>
        <p:spPr>
          <a:xfrm>
            <a:off x="3936960" y="1616040"/>
            <a:ext cx="375912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048480" y="1595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048480" y="2281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53880" y="297972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81800" y="44956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mplest way to understand 2-level TDSE (after rotating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533520" y="811080"/>
            <a:ext cx="7596000" cy="365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3429000" y="4557600"/>
            <a:ext cx="2909880" cy="1875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-76320" y="55627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ndersypen LMK, Steffen M, Breyta G, Yannoni CS, Sherwood MH, Chuang IL (2001). "Experimental realization of Shor's quantum factoring algorithm using nuclear magnetic resonance". Nature 414 (6866): 883–8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67053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304920" y="109548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28480" y="1020600"/>
            <a:ext cx="7320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2 &amp; Paper 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ay 2 (5/2) evening 7-9pm in  PHYS 3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(or presentation) --- by 5/6 Fri 11:59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134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611280" y="684360"/>
            <a:ext cx="76183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744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384120" y="878040"/>
            <a:ext cx="76932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34920" y="1046160"/>
            <a:ext cx="827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15800" y="1066680"/>
            <a:ext cx="4191120" cy="294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3"/>
          <a:stretch/>
        </p:blipFill>
        <p:spPr>
          <a:xfrm>
            <a:off x="4648320" y="1352520"/>
            <a:ext cx="3632040" cy="2368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2362320" y="5029200"/>
            <a:ext cx="4167000" cy="10335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=3x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1417680"/>
            <a:ext cx="6618240" cy="49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6141960" y="2819520"/>
            <a:ext cx="30211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990720" y="873000"/>
            <a:ext cx="7238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eva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017880" y="16002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www.purdue.edu/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3124080"/>
          <a:ext cx="8229600" cy="660600"/>
        </p:xfrm>
        <a:graphic>
          <a:graphicData uri="http://schemas.openxmlformats.org/drawingml/2006/table">
            <a:tbl>
              <a:tblPr/>
              <a:tblGrid>
                <a:gridCol w="1235160"/>
                <a:gridCol w="3290760"/>
                <a:gridCol w="1069920"/>
                <a:gridCol w="987480"/>
                <a:gridCol w="824040"/>
                <a:gridCol w="822240"/>
              </a:tblGrid>
              <a:tr h="3304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 - S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rse 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ve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12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52200 - 0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r Optcs Quant Ele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 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9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queezed State/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826920"/>
            <a:ext cx="2011320" cy="6058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733840" cy="6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5172120" y="190512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2438280" y="2381400"/>
            <a:ext cx="2457720" cy="59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5"/>
          <a:stretch/>
        </p:blipFill>
        <p:spPr>
          <a:xfrm>
            <a:off x="2438280" y="2965320"/>
            <a:ext cx="4729320" cy="163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6"/>
          <a:stretch/>
        </p:blipFill>
        <p:spPr>
          <a:xfrm>
            <a:off x="6394320" y="2441520"/>
            <a:ext cx="2719440" cy="1649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2219760" y="49528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rate squeezed state/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egenerate parametric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harmonic generation (amplitude squeez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omechani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Figure 1"/>
          <p:cNvPicPr/>
          <p:nvPr/>
        </p:nvPicPr>
        <p:blipFill>
          <a:blip r:embed="rId7"/>
          <a:stretch/>
        </p:blipFill>
        <p:spPr>
          <a:xfrm>
            <a:off x="7108920" y="4413240"/>
            <a:ext cx="1749240" cy="1079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795920" y="618336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6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2015280" y="433224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hase sensitive amplif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on of Squeezed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2624040"/>
            <a:ext cx="3997440" cy="3194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68280" y="1622520"/>
            <a:ext cx="35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dyn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uadrature squeezed 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343400" y="1820880"/>
            <a:ext cx="1852560" cy="80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4343400" y="2779560"/>
            <a:ext cx="1146240" cy="2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4299120" y="3182760"/>
            <a:ext cx="3792240" cy="7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4343400" y="4145040"/>
            <a:ext cx="2867040" cy="780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0"/>
          <p:cNvSpPr/>
          <p:nvPr/>
        </p:nvSpPr>
        <p:spPr>
          <a:xfrm>
            <a:off x="4314960" y="5184720"/>
            <a:ext cx="44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hot noise  to super-sho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om squeezed to stretched qu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622680" cy="2219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45760" y="205740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squee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5562720" cy="3174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80240" y="1600200"/>
            <a:ext cx="65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 &amp; detection of amplitude squeezed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ample: freq. doubling – intensity 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 gat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80880" y="1646280"/>
            <a:ext cx="22100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chen</cp:lastModifiedBy>
  <cp:lastPrinted>2006-01-11T03:05:51Z</cp:lastPrinted>
  <dcterms:modified xsi:type="dcterms:W3CDTF">2016-04-26T04:47:27Z</dcterms:modified>
  <cp:revision>720</cp:revision>
  <dc:subject>Physics 272H, Spring 2007</dc:subject>
  <dc:title>Lecture 2</dc:title>
</cp:coreProperties>
</file>