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8.jpeg" ContentType="image/jpeg"/>
  <Override PartName="/ppt/media/image72.png" ContentType="image/png"/>
  <Override PartName="/ppt/media/image37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75.png" ContentType="image/png"/>
  <Override PartName="/ppt/media/image52.png" ContentType="image/png"/>
  <Override PartName="/ppt/media/image13.wmf" ContentType="image/x-wmf"/>
  <Override PartName="/ppt/media/image56.png" ContentType="image/png"/>
  <Override PartName="/ppt/media/image5.png" ContentType="image/png"/>
  <Override PartName="/ppt/media/image39.png" ContentType="image/png"/>
  <Override PartName="/ppt/media/image17.wmf" ContentType="image/x-wmf"/>
  <Override PartName="/ppt/media/image82.wmf" ContentType="image/x-wmf"/>
  <Override PartName="/ppt/media/image8.png" ContentType="image/png"/>
  <Override PartName="/ppt/media/image55.png" ContentType="image/png"/>
  <Override PartName="/ppt/media/image16.wmf" ContentType="image/x-wmf"/>
  <Override PartName="/ppt/media/image59.png" ContentType="image/png"/>
  <Override PartName="/ppt/media/image81.wmf" ContentType="image/x-wmf"/>
  <Override PartName="/ppt/media/image49.png" ContentType="image/png"/>
  <Override PartName="/ppt/media/image27.wmf" ContentType="image/x-wmf"/>
  <Override PartName="/ppt/media/image66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4.png" ContentType="image/png"/>
  <Override PartName="/ppt/media/image84.wmf" ContentType="image/x-wmf"/>
  <Override PartName="/ppt/media/image19.wmf" ContentType="image/x-wmf"/>
  <Override PartName="/ppt/media/image76.wmf" ContentType="image/x-wmf"/>
  <Override PartName="/ppt/media/image6.png" ContentType="image/png"/>
  <Override PartName="/ppt/media/image36.png" ContentType="image/png"/>
  <Override PartName="/ppt/media/image24.wmf" ContentType="image/x-wmf"/>
  <Override PartName="/ppt/media/image67.png" ContentType="image/png"/>
  <Override PartName="/ppt/media/image28.wmf" ContentType="image/x-wmf"/>
  <Override PartName="/ppt/media/image30.png" ContentType="image/png"/>
  <Override PartName="/ppt/media/image87.wmf" ContentType="image/x-wmf"/>
  <Override PartName="/ppt/media/image47.png" ContentType="image/png"/>
  <Override PartName="/ppt/media/image86.wmf" ContentType="image/x-wmf"/>
  <Override PartName="/ppt/media/image65.png" ContentType="image/png"/>
  <Override PartName="/ppt/media/image85.wmf" ContentType="image/x-wmf"/>
  <Override PartName="/ppt/media/image74.png" ContentType="image/png"/>
  <Override PartName="/ppt/media/image22.png" ContentType="image/png"/>
  <Override PartName="/ppt/media/image77.wmf" ContentType="image/x-wmf"/>
  <Override PartName="/ppt/media/image7.png" ContentType="image/png"/>
  <Override PartName="/ppt/media/image73.png" ContentType="image/png"/>
  <Override PartName="/ppt/media/image21.png" ContentType="image/png"/>
  <Override PartName="/ppt/media/image89.wmf" ContentType="image/x-wmf"/>
  <Override PartName="/ppt/media/image12.png" ContentType="image/png"/>
  <Override PartName="/ppt/media/image71.png" ContentType="image/png"/>
  <Override PartName="/ppt/media/image69.png" ContentType="image/png"/>
  <Override PartName="/ppt/media/image2.png" ContentType="image/png"/>
  <Override PartName="/ppt/media/image88.wmf" ContentType="image/x-wmf"/>
  <Override PartName="/ppt/media/image48.png" ContentType="image/png"/>
  <Override PartName="/ppt/media/image70.png" ContentType="image/png"/>
  <Override PartName="/ppt/media/image90.wmf" ContentType="image/x-wmf"/>
  <Override PartName="/ppt/media/image68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63.png" ContentType="image/png"/>
  <Override PartName="/ppt/media/image20.wmf" ContentType="image/x-wmf"/>
  <Override PartName="/ppt/media/image83.wmf" ContentType="image/x-wmf"/>
  <Override PartName="/ppt/media/image18.wmf" ContentType="image/x-wmf"/>
  <Override PartName="/ppt/media/image25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78.wmf" ContentType="image/x-wmf"/>
  <Override PartName="/ppt/media/image57.png" ContentType="image/png"/>
  <Override PartName="/ppt/media/image14.wmf" ContentType="image/x-wmf"/>
  <Override PartName="/ppt/media/image53.png" ContentType="image/png"/>
  <Override PartName="/ppt/media/image11.png" ContentType="image/png"/>
  <Override PartName="/ppt/media/image79.wmf" ContentType="image/x-wmf"/>
  <Override PartName="/ppt/media/image58.png" ContentType="image/png"/>
  <Override PartName="/ppt/media/image80.wmf" ContentType="image/x-wmf"/>
  <Override PartName="/ppt/media/image15.wmf" ContentType="image/x-wmf"/>
  <Override PartName="/ppt/media/image5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03625-4E15-415D-9339-090BBF854A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58953-CB21-4376-A1E3-BC00DD8266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FE0-A82A-4EEB-BFC5-EF3E0B57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929-24D7-4379-9B77-E34A8F24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84B-9EC9-4EC1-AEEF-687BB0FB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EAD-B1F2-43CE-9F1D-3E408449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581-D2B2-437C-BB47-765DE097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AF41-352C-4446-90E2-C90ADA2C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220-8F22-41E7-9EAB-BD8312EC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6E3F-A3F6-4AB0-802E-D9D727B2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58E-643E-4CDE-A13F-81E51F4B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51A-BE6E-4B94-9A55-E636C338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D8A-910B-4DCA-9030-149B3809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0ED-3284-4786-9D9F-1DDE45DA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F62C-8103-4A31-80D7-BD80EA75B2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1507-4489-4D21-A696-3AB9866C2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9AB6AF08-4C6A-4776-9B84-4E90FF501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image" Target="../media/image6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urdue.edu/eva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13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26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concepts &amp; topics in Quantum Photonics and Quantum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430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Q 6-7, 13, Appendix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0" y="914400"/>
            <a:ext cx="7763040" cy="3271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838080" y="4325760"/>
            <a:ext cx="5162760" cy="19242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 rot="16200000">
            <a:off x="207720" y="5134680"/>
            <a:ext cx="158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ntum regist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um paralle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5813640" cy="761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2145960" y="487692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3062160" cy="4876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3260880" y="2689200"/>
            <a:ext cx="5505120" cy="2371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" descr=""/>
          <p:cNvPicPr/>
          <p:nvPr/>
        </p:nvPicPr>
        <p:blipFill>
          <a:blip r:embed="rId4"/>
          <a:stretch/>
        </p:blipFill>
        <p:spPr>
          <a:xfrm>
            <a:off x="3962520" y="1676520"/>
            <a:ext cx="2931840" cy="631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5"/>
          <a:stretch/>
        </p:blipFill>
        <p:spPr>
          <a:xfrm>
            <a:off x="4568760" y="1325520"/>
            <a:ext cx="860400" cy="312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6"/>
          <a:stretch/>
        </p:blipFill>
        <p:spPr>
          <a:xfrm>
            <a:off x="3290760" y="5697360"/>
            <a:ext cx="5700960" cy="489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7"/>
          <a:stretch/>
        </p:blipFill>
        <p:spPr>
          <a:xfrm>
            <a:off x="7383600" y="633240"/>
            <a:ext cx="1751040" cy="1789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qubit gate (Bloch sphere ro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2647800" cy="3933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" descr=""/>
          <p:cNvPicPr/>
          <p:nvPr/>
        </p:nvPicPr>
        <p:blipFill>
          <a:blip r:embed="rId3"/>
          <a:stretch/>
        </p:blipFill>
        <p:spPr>
          <a:xfrm>
            <a:off x="3886200" y="1523880"/>
            <a:ext cx="3301920" cy="24638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2301840" y="515880"/>
            <a:ext cx="49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qubit gates + controlled unitary 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g. CNOT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um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4"/>
          <a:stretch/>
        </p:blipFill>
        <p:spPr>
          <a:xfrm>
            <a:off x="3581280" y="4419720"/>
            <a:ext cx="443232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5865840" cy="48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95416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NOT gate: an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705800" cy="5057640"/>
          </a:xfrm>
          <a:prstGeom prst="rect">
            <a:avLst/>
          </a:prstGeom>
          <a:ln w="0">
            <a:noFill/>
          </a:ln>
        </p:spPr>
      </p:pic>
      <p:sp>
        <p:nvSpPr>
          <p:cNvPr id="122" name="Oval 1"/>
          <p:cNvSpPr/>
          <p:nvPr/>
        </p:nvSpPr>
        <p:spPr>
          <a:xfrm>
            <a:off x="6629400" y="2819520"/>
            <a:ext cx="38088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5412600" y="160020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ng qubi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herence &amp; Gate Operati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95120" y="2209680"/>
            <a:ext cx="8753760" cy="31734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4126680" y="5562720"/>
            <a:ext cx="33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error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-tolerant Q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1960" y="65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pological quantum computing (TQ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5681520" y="3125880"/>
            <a:ext cx="2833920" cy="2266920"/>
            <a:chOff x="5681520" y="3125880"/>
            <a:chExt cx="2833920" cy="2266920"/>
          </a:xfrm>
        </p:grpSpPr>
        <p:grpSp>
          <p:nvGrpSpPr>
            <p:cNvPr id="129" name="Group 4"/>
            <p:cNvGrpSpPr/>
            <p:nvPr/>
          </p:nvGrpSpPr>
          <p:grpSpPr>
            <a:xfrm>
              <a:off x="5681520" y="3125880"/>
              <a:ext cx="2833920" cy="2266920"/>
              <a:chOff x="5681520" y="3125880"/>
              <a:chExt cx="2833920" cy="2266920"/>
            </a:xfrm>
          </p:grpSpPr>
          <p:pic>
            <p:nvPicPr>
              <p:cNvPr id="130" name="Picture 22" descr="Image result for topological superconductivity majorana"/>
              <p:cNvPicPr/>
              <p:nvPr/>
            </p:nvPicPr>
            <p:blipFill>
              <a:blip r:embed="rId1"/>
              <a:stretch/>
            </p:blipFill>
            <p:spPr>
              <a:xfrm>
                <a:off x="5681520" y="3125880"/>
                <a:ext cx="2833920" cy="22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Rectangle 7"/>
              <p:cNvSpPr/>
              <p:nvPr/>
            </p:nvSpPr>
            <p:spPr>
              <a:xfrm>
                <a:off x="5681520" y="3197880"/>
                <a:ext cx="792720" cy="174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TextBox 5"/>
            <p:cNvSpPr/>
            <p:nvPr/>
          </p:nvSpPr>
          <p:spPr>
            <a:xfrm>
              <a:off x="7855200" y="4455000"/>
              <a:ext cx="231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TextBox 19"/>
          <p:cNvSpPr/>
          <p:nvPr/>
        </p:nvSpPr>
        <p:spPr>
          <a:xfrm>
            <a:off x="2141640" y="4037040"/>
            <a:ext cx="3835440" cy="1189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didate syst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ractional quantum Hall (GaAs 2D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opological insulator (e.g. BiSbTeSe2)+super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pin-orbit semiconductor (e.g. InSb) +super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20"/>
          <p:cNvGrpSpPr/>
          <p:nvPr/>
        </p:nvGrpSpPr>
        <p:grpSpPr>
          <a:xfrm>
            <a:off x="163080" y="2581200"/>
            <a:ext cx="4207320" cy="3366000"/>
            <a:chOff x="163080" y="2581200"/>
            <a:chExt cx="4207320" cy="3366000"/>
          </a:xfrm>
        </p:grpSpPr>
        <p:grpSp>
          <p:nvGrpSpPr>
            <p:cNvPr id="135" name="Group 21"/>
            <p:cNvGrpSpPr/>
            <p:nvPr/>
          </p:nvGrpSpPr>
          <p:grpSpPr>
            <a:xfrm>
              <a:off x="163080" y="2581200"/>
              <a:ext cx="4207320" cy="3366000"/>
              <a:chOff x="163080" y="2581200"/>
              <a:chExt cx="4207320" cy="3366000"/>
            </a:xfrm>
          </p:grpSpPr>
          <p:pic>
            <p:nvPicPr>
              <p:cNvPr id="136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98440" y="3374280"/>
                <a:ext cx="1793880" cy="239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4000" y="2581200"/>
                <a:ext cx="1886400" cy="136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TextBox 28"/>
              <p:cNvSpPr/>
              <p:nvPr/>
            </p:nvSpPr>
            <p:spPr>
              <a:xfrm>
                <a:off x="288360" y="5716080"/>
                <a:ext cx="1811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G. Collins, Scientific American ‘0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Box 29"/>
              <p:cNvSpPr/>
              <p:nvPr/>
            </p:nvSpPr>
            <p:spPr>
              <a:xfrm>
                <a:off x="2105640" y="2745360"/>
                <a:ext cx="9093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on-Abelian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tatstics (2D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TextBox 30"/>
              <p:cNvSpPr/>
              <p:nvPr/>
            </p:nvSpPr>
            <p:spPr>
              <a:xfrm>
                <a:off x="163080" y="3140280"/>
                <a:ext cx="195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Times New Roman"/>
                  </a:rPr>
                  <a:t>Topological quantum comput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769320" y="2676240"/>
              <a:ext cx="1136160" cy="514440"/>
              <a:chOff x="769320" y="2676240"/>
              <a:chExt cx="1136160" cy="514440"/>
            </a:xfrm>
          </p:grpSpPr>
          <p:pic>
            <p:nvPicPr>
              <p:cNvPr id="142" name="Pictur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69320" y="2676240"/>
                <a:ext cx="1136160" cy="51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Straight Connector 24"/>
              <p:cNvSpPr/>
              <p:nvPr/>
            </p:nvSpPr>
            <p:spPr>
              <a:xfrm flipH="1">
                <a:off x="857160" y="2733120"/>
                <a:ext cx="321120" cy="3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Straight Connector 25"/>
              <p:cNvSpPr/>
              <p:nvPr/>
            </p:nvSpPr>
            <p:spPr>
              <a:xfrm>
                <a:off x="857160" y="2733120"/>
                <a:ext cx="321120" cy="3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TextBox 31"/>
          <p:cNvSpPr/>
          <p:nvPr/>
        </p:nvSpPr>
        <p:spPr>
          <a:xfrm>
            <a:off x="2160720" y="5541840"/>
            <a:ext cx="619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urdue has the most complete and highest quality material se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jorana/TQC candidat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32"/>
          <p:cNvSpPr/>
          <p:nvPr/>
        </p:nvSpPr>
        <p:spPr>
          <a:xfrm>
            <a:off x="4765680" y="222264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mise to be more immune to decoh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ault-toleran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4397400" y="329076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24,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quantum computer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2"/>
          <p:cNvSpPr/>
          <p:nvPr/>
        </p:nvSpPr>
        <p:spPr>
          <a:xfrm>
            <a:off x="1143000" y="2209680"/>
            <a:ext cx="4800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eutsch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Grover search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hor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Quantum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Quantum rep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[new quantum algorith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utsch algor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73080" y="1417680"/>
            <a:ext cx="6962760" cy="363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7035840" y="712800"/>
            <a:ext cx="2117520" cy="3008160"/>
          </a:xfrm>
          <a:prstGeom prst="rect">
            <a:avLst/>
          </a:prstGeom>
          <a:ln w="0">
            <a:noFill/>
          </a:ln>
        </p:spPr>
      </p:pic>
      <p:sp>
        <p:nvSpPr>
          <p:cNvPr id="153" name="Oval 5"/>
          <p:cNvSpPr/>
          <p:nvPr/>
        </p:nvSpPr>
        <p:spPr>
          <a:xfrm>
            <a:off x="5029200" y="1219320"/>
            <a:ext cx="990720" cy="6094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2220480" y="579132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in” check ano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72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57200" y="264492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ngXian"/>
              </a:rPr>
              <a:t>Colloquium on Thursday "Quantum optics with ultra-cold atoms” (Alex Kuzmich, Michig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ngXian"/>
              </a:rPr>
              <a:t>PHYS 203, 3:30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-1440" y="4419720"/>
            <a:ext cx="90676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Helvetica Neue"/>
              </a:rPr>
              <a:t>Abstract:  The advent of laser cooling thirty years ago enabled studies of properties of ultra-cold atomic gases and led to their applications in metrology and quantum information. Against this backdrop, in the last decade a world-wide effort in using ultra-cold atoms as nonlinear media for single photons has emerged. The near-ideal character of interaction between light and atomic ensembles cooled to micro-Kelvin-scale temperatures permits realization of textbook quantum-optical Hamiltonians while coupling to unwanted environments can be nearly eliminated. In this way ultra-cold atoms have been used for generation of single-photon and entangled light fields, their wavelength conversion and entanglement with atoms, and realization of many-body dynamics and long-term storage of quantum states.  Besides offering a rich new system for studying quantum mechanics, these advances may find applications in future information distribution and processing syst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ncenzo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78024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5000760" cy="1685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0" y="2590920"/>
            <a:ext cx="6257880" cy="3152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5000760" y="2057400"/>
            <a:ext cx="3400200" cy="1762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4"/>
          <a:stretch/>
        </p:blipFill>
        <p:spPr>
          <a:xfrm>
            <a:off x="5181480" y="3971880"/>
            <a:ext cx="2733840" cy="3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Picture 6" descr=""/>
          <p:cNvPicPr/>
          <p:nvPr/>
        </p:nvPicPr>
        <p:blipFill>
          <a:blip r:embed="rId5"/>
          <a:stretch/>
        </p:blipFill>
        <p:spPr>
          <a:xfrm>
            <a:off x="5091120" y="4648320"/>
            <a:ext cx="2333520" cy="40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6"/>
          <a:stretch/>
        </p:blipFill>
        <p:spPr>
          <a:xfrm>
            <a:off x="3733920" y="5257800"/>
            <a:ext cx="5410080" cy="6541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4419720" y="5257800"/>
            <a:ext cx="2280960" cy="654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7711200" y="4691160"/>
            <a:ext cx="823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~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mor Pre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505320" cy="4648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3641760" y="1574640"/>
            <a:ext cx="1390680" cy="466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3"/>
          <a:stretch/>
        </p:blipFill>
        <p:spPr>
          <a:xfrm>
            <a:off x="3610080" y="2055960"/>
            <a:ext cx="961920" cy="52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4"/>
          <a:stretch/>
        </p:blipFill>
        <p:spPr>
          <a:xfrm>
            <a:off x="5018040" y="2087640"/>
            <a:ext cx="246708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5"/>
          <a:stretch/>
        </p:blipFill>
        <p:spPr>
          <a:xfrm>
            <a:off x="3411360" y="2797200"/>
            <a:ext cx="4152960" cy="1000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6"/>
          <a:stretch/>
        </p:blipFill>
        <p:spPr>
          <a:xfrm>
            <a:off x="4030560" y="3478320"/>
            <a:ext cx="1771920" cy="63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3" name="Picture 8" descr=""/>
          <p:cNvPicPr/>
          <p:nvPr/>
        </p:nvPicPr>
        <p:blipFill>
          <a:blip r:embed="rId7"/>
          <a:stretch/>
        </p:blipFill>
        <p:spPr>
          <a:xfrm>
            <a:off x="6400800" y="3911760"/>
            <a:ext cx="1362240" cy="40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MR) Rotating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314440" cy="390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355284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9360" y="2576520"/>
            <a:ext cx="2752920" cy="170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4"/>
          <a:stretch/>
        </p:blipFill>
        <p:spPr>
          <a:xfrm>
            <a:off x="25560" y="4281480"/>
            <a:ext cx="2085840" cy="38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5"/>
          <a:stretch/>
        </p:blipFill>
        <p:spPr>
          <a:xfrm>
            <a:off x="380880" y="4952880"/>
            <a:ext cx="828720" cy="2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Picture 7" descr=""/>
          <p:cNvPicPr/>
          <p:nvPr/>
        </p:nvPicPr>
        <p:blipFill>
          <a:blip r:embed="rId6"/>
          <a:stretch/>
        </p:blipFill>
        <p:spPr>
          <a:xfrm>
            <a:off x="4495680" y="1536840"/>
            <a:ext cx="4237200" cy="2070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7"/>
          <a:stretch/>
        </p:blipFill>
        <p:spPr>
          <a:xfrm>
            <a:off x="7027920" y="1359000"/>
            <a:ext cx="2047680" cy="355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8"/>
          <a:stretch/>
        </p:blipFill>
        <p:spPr>
          <a:xfrm>
            <a:off x="3960720" y="1414440"/>
            <a:ext cx="2138400" cy="284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9"/>
          <a:stretch/>
        </p:blipFill>
        <p:spPr>
          <a:xfrm>
            <a:off x="2387520" y="3606840"/>
            <a:ext cx="2787840" cy="2886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10"/>
          <a:stretch/>
        </p:blipFill>
        <p:spPr>
          <a:xfrm>
            <a:off x="5410080" y="4398840"/>
            <a:ext cx="1838520" cy="4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Picture 12" descr=""/>
          <p:cNvPicPr/>
          <p:nvPr/>
        </p:nvPicPr>
        <p:blipFill>
          <a:blip r:embed="rId11"/>
          <a:stretch/>
        </p:blipFill>
        <p:spPr>
          <a:xfrm>
            <a:off x="5251320" y="4973760"/>
            <a:ext cx="1781280" cy="447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"/>
          <p:cNvPicPr/>
          <p:nvPr/>
        </p:nvPicPr>
        <p:blipFill>
          <a:blip r:embed="rId12"/>
          <a:stretch/>
        </p:blipFill>
        <p:spPr>
          <a:xfrm>
            <a:off x="5175360" y="5421240"/>
            <a:ext cx="2438280" cy="7714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5701680" y="612468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abi oscil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MR) Bloch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952800" cy="20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1171440" y="4495680"/>
            <a:ext cx="6801120" cy="6955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3"/>
          <p:cNvSpPr/>
          <p:nvPr/>
        </p:nvSpPr>
        <p:spPr>
          <a:xfrm>
            <a:off x="245520" y="579132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tical analogue:  optical Bloch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li Matrices (spin-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&#10;\sigma_1 = \sigma_x =&#10;\begin{pmatrix}&#10;0&amp;1\\&#10;1&amp;0&#10;\end{pmatrix}&#10;"/>
          <p:cNvPicPr/>
          <p:nvPr/>
        </p:nvPicPr>
        <p:blipFill>
          <a:blip r:embed="rId1"/>
          <a:stretch/>
        </p:blipFill>
        <p:spPr>
          <a:xfrm>
            <a:off x="981000" y="1600200"/>
            <a:ext cx="14572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&#10;\sigma_2 = \sigma_y =&#10;\begin{pmatrix}&#10;0&amp;-i\\&#10;i&amp;0&#10;\end{pmatrix}&#10;"/>
          <p:cNvPicPr/>
          <p:nvPr/>
        </p:nvPicPr>
        <p:blipFill>
          <a:blip r:embed="rId2"/>
          <a:stretch/>
        </p:blipFill>
        <p:spPr>
          <a:xfrm>
            <a:off x="981000" y="2286000"/>
            <a:ext cx="1571760" cy="457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&#10;\sigma_3 = \sigma_z =&#10;\begin{pmatrix}&#10;1&amp;0\\&#10;0&amp;-1&#10;\end{pmatrix}&#10;"/>
          <p:cNvPicPr/>
          <p:nvPr/>
        </p:nvPicPr>
        <p:blipFill>
          <a:blip r:embed="rId3"/>
          <a:stretch/>
        </p:blipFill>
        <p:spPr>
          <a:xfrm>
            <a:off x="952560" y="3048120"/>
            <a:ext cx="1600200" cy="457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&#10;\begin{array}{lclc}&#10;\psi_{x+}=\displaystyle\frac{1}{\sqrt{2}}\!\!\!\!\! &amp; \begin{pmatrix}{1}\\{1}\end{pmatrix}, &amp; \psi_{x-}=\displaystyle\frac{1}{\sqrt{2}}\!\!\!\!\! &amp; \begin{pmatrix}{1}\\{-1}\end{pmatrix}, \\&#10;\psi_{y+}=\displaystyle\frac{1}{\sqrt{2}}\!\!\!\!\! &amp; \begin{pmatrix}{1}\\{i}\end{pmatrix}, &amp; \psi_{y-}=\displaystyle\frac{1}{\sqrt{2}}\!\!\!\!\! &amp; \begin{pmatrix}{1}\\{-i}\end{pmatrix}, \\&#10;\psi_{z+}=                                          &amp; \begin{pmatrix}{1}\\{0}\end{pmatrix}, &amp; \psi_{z-}=                                          &amp; \begin{pmatrix}{0}\\{1}\end{pmatrix}.&#10;\end{array}&#10;"/>
          <p:cNvPicPr/>
          <p:nvPr/>
        </p:nvPicPr>
        <p:blipFill>
          <a:blip r:embed="rId4"/>
          <a:stretch/>
        </p:blipFill>
        <p:spPr>
          <a:xfrm>
            <a:off x="3936960" y="1616040"/>
            <a:ext cx="3759120" cy="18288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3048480" y="15955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3048480" y="2281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3053880" y="297972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181800" y="4495680"/>
            <a:ext cx="84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mplest way to understand 2-level TDSE (after rotating fr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533520" y="811080"/>
            <a:ext cx="7596000" cy="3657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3"/>
          <a:stretch/>
        </p:blipFill>
        <p:spPr>
          <a:xfrm>
            <a:off x="3429000" y="4557600"/>
            <a:ext cx="2909880" cy="1875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-76320" y="556272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ndersypen LMK, Steffen M, Breyta G, Yannoni CS, Sherwood MH, Chuang IL (2001). "Experimental realization of Shor's quantum factoring algorithm using nuclear magnetic resonance". Nature 414 (6866): 883–8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670536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304920" y="109548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528480" y="1020600"/>
            <a:ext cx="7320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 2 &amp; Paper 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May 2 (5/2) evening 7-9pm in  PHYS 3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(or presentation) --- by 5/6 Fri 11:59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134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611280" y="684360"/>
            <a:ext cx="761832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8744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384120" y="878040"/>
            <a:ext cx="769320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34920" y="1046160"/>
            <a:ext cx="82710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415800" y="1066680"/>
            <a:ext cx="4191120" cy="2941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3"/>
          <a:stretch/>
        </p:blipFill>
        <p:spPr>
          <a:xfrm>
            <a:off x="4648320" y="1352520"/>
            <a:ext cx="3632040" cy="2368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4"/>
          <a:stretch/>
        </p:blipFill>
        <p:spPr>
          <a:xfrm>
            <a:off x="2362320" y="5029200"/>
            <a:ext cx="4167000" cy="10335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=3x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0" y="1417680"/>
            <a:ext cx="6618240" cy="4965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"/>
          <p:cNvPicPr/>
          <p:nvPr/>
        </p:nvPicPr>
        <p:blipFill>
          <a:blip r:embed="rId2"/>
          <a:stretch/>
        </p:blipFill>
        <p:spPr>
          <a:xfrm>
            <a:off x="6141960" y="2819520"/>
            <a:ext cx="30211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990720" y="873000"/>
            <a:ext cx="72388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947880" y="1600200"/>
            <a:ext cx="724824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eva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3017880" y="1600200"/>
            <a:ext cx="31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MS PGothic"/>
                <a:hlinkClick r:id="rId1"/>
              </a:rPr>
              <a:t>www.purdue.edu/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3124080"/>
          <a:ext cx="8229600" cy="660600"/>
        </p:xfrm>
        <a:graphic>
          <a:graphicData uri="http://schemas.openxmlformats.org/drawingml/2006/table">
            <a:tbl>
              <a:tblPr/>
              <a:tblGrid>
                <a:gridCol w="1235160"/>
                <a:gridCol w="3290760"/>
                <a:gridCol w="1069920"/>
                <a:gridCol w="987480"/>
                <a:gridCol w="824040"/>
                <a:gridCol w="822240"/>
              </a:tblGrid>
              <a:tr h="33048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rse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 - Se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rse Na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ct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eiv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vey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vey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012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52200 - 0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r Optcs Quant Elec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18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 A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9 P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queezed State/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826920"/>
            <a:ext cx="2011320" cy="6058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2733840" cy="628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5172120" y="1905120"/>
            <a:ext cx="971640" cy="323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2438280" y="2381400"/>
            <a:ext cx="2457720" cy="599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5"/>
          <a:stretch/>
        </p:blipFill>
        <p:spPr>
          <a:xfrm>
            <a:off x="2438280" y="2965320"/>
            <a:ext cx="4729320" cy="163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6"/>
          <a:stretch/>
        </p:blipFill>
        <p:spPr>
          <a:xfrm>
            <a:off x="6394320" y="2441520"/>
            <a:ext cx="2719440" cy="164952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2219760" y="4952880"/>
            <a:ext cx="59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nerate squeezed state/l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egenerate parametric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harmonic generation (amplitude squeez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tomechanic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9" descr="Figure 1"/>
          <p:cNvPicPr/>
          <p:nvPr/>
        </p:nvPicPr>
        <p:blipFill>
          <a:blip r:embed="rId7"/>
          <a:stretch/>
        </p:blipFill>
        <p:spPr>
          <a:xfrm>
            <a:off x="7108920" y="4413240"/>
            <a:ext cx="1749240" cy="10796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4795920" y="6183360"/>
            <a:ext cx="31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physics.aps.org/articles/v6/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2015280" y="433224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hase sensitive amplifi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ction of Squeezed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2624040"/>
            <a:ext cx="3997440" cy="319428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368280" y="1622520"/>
            <a:ext cx="35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dyne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uadrature squeezed l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4343400" y="1820880"/>
            <a:ext cx="1852560" cy="803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4343400" y="2779560"/>
            <a:ext cx="1146240" cy="24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4"/>
          <a:stretch/>
        </p:blipFill>
        <p:spPr>
          <a:xfrm>
            <a:off x="4299120" y="3182760"/>
            <a:ext cx="3792240" cy="792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5"/>
          <a:stretch/>
        </p:blipFill>
        <p:spPr>
          <a:xfrm>
            <a:off x="4343400" y="4145040"/>
            <a:ext cx="2867040" cy="7808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0"/>
          <p:cNvSpPr/>
          <p:nvPr/>
        </p:nvSpPr>
        <p:spPr>
          <a:xfrm>
            <a:off x="4314960" y="5184720"/>
            <a:ext cx="44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hot noise  to super-sho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om squeezed to stretched qu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3622680" cy="2219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545760" y="205740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 squee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5562720" cy="317484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480240" y="1600200"/>
            <a:ext cx="658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ion &amp; detection of amplitude squeezed l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ample: freq. doubling – intensity 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cal gate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80880" y="1646280"/>
            <a:ext cx="22100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chen</cp:lastModifiedBy>
  <cp:lastPrinted>2006-01-11T03:05:51Z</cp:lastPrinted>
  <dcterms:modified xsi:type="dcterms:W3CDTF">2016-04-26T04:47:27Z</dcterms:modified>
  <cp:revision>720</cp:revision>
  <dc:subject>Physics 272H, Spring 2007</dc:subject>
  <dc:title>Lecture 2</dc:title>
</cp:coreProperties>
</file>