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5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5.png" ContentType="image/png"/>
  <Override PartName="/ppt/media/image39.png" ContentType="image/png"/>
  <Override PartName="/ppt/media/image17.wmf" ContentType="image/x-wmf"/>
  <Override PartName="/ppt/media/image82.wmf" ContentType="image/x-wmf"/>
  <Override PartName="/ppt/media/image8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81.wmf" ContentType="image/x-wmf"/>
  <Override PartName="/ppt/media/image49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84.wmf" ContentType="image/x-wmf"/>
  <Override PartName="/ppt/media/image19.wmf" ContentType="image/x-wmf"/>
  <Override PartName="/ppt/media/image76.wmf" ContentType="image/x-wmf"/>
  <Override PartName="/ppt/media/image6.png" ContentType="image/png"/>
  <Override PartName="/ppt/media/image36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87.wmf" ContentType="image/x-wmf"/>
  <Override PartName="/ppt/media/image47.png" ContentType="image/png"/>
  <Override PartName="/ppt/media/image86.wmf" ContentType="image/x-wmf"/>
  <Override PartName="/ppt/media/image65.png" ContentType="image/png"/>
  <Override PartName="/ppt/media/image85.wmf" ContentType="image/x-wmf"/>
  <Override PartName="/ppt/media/image74.png" ContentType="image/png"/>
  <Override PartName="/ppt/media/image22.png" ContentType="image/png"/>
  <Override PartName="/ppt/media/image77.wmf" ContentType="image/x-wmf"/>
  <Override PartName="/ppt/media/image7.png" ContentType="image/png"/>
  <Override PartName="/ppt/media/image73.png" ContentType="image/png"/>
  <Override PartName="/ppt/media/image21.png" ContentType="image/png"/>
  <Override PartName="/ppt/media/image89.wmf" ContentType="image/x-wmf"/>
  <Override PartName="/ppt/media/image12.png" ContentType="image/png"/>
  <Override PartName="/ppt/media/image71.png" ContentType="image/png"/>
  <Override PartName="/ppt/media/image69.png" ContentType="image/png"/>
  <Override PartName="/ppt/media/image2.png" ContentType="image/png"/>
  <Override PartName="/ppt/media/image88.wmf" ContentType="image/x-wmf"/>
  <Override PartName="/ppt/media/image48.png" ContentType="image/png"/>
  <Override PartName="/ppt/media/image70.png" ContentType="image/png"/>
  <Override PartName="/ppt/media/image90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25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8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79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F357A-399C-41AD-8827-519E69DF1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2824E-6674-4278-9862-3BEA9D135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625-C460-48C5-8747-4568BA7C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6B6-D94B-4BA1-89EE-CDF5C9A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671-2E54-40F7-9894-5CF8EA38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D54-E9F5-48F3-9392-3E992A43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A8F-610C-4BF5-834A-06FAC49E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928-2C33-4055-B5B4-6388D32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33F-8CA5-4031-B47B-E99FCDF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B42-9F12-4A04-9363-04361FCA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D8C-07B3-4D97-BE59-48B0565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B48-0C90-4F6E-8AE9-A631DF3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40C-52C0-4D94-9494-554B842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135-0528-469B-81BA-E62938E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0963-2AE8-48F4-96D5-4964C4BC5E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3AFB-C3F9-4B98-AD06-B876135D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7F5EC9D7-6F74-4CBC-91ED-95229C8E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6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concepts &amp; topics in Quantum Photonics and Quantum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6-7, 13, Appendi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 rot="16200000">
            <a:off x="207720" y="51346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ntum regist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813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145960" y="4876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6216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260880" y="2689200"/>
            <a:ext cx="5505120" cy="23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2931840" cy="63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4568760" y="1325520"/>
            <a:ext cx="860400" cy="31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6"/>
          <a:stretch/>
        </p:blipFill>
        <p:spPr>
          <a:xfrm>
            <a:off x="3290760" y="5697360"/>
            <a:ext cx="5700960" cy="48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7"/>
          <a:stretch/>
        </p:blipFill>
        <p:spPr>
          <a:xfrm>
            <a:off x="7383600" y="633240"/>
            <a:ext cx="175104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qubit gate (Bloch sphere r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301840" y="51588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qubit gates + controlled unitary 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g. CNO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um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3581280" y="4419720"/>
            <a:ext cx="4432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86584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541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OT gate: 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  <p:sp>
        <p:nvSpPr>
          <p:cNvPr id="122" name="Oval 1"/>
          <p:cNvSpPr/>
          <p:nvPr/>
        </p:nvSpPr>
        <p:spPr>
          <a:xfrm>
            <a:off x="6629400" y="2819520"/>
            <a:ext cx="38088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12600" y="16002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ng qubi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herence &amp; Gate Op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5120" y="2209680"/>
            <a:ext cx="8753760" cy="317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26680" y="556272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-tolerant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196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ical quantum computing (TQ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681520" y="3125880"/>
            <a:ext cx="2833920" cy="2266920"/>
            <a:chOff x="5681520" y="3125880"/>
            <a:chExt cx="2833920" cy="2266920"/>
          </a:xfrm>
        </p:grpSpPr>
        <p:grpSp>
          <p:nvGrpSpPr>
            <p:cNvPr id="129" name="Group 4"/>
            <p:cNvGrpSpPr/>
            <p:nvPr/>
          </p:nvGrpSpPr>
          <p:grpSpPr>
            <a:xfrm>
              <a:off x="5681520" y="3125880"/>
              <a:ext cx="2833920" cy="2266920"/>
              <a:chOff x="5681520" y="3125880"/>
              <a:chExt cx="2833920" cy="2266920"/>
            </a:xfrm>
          </p:grpSpPr>
          <p:pic>
            <p:nvPicPr>
              <p:cNvPr id="130" name="Picture 22" descr="Image result for topological superconductivity majorana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125880"/>
                <a:ext cx="283392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Rectangle 7"/>
              <p:cNvSpPr/>
              <p:nvPr/>
            </p:nvSpPr>
            <p:spPr>
              <a:xfrm>
                <a:off x="5681520" y="3197880"/>
                <a:ext cx="792720" cy="17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TextBox 5"/>
            <p:cNvSpPr/>
            <p:nvPr/>
          </p:nvSpPr>
          <p:spPr>
            <a:xfrm>
              <a:off x="7855200" y="4455000"/>
              <a:ext cx="23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Box 19"/>
          <p:cNvSpPr/>
          <p:nvPr/>
        </p:nvSpPr>
        <p:spPr>
          <a:xfrm>
            <a:off x="2141640" y="4037040"/>
            <a:ext cx="3835440" cy="1189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didate syst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ractional quantum Hall (GaAs 2D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pological insulator (e.g. BiSbTeSe2)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in-orbit semiconductor (e.g. InSb) 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163080" y="2581200"/>
            <a:ext cx="4207320" cy="3366000"/>
            <a:chOff x="163080" y="2581200"/>
            <a:chExt cx="4207320" cy="3366000"/>
          </a:xfrm>
        </p:grpSpPr>
        <p:grpSp>
          <p:nvGrpSpPr>
            <p:cNvPr id="135" name="Group 21"/>
            <p:cNvGrpSpPr/>
            <p:nvPr/>
          </p:nvGrpSpPr>
          <p:grpSpPr>
            <a:xfrm>
              <a:off x="163080" y="2581200"/>
              <a:ext cx="4207320" cy="3366000"/>
              <a:chOff x="163080" y="2581200"/>
              <a:chExt cx="4207320" cy="3366000"/>
            </a:xfrm>
          </p:grpSpPr>
          <p:pic>
            <p:nvPicPr>
              <p:cNvPr id="136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440" y="3374280"/>
                <a:ext cx="1793880" cy="23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000" y="2581200"/>
                <a:ext cx="1886400" cy="136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Box 28"/>
              <p:cNvSpPr/>
              <p:nvPr/>
            </p:nvSpPr>
            <p:spPr>
              <a:xfrm>
                <a:off x="288360" y="5716080"/>
                <a:ext cx="1811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G. Collins, Scientific American ‘0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Box 29"/>
              <p:cNvSpPr/>
              <p:nvPr/>
            </p:nvSpPr>
            <p:spPr>
              <a:xfrm>
                <a:off x="2105640" y="2745360"/>
                <a:ext cx="90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on-Abelian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tstics (2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Box 30"/>
              <p:cNvSpPr/>
              <p:nvPr/>
            </p:nvSpPr>
            <p:spPr>
              <a:xfrm>
                <a:off x="163080" y="3140280"/>
                <a:ext cx="195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Times New Roman"/>
                  </a:rPr>
                  <a:t>Topological quantum compu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769320" y="2676240"/>
              <a:ext cx="1136160" cy="514440"/>
              <a:chOff x="769320" y="2676240"/>
              <a:chExt cx="1136160" cy="514440"/>
            </a:xfrm>
          </p:grpSpPr>
          <p:pic>
            <p:nvPicPr>
              <p:cNvPr id="142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9320" y="2676240"/>
                <a:ext cx="113616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Straight Connector 24"/>
              <p:cNvSpPr/>
              <p:nvPr/>
            </p:nvSpPr>
            <p:spPr>
              <a:xfrm flipH="1"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Straight Connector 25"/>
              <p:cNvSpPr/>
              <p:nvPr/>
            </p:nvSpPr>
            <p:spPr>
              <a:xfrm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Box 31"/>
          <p:cNvSpPr/>
          <p:nvPr/>
        </p:nvSpPr>
        <p:spPr>
          <a:xfrm>
            <a:off x="2160720" y="554184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due has the most complete and highest quality material se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jorana/TQC candida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4765680" y="22226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mise to be more immune to decoh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-tolera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97400" y="32907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4,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1143000" y="220968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[new quantum algorit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algor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080" y="1417680"/>
            <a:ext cx="696276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7035840" y="712800"/>
            <a:ext cx="2117520" cy="300816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29200" y="1219320"/>
            <a:ext cx="990720" cy="609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220480" y="579132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” check an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2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26449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hursday "Quantum optics with ultra-cold atoms” (Alex Kuzmich, Michig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-1440" y="4419720"/>
            <a:ext cx="9067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Helvetica Neue"/>
              </a:rPr>
              <a:t>Abstract:  The advent of laser cooling thirty years ago enabled studies of properties of ultra-cold atomic gases and led to their applications in metrology and quantum information. Against this backdrop, in the last decade a world-wide effort in using ultra-cold atoms as nonlinear media for single photons has emerged. The near-ideal character of interaction between light and atomic ensembles cooled to micro-Kelvin-scale temperatures permits realization of textbook quantum-optical Hamiltonians while coupling to unwanted environments can be nearly eliminated. In this way ultra-cold atoms have been used for generation of single-photon and entangled light fields, their wavelength conversion and entanglement with atoms, and realization of many-body dynamics and long-term storage of quantum states.  Besides offering a rich new system for studying quantum mechanics, these advances may find applications in future information distribution and processing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ncenzo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0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33520" y="811080"/>
            <a:ext cx="759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3429000" y="4557600"/>
            <a:ext cx="2909880" cy="187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-76320" y="55627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ndersypen LMK, Steffen M, Breyta G, Yannoni CS, Sherwood MH, Chuang IL (2001). "Experimental realization of Shor's quantum factoring algorithm using nuclear magnetic resonance". Nature 414 (6866): 883–8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67053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04920" y="109548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28480" y="1020600"/>
            <a:ext cx="7320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11280" y="684360"/>
            <a:ext cx="76183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44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84120" y="878040"/>
            <a:ext cx="76932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4920" y="1046160"/>
            <a:ext cx="827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5800" y="1066680"/>
            <a:ext cx="4191120" cy="294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4648320" y="1352520"/>
            <a:ext cx="3632040" cy="2368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4167000" cy="1033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=3x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417680"/>
            <a:ext cx="6618240" cy="49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41960" y="2819520"/>
            <a:ext cx="3021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990720" y="873000"/>
            <a:ext cx="7238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15280" y="433224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hase sensitive amplif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on of Squeez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2624040"/>
            <a:ext cx="3997440" cy="3194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68280" y="162252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dyn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uadrature squeezed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43400" y="1820880"/>
            <a:ext cx="1852560" cy="80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4343400" y="2779560"/>
            <a:ext cx="1146240" cy="2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4299120" y="3182760"/>
            <a:ext cx="379224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343400" y="4145040"/>
            <a:ext cx="2867040" cy="780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4314960" y="51847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hot noise  to super-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squeezed to stretched qu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62268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45760" y="20574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squee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5562720" cy="3174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80240" y="1600200"/>
            <a:ext cx="65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&amp; detection of amplitude squeez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ample: freq. doubling – intensity 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gat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80880" y="1646280"/>
            <a:ext cx="2210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6T04:47:27Z</dcterms:modified>
  <cp:revision>720</cp:revision>
  <dc:subject>Physics 272H, Spring 2007</dc:subject>
  <dc:title>Lecture 2</dc:title>
</cp:coreProperties>
</file>