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2.wmf" ContentType="image/x-wmf"/>
  <Override PartName="/ppt/media/image51.wmf" ContentType="image/x-wmf"/>
  <Override PartName="/ppt/media/image29.png" ContentType="image/png"/>
  <Override PartName="/ppt/media/image50.wmf" ContentType="image/x-wmf"/>
  <Override PartName="/ppt/media/image28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42.wmf" ContentType="image/x-wmf"/>
  <Override PartName="/ppt/media/image39.png" ContentType="image/png"/>
  <Override PartName="/ppt/media/image38.png" ContentType="image/png"/>
  <Override PartName="/ppt/media/image37.png" ContentType="image/png"/>
  <Override PartName="/ppt/media/image36.png" ContentType="image/png"/>
  <Override PartName="/ppt/media/image30.png" ContentType="image/png"/>
  <Override PartName="/ppt/media/image57.wmf" ContentType="image/x-wmf"/>
  <Override PartName="/ppt/media/image58.wmf" ContentType="image/x-wmf"/>
  <Override PartName="/ppt/media/image18.png" ContentType="image/png"/>
  <Override PartName="/ppt/media/image60.png" ContentType="image/png"/>
  <Override PartName="/ppt/media/image20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24.png" ContentType="image/png"/>
  <Override PartName="/ppt/media/image74.png" ContentType="image/png"/>
  <Override PartName="/ppt/media/image62.png" ContentType="image/png"/>
  <Override PartName="/ppt/media/image56.wmf" ContentType="image/x-wmf"/>
  <Override PartName="/ppt/media/image73.png" ContentType="image/png"/>
  <Override PartName="/ppt/media/image55.wmf" ContentType="image/x-wmf"/>
  <Override PartName="/ppt/media/image72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6.wmf" ContentType="image/x-wmf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1.wmf" ContentType="image/x-wmf"/>
  <Override PartName="/ppt/media/image48.wmf" ContentType="image/x-wmf"/>
  <Override PartName="/ppt/media/image7.wmf" ContentType="image/x-wmf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49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8.wmf" ContentType="image/x-wmf"/>
  <Override PartName="/ppt/media/image40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25.png" ContentType="image/png"/>
  <Override PartName="/ppt/media/image10.wmf" ContentType="image/x-wmf"/>
  <Override PartName="/ppt/media/image4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DCACA-A847-4D88-8B3E-D9BB689B0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C175B-13DF-4BE0-B354-4F0F91D3F8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B6F-40AF-484D-8DE5-9883A168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FE6-E0BE-4845-B9B6-CF87056F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82E-3BAF-4676-8144-3F004AE1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80A0-021D-4166-8848-A3E4EAB8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D1B-D278-48E8-8A68-1B8C680B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6C5-D309-4179-83AC-A8B088DC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1601-1EF2-4939-8C83-132C75DC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6C2-D580-474B-AD79-EC9CC258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29D-1BF4-4120-A571-F2DC314F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9F5-62E4-42F4-BB99-67E16874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D33-3EFD-4480-A751-C10A3AE3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5E8-38C4-46EE-8043-ECB5EFC0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F84F-C3CA-400E-92AB-051D6CF090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E49E-FE95-4468-B34C-6CEFA833C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5577F154-351D-4277-88D2-DF6B8D96C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urdue.edu/eva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1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5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 and Nonlinear Op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7-8, FS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452600" y="1143000"/>
            <a:ext cx="6238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228600" y="752400"/>
            <a:ext cx="838188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920" y="625320"/>
            <a:ext cx="838188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52280" y="846000"/>
            <a:ext cx="86551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990720" y="846000"/>
            <a:ext cx="7391160" cy="54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592200" y="762120"/>
            <a:ext cx="80676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0584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angled photon 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383000" cy="502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4286160" y="2819520"/>
            <a:ext cx="4876920" cy="2577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4702320" y="1747800"/>
            <a:ext cx="36766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352440" y="971640"/>
            <a:ext cx="780084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69608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286000" y="2644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ngXian"/>
              </a:rPr>
              <a:t>Colloquium on Today "Observation of gravitational waves from a binary black hole merger” (LI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ngXian"/>
              </a:rPr>
              <a:t>PHYS 203, 3:30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77724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719280"/>
            <a:ext cx="78487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80787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455760" y="990720"/>
            <a:ext cx="83883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queezed State/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826920"/>
            <a:ext cx="2011320" cy="6058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2733840" cy="628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5172120" y="190512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2438280" y="2381400"/>
            <a:ext cx="2457720" cy="599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5"/>
          <a:stretch/>
        </p:blipFill>
        <p:spPr>
          <a:xfrm>
            <a:off x="2438280" y="2965320"/>
            <a:ext cx="4729320" cy="1636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6"/>
          <a:stretch/>
        </p:blipFill>
        <p:spPr>
          <a:xfrm>
            <a:off x="6394320" y="2441520"/>
            <a:ext cx="2719440" cy="16495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2219760" y="4952880"/>
            <a:ext cx="59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nerate squeezed state/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egenerate parametric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harmonic generation (amplitude squeez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omechanic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9" descr="Figure 1"/>
          <p:cNvPicPr/>
          <p:nvPr/>
        </p:nvPicPr>
        <p:blipFill>
          <a:blip r:embed="rId7"/>
          <a:stretch/>
        </p:blipFill>
        <p:spPr>
          <a:xfrm>
            <a:off x="7108920" y="4413240"/>
            <a:ext cx="1749240" cy="1079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4795920" y="6183360"/>
            <a:ext cx="31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physics.aps.org/articles/v6/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 (Conceptual)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lassical) Von Neu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lassical) Turing-Chu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ntum) Feyn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ntum) Deut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ntum) S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abatic Q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0" y="914400"/>
            <a:ext cx="7763040" cy="32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3"/>
          <a:stretch/>
        </p:blipFill>
        <p:spPr>
          <a:xfrm>
            <a:off x="6397560" y="4295880"/>
            <a:ext cx="2136960" cy="2181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4"/>
          <a:stretch/>
        </p:blipFill>
        <p:spPr>
          <a:xfrm>
            <a:off x="838080" y="4325760"/>
            <a:ext cx="51627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3062160" cy="4876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3638520" y="2243160"/>
            <a:ext cx="5505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2647800" cy="3933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3"/>
          <a:stretch/>
        </p:blipFill>
        <p:spPr>
          <a:xfrm>
            <a:off x="3809880" y="2819520"/>
            <a:ext cx="362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7058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 2 &amp; Paper 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May 2 (5/2) evening 7-9pm in  PHYS 3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(or presentation) --- by 5/6 Fri 11:59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134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quantum compute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33320" y="1366920"/>
            <a:ext cx="6962760" cy="3633840"/>
          </a:xfrm>
          <a:prstGeom prst="rect">
            <a:avLst/>
          </a:prstGeom>
          <a:ln w="0">
            <a:noFill/>
          </a:ln>
        </p:spPr>
      </p:pic>
      <p:sp>
        <p:nvSpPr>
          <p:cNvPr id="200" name="Content Placeholder 2"/>
          <p:cNvSpPr/>
          <p:nvPr/>
        </p:nvSpPr>
        <p:spPr>
          <a:xfrm>
            <a:off x="3733920" y="4800600"/>
            <a:ext cx="4800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utsch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Grover search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hor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Quantum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eva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017880" y="160020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www.purdue.edu/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3124080"/>
          <a:ext cx="8229600" cy="660600"/>
        </p:xfrm>
        <a:graphic>
          <a:graphicData uri="http://schemas.openxmlformats.org/drawingml/2006/table">
            <a:tbl>
              <a:tblPr/>
              <a:tblGrid>
                <a:gridCol w="1235160"/>
                <a:gridCol w="3290760"/>
                <a:gridCol w="1069920"/>
                <a:gridCol w="987480"/>
                <a:gridCol w="824040"/>
                <a:gridCol w="822240"/>
              </a:tblGrid>
              <a:tr h="3304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 - Se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 Na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c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eiv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012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52200 - 0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r Optcs Quant Elec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8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 A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9 P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660240"/>
            <a:ext cx="4408560" cy="194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4621320" y="660240"/>
            <a:ext cx="4599000" cy="3454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0" y="2666880"/>
            <a:ext cx="462132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eeze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1752480"/>
            <a:ext cx="2579760" cy="2028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2743200" y="1743120"/>
            <a:ext cx="2579760" cy="210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5791320" y="1612800"/>
            <a:ext cx="2535120" cy="226080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-131400" y="37846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ueezed vacu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2868480" y="38196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squee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5874480" y="38736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tude squee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0" y="1362240"/>
            <a:ext cx="83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drature squeezed light (circle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lipse with same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4"/>
          <a:stretch/>
        </p:blipFill>
        <p:spPr>
          <a:xfrm>
            <a:off x="4033800" y="4282920"/>
            <a:ext cx="2295720" cy="2268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3"/>
          <p:cNvSpPr/>
          <p:nvPr/>
        </p:nvSpPr>
        <p:spPr>
          <a:xfrm>
            <a:off x="981000" y="5105520"/>
            <a:ext cx="30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n nu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“n photon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2135520" y="4038480"/>
            <a:ext cx="24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ferome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6229080" y="4105440"/>
            <a:ext cx="26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plitude no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sub-shot noise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umber (Eigen) Sta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6315120" cy="2495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220032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152280" y="2643120"/>
            <a:ext cx="1266840" cy="409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41040" y="3200400"/>
            <a:ext cx="226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an verify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 wave function of h.o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935480" y="33703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rmaliz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625320" y="426708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Photon number states (Fock states)  |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3438720" y="51213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0&gt;=|vac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n&gt;= n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herent Stat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in number state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52440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TextBox 3"/>
          <p:cNvSpPr/>
          <p:nvPr/>
        </p:nvSpPr>
        <p:spPr>
          <a:xfrm>
            <a:off x="4052520" y="173052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heck normalized: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52280" y="2743200"/>
            <a:ext cx="1297080" cy="371520"/>
            <a:chOff x="152280" y="2743200"/>
            <a:chExt cx="1297080" cy="371520"/>
          </a:xfrm>
        </p:grpSpPr>
        <p:pic>
          <p:nvPicPr>
            <p:cNvPr id="97" name="Picture 3" descr=""/>
            <p:cNvPicPr/>
            <p:nvPr/>
          </p:nvPicPr>
          <p:blipFill>
            <a:blip r:embed="rId2"/>
            <a:stretch/>
          </p:blipFill>
          <p:spPr>
            <a:xfrm>
              <a:off x="152280" y="2743200"/>
              <a:ext cx="5331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" descr=""/>
            <p:cNvPicPr/>
            <p:nvPr/>
          </p:nvPicPr>
          <p:blipFill>
            <a:blip r:embed="rId3"/>
            <a:stretch/>
          </p:blipFill>
          <p:spPr>
            <a:xfrm>
              <a:off x="716040" y="2782080"/>
              <a:ext cx="733320" cy="3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84240" y="3197160"/>
            <a:ext cx="1380960" cy="371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tretch/>
        </p:blipFill>
        <p:spPr>
          <a:xfrm>
            <a:off x="76320" y="3733920"/>
            <a:ext cx="809640" cy="390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6"/>
          <a:stretch/>
        </p:blipFill>
        <p:spPr>
          <a:xfrm>
            <a:off x="901800" y="3790800"/>
            <a:ext cx="657000" cy="24768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6"/>
          <p:cNvGrpSpPr/>
          <p:nvPr/>
        </p:nvGrpSpPr>
        <p:grpSpPr>
          <a:xfrm>
            <a:off x="1560960" y="3697200"/>
            <a:ext cx="1342440" cy="492120"/>
            <a:chOff x="1560960" y="3697200"/>
            <a:chExt cx="1342440" cy="492120"/>
          </a:xfrm>
        </p:grpSpPr>
        <p:pic>
          <p:nvPicPr>
            <p:cNvPr id="103" name="Picture 8" descr=""/>
            <p:cNvPicPr/>
            <p:nvPr/>
          </p:nvPicPr>
          <p:blipFill>
            <a:blip r:embed="rId7"/>
            <a:stretch/>
          </p:blipFill>
          <p:spPr>
            <a:xfrm>
              <a:off x="2522520" y="3741840"/>
              <a:ext cx="3808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5"/>
            <p:cNvSpPr/>
            <p:nvPr/>
          </p:nvSpPr>
          <p:spPr>
            <a:xfrm>
              <a:off x="1560960" y="372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Picture 9" descr=""/>
            <p:cNvPicPr/>
            <p:nvPr/>
          </p:nvPicPr>
          <p:blipFill>
            <a:blip r:embed="rId8"/>
            <a:stretch/>
          </p:blipFill>
          <p:spPr>
            <a:xfrm>
              <a:off x="1855800" y="3729600"/>
              <a:ext cx="488880" cy="34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14"/>
            <p:cNvSpPr/>
            <p:nvPr/>
          </p:nvSpPr>
          <p:spPr>
            <a:xfrm>
              <a:off x="2288520" y="3697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Picture 10" descr=""/>
          <p:cNvPicPr/>
          <p:nvPr/>
        </p:nvPicPr>
        <p:blipFill>
          <a:blip r:embed="rId9"/>
          <a:stretch/>
        </p:blipFill>
        <p:spPr>
          <a:xfrm>
            <a:off x="0" y="4343400"/>
            <a:ext cx="2381400" cy="39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10"/>
          <a:stretch/>
        </p:blipFill>
        <p:spPr>
          <a:xfrm>
            <a:off x="2465280" y="4352760"/>
            <a:ext cx="1600200" cy="37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11"/>
          <a:stretch/>
        </p:blipFill>
        <p:spPr>
          <a:xfrm>
            <a:off x="146160" y="4876920"/>
            <a:ext cx="1257120" cy="3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12"/>
          <a:stretch/>
        </p:blipFill>
        <p:spPr>
          <a:xfrm>
            <a:off x="19080" y="5257800"/>
            <a:ext cx="923760" cy="31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"/>
          <p:cNvPicPr/>
          <p:nvPr/>
        </p:nvPicPr>
        <p:blipFill>
          <a:blip r:embed="rId13"/>
          <a:stretch/>
        </p:blipFill>
        <p:spPr>
          <a:xfrm>
            <a:off x="901800" y="5257800"/>
            <a:ext cx="90468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"/>
          <p:cNvPicPr/>
          <p:nvPr/>
        </p:nvPicPr>
        <p:blipFill>
          <a:blip r:embed="rId14"/>
          <a:stretch/>
        </p:blipFill>
        <p:spPr>
          <a:xfrm>
            <a:off x="4133880" y="4410000"/>
            <a:ext cx="438120" cy="266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"/>
          <p:cNvPicPr/>
          <p:nvPr/>
        </p:nvPicPr>
        <p:blipFill>
          <a:blip r:embed="rId15"/>
          <a:stretch/>
        </p:blipFill>
        <p:spPr>
          <a:xfrm>
            <a:off x="2833560" y="5791320"/>
            <a:ext cx="3000600" cy="628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"/>
          <p:cNvPicPr/>
          <p:nvPr/>
        </p:nvPicPr>
        <p:blipFill>
          <a:blip r:embed="rId16"/>
          <a:stretch/>
        </p:blipFill>
        <p:spPr>
          <a:xfrm>
            <a:off x="5991120" y="5816520"/>
            <a:ext cx="1019160" cy="6098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120240" y="589608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oisson distribu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7"/>
          <a:stretch/>
        </p:blipFill>
        <p:spPr>
          <a:xfrm>
            <a:off x="5470560" y="2219400"/>
            <a:ext cx="2987640" cy="2133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8"/>
          <p:cNvSpPr/>
          <p:nvPr/>
        </p:nvSpPr>
        <p:spPr>
          <a:xfrm>
            <a:off x="5750280" y="4408560"/>
            <a:ext cx="2428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eck: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0&gt;=|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 Re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?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um Theory of HBT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46080" y="1447920"/>
            <a:ext cx="4324320" cy="279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2857680" cy="666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5638680" y="2114640"/>
            <a:ext cx="3295800" cy="7048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5800320" y="289548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rmal ord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4846680" y="3484440"/>
            <a:ext cx="2305080" cy="743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1984680" y="1612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v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5"/>
          <a:stretch/>
        </p:blipFill>
        <p:spPr>
          <a:xfrm>
            <a:off x="68400" y="4629240"/>
            <a:ext cx="2047680" cy="780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6"/>
          <a:stretch/>
        </p:blipFill>
        <p:spPr>
          <a:xfrm>
            <a:off x="2514600" y="4629240"/>
            <a:ext cx="1895400" cy="7617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385200" y="423864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2802600" y="4240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ua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7"/>
          <a:stretch/>
        </p:blipFill>
        <p:spPr>
          <a:xfrm>
            <a:off x="2724120" y="5715000"/>
            <a:ext cx="140976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1832400" y="5734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8"/>
          <a:stretch/>
        </p:blipFill>
        <p:spPr>
          <a:xfrm>
            <a:off x="5156280" y="4376880"/>
            <a:ext cx="2085840" cy="65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10" descr=""/>
          <p:cNvPicPr/>
          <p:nvPr/>
        </p:nvPicPr>
        <p:blipFill>
          <a:blip r:embed="rId9"/>
          <a:stretch/>
        </p:blipFill>
        <p:spPr>
          <a:xfrm>
            <a:off x="5078520" y="5800680"/>
            <a:ext cx="1143000" cy="523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7"/>
          <p:cNvSpPr/>
          <p:nvPr/>
        </p:nvSpPr>
        <p:spPr>
          <a:xfrm>
            <a:off x="5036760" y="5010120"/>
            <a:ext cx="203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for |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&gt;=|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(number stat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7139520" y="5029200"/>
            <a:ext cx="2073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for |</a:t>
            </a:r>
            <a:r>
              <a:rPr b="0" lang="en-US" sz="2400" spc="-1" strike="noStrike">
                <a:solidFill>
                  <a:srgbClr val="7030a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&gt;=|</a:t>
            </a:r>
            <a:r>
              <a:rPr b="0" lang="en-US" sz="2400" spc="-1" strike="noStrike">
                <a:solidFill>
                  <a:srgbClr val="7030a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(coherent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=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3656520" y="6229440"/>
            <a:ext cx="33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=0 “anti-bunching” for single phot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21T13:11:06Z</dcterms:modified>
  <cp:revision>702</cp:revision>
  <dc:subject>Physics 272H, Spring 2007</dc:subject>
  <dc:title>Lecture 2</dc:title>
</cp:coreProperties>
</file>