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2.wmf" ContentType="image/x-wmf"/>
  <Override PartName="/ppt/media/image51.wmf" ContentType="image/x-wmf"/>
  <Override PartName="/ppt/media/image29.png" ContentType="image/png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39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57.wmf" ContentType="image/x-wmf"/>
  <Override PartName="/ppt/media/image58.wmf" ContentType="image/x-wmf"/>
  <Override PartName="/ppt/media/image18.png" ContentType="image/png"/>
  <Override PartName="/ppt/media/image60.png" ContentType="image/png"/>
  <Override PartName="/ppt/media/image20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24.png" ContentType="image/png"/>
  <Override PartName="/ppt/media/image74.png" ContentType="image/png"/>
  <Override PartName="/ppt/media/image62.png" ContentType="image/png"/>
  <Override PartName="/ppt/media/image56.wmf" ContentType="image/x-wmf"/>
  <Override PartName="/ppt/media/image73.png" ContentType="image/png"/>
  <Override PartName="/ppt/media/image55.wmf" ContentType="image/x-wmf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40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25.png" ContentType="image/png"/>
  <Override PartName="/ppt/media/image10.wmf" ContentType="image/x-wmf"/>
  <Override PartName="/ppt/media/image4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F0361-B547-472C-8141-3CF9DDDA2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D1BE6-3C39-4072-81C6-CDE379231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A4A-F1EA-4DFF-A4F8-3D31AD1D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86F-FFA7-4062-91C1-7E035B72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5EC-6DE6-45A7-BD29-0CE0BA82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33B-8725-4185-B2CA-791C4110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D22-29DF-4452-B80B-71D726A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9B5-38CF-4D44-9EF5-105217C7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22E-A659-47C3-8DA1-A7DB1BE9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806-385B-4835-83D0-F405388B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917-6A06-4BCF-8C30-470442C2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C92-73C8-40A8-A5C9-07787490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F19-5081-47F4-94B3-5E14205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1AF-F151-480D-9719-C5973B8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C6B4-CAA1-45C7-9418-13B07711FB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1C7A-60F9-402A-979F-E8036B70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FDDC2089-C7DB-4702-8F17-0FB83E02F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5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and Non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, FS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52600" y="1143000"/>
            <a:ext cx="6238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28600" y="752400"/>
            <a:ext cx="83818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920" y="625320"/>
            <a:ext cx="838188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280" y="846000"/>
            <a:ext cx="86551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39116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92200" y="762120"/>
            <a:ext cx="80676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05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ngled photon 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383000" cy="502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286160" y="2819520"/>
            <a:ext cx="4876920" cy="257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4702320" y="1747800"/>
            <a:ext cx="3676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52440" y="971640"/>
            <a:ext cx="78008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96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86000" y="2644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oday "Observation of gravitational waves from a binary black hole merger” (LI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7724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719280"/>
            <a:ext cx="78487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0787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55760" y="990720"/>
            <a:ext cx="8388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 (Conceptual)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Von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Turing-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Feyn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Deut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S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abatic 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6397560" y="4295880"/>
            <a:ext cx="2136960" cy="2181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3062160" cy="48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3638520" y="2243160"/>
            <a:ext cx="5505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3"/>
          <a:stretch/>
        </p:blipFill>
        <p:spPr>
          <a:xfrm>
            <a:off x="3809880" y="2819520"/>
            <a:ext cx="362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33320" y="1366920"/>
            <a:ext cx="6962760" cy="363384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3733920" y="480060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03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1T13:11:06Z</dcterms:modified>
  <cp:revision>702</cp:revision>
  <dc:subject>Physics 272H, Spring 2007</dc:subject>
  <dc:title>Lecture 2</dc:title>
</cp:coreProperties>
</file>