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9.png" ContentType="image/png"/>
  <Override PartName="/ppt/media/image10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4.wmf" ContentType="image/x-wmf"/>
  <Override PartName="/ppt/media/image77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78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93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51.png" ContentType="image/png"/>
  <Override PartName="/ppt/media/image12.wmf" ContentType="image/x-wmf"/>
  <Override PartName="/ppt/media/image55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41.wmf" ContentType="image/x-wmf"/>
  <Override PartName="/ppt/media/image7.png" ContentType="image/png"/>
  <Override PartName="/ppt/media/image84.png" ContentType="image/png"/>
  <Override PartName="/ppt/media/image50.png" ContentType="image/png"/>
  <Override PartName="/ppt/media/image11.wmf" ContentType="image/x-wmf"/>
  <Override PartName="/ppt/media/image54.png" ContentType="image/png"/>
  <Override PartName="/ppt/media/image33.png" ContentType="image/png"/>
  <Override PartName="/ppt/media/image26.wmf" ContentType="image/x-wmf"/>
  <Override PartName="/ppt/media/image70.png" ContentType="image/png"/>
  <Override PartName="/ppt/media/image71.png" ContentType="image/png"/>
  <Override PartName="/ppt/media/image69.wmf" ContentType="image/x-wmf"/>
  <Override PartName="/ppt/media/image72.png" ContentType="image/png"/>
  <Override PartName="/ppt/media/image73.png" ContentType="image/png"/>
  <Override PartName="/ppt/media/image96.png" ContentType="image/png"/>
  <Override PartName="/ppt/media/image75.png" ContentType="image/png"/>
  <Override PartName="/ppt/media/image76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22.wmf" ContentType="image/x-wmf"/>
  <Override PartName="/ppt/media/image88.png" ContentType="image/png"/>
  <Override PartName="/ppt/media/image90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82.png" ContentType="image/png"/>
  <Override PartName="/ppt/media/image102.png" ContentType="image/png"/>
  <Override PartName="/ppt/media/image95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103.png" ContentType="image/png"/>
  <Override PartName="/ppt/media/image74.wmf" ContentType="image/x-wmf"/>
  <Override PartName="/ppt/media/image91.png" ContentType="image/png"/>
  <Override PartName="/ppt/media/image89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5.wmf" ContentType="image/x-wmf"/>
  <Override PartName="/ppt/media/image21.wmf" ContentType="image/x-wmf"/>
  <Override PartName="/ppt/media/image64.png" ContentType="image/png"/>
  <Override PartName="/ppt/media/image67.png" ContentType="image/png"/>
  <Override PartName="/ppt/media/image24.wmf" ContentType="image/x-wmf"/>
  <Override PartName="/ppt/media/image20.wmf" ContentType="image/x-wmf"/>
  <Override PartName="/ppt/media/image63.png" ContentType="image/png"/>
  <Override PartName="/ppt/media/image23.wmf" ContentType="image/x-wmf"/>
  <Override PartName="/ppt/media/image66.png" ContentType="image/png"/>
  <Override PartName="/ppt/media/image19.wmf" ContentType="image/x-wmf"/>
  <Override PartName="/ppt/media/image18.wmf" ContentType="image/x-wmf"/>
  <Override PartName="/ppt/media/image2.png" ContentType="image/png"/>
  <Override PartName="/ppt/media/image32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58.png" ContentType="image/png"/>
  <Override PartName="/ppt/media/image15.wmf" ContentType="image/x-wmf"/>
  <Override PartName="/ppt/media/image83.png" ContentType="image/png"/>
  <Override PartName="/ppt/media/image6.png" ContentType="image/png"/>
  <Override PartName="/ppt/media/image40.wmf" ContentType="image/x-wmf"/>
  <Override PartName="/ppt/media/image80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C71B3-25E8-4E93-80AC-FA790090C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98472-1BA8-4A62-A9A9-7A635F6FE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8A7-84FC-4724-B8A3-6517B6C2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8D7-B564-47BF-9F78-7ECD5A08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10A-BAC0-4F28-B0E2-4A029567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1EC-F695-4497-A98E-DAB9EEDB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690-FC85-42B6-83D3-AAA30CB5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51D-1DFE-4C66-91E9-3C27D2FB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78B-3706-4698-BE14-6DF4CFB2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A6E-BFDB-4620-AD1B-6FEFE07A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CDF-9C68-4CF7-9807-65057523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ADB-616A-460D-9B97-687AE8AE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B2E-3A16-436D-901F-D6B1DD15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1F6-3A88-4CCB-A861-84F3259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4DF-5DC7-42E1-A70D-1616D25D26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900D-7434-426C-99C1-4A68126AC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B9E09777-F10B-41DA-8988-6B88AFD2B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69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9.png"/><Relationship Id="rId3" Type="http://schemas.openxmlformats.org/officeDocument/2006/relationships/image" Target="../media/image73.png"/><Relationship Id="rId4" Type="http://schemas.openxmlformats.org/officeDocument/2006/relationships/image" Target="../media/image74.wmf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5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image" Target="../media/image104.pn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3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 &amp; Squeez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n Number States (FQ’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18960" y="1255680"/>
            <a:ext cx="2886120" cy="2257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673080" y="1447920"/>
            <a:ext cx="42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sis for quantum theor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simple form of “QF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opera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harmonic oscillator --- models for light qu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4640" y="1890720"/>
            <a:ext cx="2105280" cy="69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286704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414000" y="25858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dder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344400" y="360504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aising/creating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3289680" y="304812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ing/annilation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17440" y="4572000"/>
            <a:ext cx="251928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248520" y="1890720"/>
            <a:ext cx="2019240" cy="8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2552760" y="1933560"/>
            <a:ext cx="1562040" cy="58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tretch/>
        </p:blipFill>
        <p:spPr>
          <a:xfrm>
            <a:off x="3809880" y="4665600"/>
            <a:ext cx="1791000" cy="1162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119480" y="41990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7"/>
          <a:stretch/>
        </p:blipFill>
        <p:spPr>
          <a:xfrm>
            <a:off x="5927760" y="469116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020000" y="32781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(dimensionl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perties of raising/lowering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688000" y="3065400"/>
            <a:ext cx="3371760" cy="32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254400" cy="5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152280" y="2746440"/>
            <a:ext cx="2067120" cy="66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182520" y="373392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930240" y="3733920"/>
            <a:ext cx="752400" cy="39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6"/>
          <a:stretch/>
        </p:blipFill>
        <p:spPr>
          <a:xfrm>
            <a:off x="192240" y="4191120"/>
            <a:ext cx="1476360" cy="438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"/>
          <p:cNvGrpSpPr/>
          <p:nvPr/>
        </p:nvGrpSpPr>
        <p:grpSpPr>
          <a:xfrm>
            <a:off x="6168960" y="1523880"/>
            <a:ext cx="2576520" cy="1390680"/>
            <a:chOff x="6168960" y="1523880"/>
            <a:chExt cx="2576520" cy="1390680"/>
          </a:xfrm>
        </p:grpSpPr>
        <p:pic>
          <p:nvPicPr>
            <p:cNvPr id="146" name="Picture 8" descr=""/>
            <p:cNvPicPr/>
            <p:nvPr/>
          </p:nvPicPr>
          <p:blipFill>
            <a:blip r:embed="rId7"/>
            <a:stretch/>
          </p:blipFill>
          <p:spPr>
            <a:xfrm>
              <a:off x="6230880" y="1523880"/>
              <a:ext cx="13813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"/>
            <p:cNvPicPr/>
            <p:nvPr/>
          </p:nvPicPr>
          <p:blipFill>
            <a:blip r:embed="rId8"/>
            <a:stretch/>
          </p:blipFill>
          <p:spPr>
            <a:xfrm>
              <a:off x="6168960" y="2085840"/>
              <a:ext cx="7524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"/>
            <p:cNvPicPr/>
            <p:nvPr/>
          </p:nvPicPr>
          <p:blipFill>
            <a:blip r:embed="rId9"/>
            <a:stretch/>
          </p:blipFill>
          <p:spPr>
            <a:xfrm>
              <a:off x="6951960" y="2109600"/>
              <a:ext cx="17906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10"/>
            <a:stretch/>
          </p:blipFill>
          <p:spPr>
            <a:xfrm>
              <a:off x="6230880" y="2467080"/>
              <a:ext cx="2514600" cy="44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2" descr=""/>
          <p:cNvPicPr/>
          <p:nvPr/>
        </p:nvPicPr>
        <p:blipFill>
          <a:blip r:embed="rId11"/>
          <a:stretch/>
        </p:blipFill>
        <p:spPr>
          <a:xfrm>
            <a:off x="5572080" y="5989680"/>
            <a:ext cx="981000" cy="48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2"/>
          <a:stretch/>
        </p:blipFill>
        <p:spPr>
          <a:xfrm>
            <a:off x="6630840" y="5964120"/>
            <a:ext cx="752760" cy="56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3"/>
          <a:stretch/>
        </p:blipFill>
        <p:spPr>
          <a:xfrm>
            <a:off x="7095960" y="5964120"/>
            <a:ext cx="1819440" cy="561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4"/>
          <a:stretch/>
        </p:blipFill>
        <p:spPr>
          <a:xfrm>
            <a:off x="2209680" y="4378320"/>
            <a:ext cx="3276720" cy="214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5"/>
          <a:stretch/>
        </p:blipFill>
        <p:spPr>
          <a:xfrm>
            <a:off x="2743200" y="2590920"/>
            <a:ext cx="2362320" cy="419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66600" y="2746440"/>
            <a:ext cx="2219400" cy="1942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7" descr=""/>
          <p:cNvPicPr/>
          <p:nvPr/>
        </p:nvPicPr>
        <p:blipFill>
          <a:blip r:embed="rId16"/>
          <a:stretch/>
        </p:blipFill>
        <p:spPr>
          <a:xfrm>
            <a:off x="2773440" y="2940120"/>
            <a:ext cx="2390760" cy="51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17"/>
          <a:stretch/>
        </p:blipFill>
        <p:spPr>
          <a:xfrm>
            <a:off x="3500280" y="3624120"/>
            <a:ext cx="84780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2718360" y="33386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umbering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9" descr=""/>
          <p:cNvPicPr/>
          <p:nvPr/>
        </p:nvPicPr>
        <p:blipFill>
          <a:blip r:embed="rId18"/>
          <a:stretch/>
        </p:blipFill>
        <p:spPr>
          <a:xfrm>
            <a:off x="3243240" y="3978360"/>
            <a:ext cx="120960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Object 6"/>
          <p:cNvGraphicFramePr/>
          <p:nvPr/>
        </p:nvGraphicFramePr>
        <p:xfrm>
          <a:off x="533520" y="3284640"/>
          <a:ext cx="1558800" cy="525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520" y="3284640"/>
                    <a:ext cx="1558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drature Fields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1790640" cy="116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362320" y="1641600"/>
            <a:ext cx="228600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3132000" y="2998800"/>
            <a:ext cx="1524240" cy="4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Box 9"/>
          <p:cNvSpPr/>
          <p:nvPr/>
        </p:nvSpPr>
        <p:spPr>
          <a:xfrm>
            <a:off x="4083480" y="5013360"/>
            <a:ext cx="1730880" cy="510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30240" y="3962520"/>
            <a:ext cx="3101760" cy="256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5837400" y="2276640"/>
            <a:ext cx="2933640" cy="1428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5494320" y="1641600"/>
            <a:ext cx="3619440" cy="799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6481440" y="137016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lass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56960" y="12193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mens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1929240" y="393552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Quantum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6286320" y="4383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1/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7"/>
          <a:stretch/>
        </p:blipFill>
        <p:spPr>
          <a:xfrm>
            <a:off x="3121200" y="4307040"/>
            <a:ext cx="3162240" cy="55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3"/>
          <p:cNvGraphicFramePr/>
          <p:nvPr/>
        </p:nvGraphicFramePr>
        <p:xfrm>
          <a:off x="149400" y="2984400"/>
          <a:ext cx="2409480" cy="52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9400" y="2984400"/>
                    <a:ext cx="240948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State in Phasor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396252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3"/>
          <p:cNvGraphicFramePr/>
          <p:nvPr/>
        </p:nvGraphicFramePr>
        <p:xfrm>
          <a:off x="4114800" y="3247920"/>
          <a:ext cx="240984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247920"/>
                    <a:ext cx="2409840" cy="52884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193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99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herent State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432240" y="1828800"/>
            <a:ext cx="2247840" cy="4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693960" y="2417760"/>
            <a:ext cx="17240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341360" y="2265480"/>
            <a:ext cx="6461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80" y="580680"/>
            <a:ext cx="432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x FQ’Cha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5840" y="1860480"/>
            <a:ext cx="3076560" cy="43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4343400" y="581040"/>
            <a:ext cx="450360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4572000" y="2048040"/>
            <a:ext cx="3038400" cy="138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5"/>
          <a:stretch/>
        </p:blipFill>
        <p:spPr>
          <a:xfrm>
            <a:off x="4403880" y="373392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6"/>
          <a:stretch/>
        </p:blipFill>
        <p:spPr>
          <a:xfrm>
            <a:off x="4572000" y="5410080"/>
            <a:ext cx="15526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as classical EM wave (oscill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5560" y="2057400"/>
            <a:ext cx="1917720" cy="188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476440" y="2286000"/>
            <a:ext cx="2095560" cy="25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2444760" y="2824200"/>
            <a:ext cx="2160720" cy="35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4876920" y="2538360"/>
            <a:ext cx="90324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2444760" y="3606840"/>
            <a:ext cx="200664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2398680" y="4525920"/>
            <a:ext cx="3021120" cy="60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7"/>
          <a:stretch/>
        </p:blipFill>
        <p:spPr>
          <a:xfrm>
            <a:off x="76320" y="5211720"/>
            <a:ext cx="4233600" cy="117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8"/>
          <a:stretch/>
        </p:blipFill>
        <p:spPr>
          <a:xfrm>
            <a:off x="5950080" y="545292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9"/>
          <a:stretch/>
        </p:blipFill>
        <p:spPr>
          <a:xfrm>
            <a:off x="5365800" y="6227640"/>
            <a:ext cx="271152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62000" y="1981080"/>
            <a:ext cx="5997600" cy="2167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717732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7"/>
          <p:cNvCxnSpPr/>
          <p:nvPr/>
        </p:nvCxnSpPr>
        <p:spPr>
          <a:xfrm>
            <a:off x="6257520" y="2439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4" name="Straight Arrow Connector 8"/>
          <p:cNvCxnSpPr/>
          <p:nvPr/>
        </p:nvCxnSpPr>
        <p:spPr>
          <a:xfrm>
            <a:off x="6257520" y="35827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248600" y="3346560"/>
            <a:ext cx="1278000" cy="47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4505400" y="4205160"/>
            <a:ext cx="4190760" cy="1514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884040" y="148104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point fluctua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11560" y="581832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-phas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um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1676520" cy="61128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852560" cy="54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553080" y="1311120"/>
            <a:ext cx="2470320" cy="240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219320" y="4522680"/>
            <a:ext cx="5975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rent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98764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232080" y="2209680"/>
            <a:ext cx="2352600" cy="135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5680080" y="2610000"/>
            <a:ext cx="2019240" cy="55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45960" y="4237200"/>
            <a:ext cx="197172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2620800" y="442764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2514600" y="5132520"/>
            <a:ext cx="257184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5584680" y="4832280"/>
            <a:ext cx="1123920" cy="486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phase 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654960" y="1600200"/>
            <a:ext cx="1741320" cy="762120"/>
          </a:xfrm>
          <a:prstGeom prst="rect">
            <a:avLst/>
          </a:prstGeom>
          <a:ln w="9360">
            <a:solidFill>
              <a:srgbClr val="161645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021120" cy="3382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93600" y="5999040"/>
            <a:ext cx="374832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19T02:53:31Z</dcterms:modified>
  <cp:revision>696</cp:revision>
  <dc:subject>Physics 272H, Spring 2007</dc:subject>
  <dc:title>Lecture 2</dc:title>
</cp:coreProperties>
</file>