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9.png" ContentType="image/png"/>
  <Override PartName="/ppt/media/image10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4.wmf" ContentType="image/x-wmf"/>
  <Override PartName="/ppt/media/image77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78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93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51.png" ContentType="image/png"/>
  <Override PartName="/ppt/media/image12.wmf" ContentType="image/x-wmf"/>
  <Override PartName="/ppt/media/image55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41.wmf" ContentType="image/x-wmf"/>
  <Override PartName="/ppt/media/image7.png" ContentType="image/png"/>
  <Override PartName="/ppt/media/image84.png" ContentType="image/png"/>
  <Override PartName="/ppt/media/image50.png" ContentType="image/png"/>
  <Override PartName="/ppt/media/image11.wmf" ContentType="image/x-wmf"/>
  <Override PartName="/ppt/media/image54.png" ContentType="image/png"/>
  <Override PartName="/ppt/media/image33.png" ContentType="image/png"/>
  <Override PartName="/ppt/media/image26.wmf" ContentType="image/x-wmf"/>
  <Override PartName="/ppt/media/image70.png" ContentType="image/png"/>
  <Override PartName="/ppt/media/image71.png" ContentType="image/png"/>
  <Override PartName="/ppt/media/image69.wmf" ContentType="image/x-wmf"/>
  <Override PartName="/ppt/media/image72.png" ContentType="image/png"/>
  <Override PartName="/ppt/media/image73.png" ContentType="image/png"/>
  <Override PartName="/ppt/media/image96.png" ContentType="image/png"/>
  <Override PartName="/ppt/media/image75.png" ContentType="image/png"/>
  <Override PartName="/ppt/media/image76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22.wmf" ContentType="image/x-wmf"/>
  <Override PartName="/ppt/media/image88.png" ContentType="image/png"/>
  <Override PartName="/ppt/media/image90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82.png" ContentType="image/png"/>
  <Override PartName="/ppt/media/image102.png" ContentType="image/png"/>
  <Override PartName="/ppt/media/image95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103.png" ContentType="image/png"/>
  <Override PartName="/ppt/media/image74.wmf" ContentType="image/x-wmf"/>
  <Override PartName="/ppt/media/image91.png" ContentType="image/png"/>
  <Override PartName="/ppt/media/image89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5.wmf" ContentType="image/x-wmf"/>
  <Override PartName="/ppt/media/image21.wmf" ContentType="image/x-wmf"/>
  <Override PartName="/ppt/media/image64.png" ContentType="image/png"/>
  <Override PartName="/ppt/media/image67.png" ContentType="image/png"/>
  <Override PartName="/ppt/media/image24.wmf" ContentType="image/x-wmf"/>
  <Override PartName="/ppt/media/image20.wmf" ContentType="image/x-wmf"/>
  <Override PartName="/ppt/media/image63.png" ContentType="image/png"/>
  <Override PartName="/ppt/media/image23.wmf" ContentType="image/x-wmf"/>
  <Override PartName="/ppt/media/image66.png" ContentType="image/png"/>
  <Override PartName="/ppt/media/image19.wmf" ContentType="image/x-wmf"/>
  <Override PartName="/ppt/media/image18.wmf" ContentType="image/x-wmf"/>
  <Override PartName="/ppt/media/image2.png" ContentType="image/png"/>
  <Override PartName="/ppt/media/image32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58.png" ContentType="image/png"/>
  <Override PartName="/ppt/media/image15.wmf" ContentType="image/x-wmf"/>
  <Override PartName="/ppt/media/image83.png" ContentType="image/png"/>
  <Override PartName="/ppt/media/image6.png" ContentType="image/png"/>
  <Override PartName="/ppt/media/image40.wmf" ContentType="image/x-wmf"/>
  <Override PartName="/ppt/media/image80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21751-7530-4364-9FE3-B371D8D72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A8365-9D2F-4E0D-947A-9976111AE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765-DFB4-4BA6-9DD0-E47C4065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53B-4215-4236-A91C-36AB7AE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94C-C3D7-4750-AA8B-79AD7798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3E8-8B1F-4CDB-9684-162FAD87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8D1-885F-4CA8-B1E4-A68118CE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D93-4084-4007-BBC3-495EF322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EDC-2372-4ACA-BE5C-5D77AF4D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6CB-B4D8-470D-B7B1-2545E72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FDD-49E0-4AC1-9BE7-B2998E22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4C7-8463-46E6-8DF3-60EDD5D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CDB-3524-4177-8EAE-359B1183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32A-E661-4CD0-875E-72E998A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631D-83C3-4C53-A8F5-139CB0C623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967B-D7A5-4BF0-A9EA-DA5FD51B6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0D7E2835-268A-48B3-9AA3-DAC52E786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7.png"/><Relationship Id="rId18" Type="http://schemas.openxmlformats.org/officeDocument/2006/relationships/image" Target="../media/image68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69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9.png"/><Relationship Id="rId3" Type="http://schemas.openxmlformats.org/officeDocument/2006/relationships/image" Target="../media/image73.png"/><Relationship Id="rId4" Type="http://schemas.openxmlformats.org/officeDocument/2006/relationships/image" Target="../media/image74.wmf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image" Target="../media/image91.png"/><Relationship Id="rId13" Type="http://schemas.openxmlformats.org/officeDocument/2006/relationships/image" Target="../media/image92.png"/><Relationship Id="rId14" Type="http://schemas.openxmlformats.org/officeDocument/2006/relationships/image" Target="../media/image93.png"/><Relationship Id="rId15" Type="http://schemas.openxmlformats.org/officeDocument/2006/relationships/image" Target="../media/image94.png"/><Relationship Id="rId16" Type="http://schemas.openxmlformats.org/officeDocument/2006/relationships/image" Target="../media/image95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image" Target="../media/image104.png"/><Relationship Id="rId8" Type="http://schemas.openxmlformats.org/officeDocument/2006/relationships/image" Target="../media/image105.png"/><Relationship Id="rId9" Type="http://schemas.openxmlformats.org/officeDocument/2006/relationships/image" Target="../media/image10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3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 &amp; Squeez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7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ez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2579760" cy="20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2743200" y="1743120"/>
            <a:ext cx="2579760" cy="210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5791320" y="1612800"/>
            <a:ext cx="2535120" cy="2260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-131400" y="37846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eezed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2868480" y="3819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74480" y="38736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0" y="136224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ure squeezed light (circle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pse with same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4"/>
          <a:stretch/>
        </p:blipFill>
        <p:spPr>
          <a:xfrm>
            <a:off x="4033800" y="4282920"/>
            <a:ext cx="2295720" cy="2268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3"/>
          <p:cNvSpPr/>
          <p:nvPr/>
        </p:nvSpPr>
        <p:spPr>
          <a:xfrm>
            <a:off x="981000" y="5105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n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n phot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135520" y="403848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er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229080" y="4105440"/>
            <a:ext cx="26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plitude no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sub-shot nois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n Number States (FQ’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18960" y="1255680"/>
            <a:ext cx="2886120" cy="2257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673080" y="1447920"/>
            <a:ext cx="42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sis for quantum theor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simple form of “QF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opera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harmonic oscillator --- models for light qu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4640" y="1890720"/>
            <a:ext cx="2105280" cy="69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286704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414000" y="25858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dder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344400" y="360504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aising/creating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289680" y="304812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ering/annilation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217440" y="4572000"/>
            <a:ext cx="2519280" cy="125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248520" y="1890720"/>
            <a:ext cx="2019240" cy="82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2552760" y="1933560"/>
            <a:ext cx="1562040" cy="581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6"/>
          <a:stretch/>
        </p:blipFill>
        <p:spPr>
          <a:xfrm>
            <a:off x="3809880" y="4665600"/>
            <a:ext cx="1791000" cy="1162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4119480" y="41990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7"/>
          <a:stretch/>
        </p:blipFill>
        <p:spPr>
          <a:xfrm>
            <a:off x="5927760" y="469116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020000" y="32781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(dimension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perties of raising/lowering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688000" y="3065400"/>
            <a:ext cx="3371760" cy="32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325440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152280" y="2746440"/>
            <a:ext cx="2067120" cy="66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182520" y="373392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930240" y="3733920"/>
            <a:ext cx="752400" cy="39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6"/>
          <a:stretch/>
        </p:blipFill>
        <p:spPr>
          <a:xfrm>
            <a:off x="192240" y="4191120"/>
            <a:ext cx="1476360" cy="438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6168960" y="1523880"/>
            <a:ext cx="2576520" cy="1390680"/>
            <a:chOff x="6168960" y="1523880"/>
            <a:chExt cx="2576520" cy="1390680"/>
          </a:xfrm>
        </p:grpSpPr>
        <p:pic>
          <p:nvPicPr>
            <p:cNvPr id="146" name="Picture 8" descr=""/>
            <p:cNvPicPr/>
            <p:nvPr/>
          </p:nvPicPr>
          <p:blipFill>
            <a:blip r:embed="rId7"/>
            <a:stretch/>
          </p:blipFill>
          <p:spPr>
            <a:xfrm>
              <a:off x="6230880" y="1523880"/>
              <a:ext cx="13813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"/>
            <p:cNvPicPr/>
            <p:nvPr/>
          </p:nvPicPr>
          <p:blipFill>
            <a:blip r:embed="rId8"/>
            <a:stretch/>
          </p:blipFill>
          <p:spPr>
            <a:xfrm>
              <a:off x="6168960" y="2085840"/>
              <a:ext cx="7524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9"/>
            <a:stretch/>
          </p:blipFill>
          <p:spPr>
            <a:xfrm>
              <a:off x="6951960" y="2109600"/>
              <a:ext cx="17906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1" descr=""/>
            <p:cNvPicPr/>
            <p:nvPr/>
          </p:nvPicPr>
          <p:blipFill>
            <a:blip r:embed="rId10"/>
            <a:stretch/>
          </p:blipFill>
          <p:spPr>
            <a:xfrm>
              <a:off x="6230880" y="2467080"/>
              <a:ext cx="2514600" cy="44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12" descr=""/>
          <p:cNvPicPr/>
          <p:nvPr/>
        </p:nvPicPr>
        <p:blipFill>
          <a:blip r:embed="rId11"/>
          <a:stretch/>
        </p:blipFill>
        <p:spPr>
          <a:xfrm>
            <a:off x="5572080" y="5989680"/>
            <a:ext cx="981000" cy="48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2"/>
          <a:stretch/>
        </p:blipFill>
        <p:spPr>
          <a:xfrm>
            <a:off x="6630840" y="5964120"/>
            <a:ext cx="752760" cy="56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3"/>
          <a:stretch/>
        </p:blipFill>
        <p:spPr>
          <a:xfrm>
            <a:off x="7095960" y="5964120"/>
            <a:ext cx="1819440" cy="561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4"/>
          <a:stretch/>
        </p:blipFill>
        <p:spPr>
          <a:xfrm>
            <a:off x="2209680" y="4378320"/>
            <a:ext cx="3276720" cy="214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5"/>
          <a:stretch/>
        </p:blipFill>
        <p:spPr>
          <a:xfrm>
            <a:off x="2743200" y="2590920"/>
            <a:ext cx="2362320" cy="419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66600" y="2746440"/>
            <a:ext cx="2219400" cy="1942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7" descr=""/>
          <p:cNvPicPr/>
          <p:nvPr/>
        </p:nvPicPr>
        <p:blipFill>
          <a:blip r:embed="rId16"/>
          <a:stretch/>
        </p:blipFill>
        <p:spPr>
          <a:xfrm>
            <a:off x="2773440" y="2940120"/>
            <a:ext cx="2390760" cy="51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17"/>
          <a:stretch/>
        </p:blipFill>
        <p:spPr>
          <a:xfrm>
            <a:off x="3500280" y="3624120"/>
            <a:ext cx="84780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2718360" y="333864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umbering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9" descr=""/>
          <p:cNvPicPr/>
          <p:nvPr/>
        </p:nvPicPr>
        <p:blipFill>
          <a:blip r:embed="rId18"/>
          <a:stretch/>
        </p:blipFill>
        <p:spPr>
          <a:xfrm>
            <a:off x="3243240" y="3978360"/>
            <a:ext cx="120960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6"/>
          <p:cNvGraphicFramePr/>
          <p:nvPr/>
        </p:nvGraphicFramePr>
        <p:xfrm>
          <a:off x="533520" y="3284640"/>
          <a:ext cx="1558800" cy="525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520" y="3284640"/>
                    <a:ext cx="1558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umber (Eigen) St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315120" cy="249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20032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152280" y="2643120"/>
            <a:ext cx="1266840" cy="4096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41040" y="320040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verify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wave function of h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935480" y="33703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625320" y="42670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Photon number states (Fock states)  |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3438720" y="51213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0&gt;=|va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n&gt;= n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drature Fields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1790640" cy="116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362320" y="1641600"/>
            <a:ext cx="2286000" cy="115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3132000" y="2998800"/>
            <a:ext cx="1524240" cy="4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TextBox 9"/>
          <p:cNvSpPr/>
          <p:nvPr/>
        </p:nvSpPr>
        <p:spPr>
          <a:xfrm>
            <a:off x="4083480" y="5013360"/>
            <a:ext cx="1730880" cy="510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30240" y="3962520"/>
            <a:ext cx="3101760" cy="256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5837400" y="2276640"/>
            <a:ext cx="2933640" cy="1428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5494320" y="1641600"/>
            <a:ext cx="3619440" cy="799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6481440" y="137016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lass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56960" y="12193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mens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1929240" y="393552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uncertain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6286320" y="4383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1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7"/>
          <a:stretch/>
        </p:blipFill>
        <p:spPr>
          <a:xfrm>
            <a:off x="3121200" y="4307040"/>
            <a:ext cx="3162240" cy="55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3"/>
          <p:cNvGraphicFramePr/>
          <p:nvPr/>
        </p:nvGraphicFramePr>
        <p:xfrm>
          <a:off x="149400" y="2984400"/>
          <a:ext cx="2409480" cy="52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9400" y="2984400"/>
                    <a:ext cx="2409480" cy="52884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State in Phasor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396252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3"/>
          <p:cNvGraphicFramePr/>
          <p:nvPr/>
        </p:nvGraphicFramePr>
        <p:xfrm>
          <a:off x="4114800" y="3247920"/>
          <a:ext cx="240984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247920"/>
                    <a:ext cx="2409840" cy="52884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rent St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n number state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52440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TextBox 3"/>
          <p:cNvSpPr/>
          <p:nvPr/>
        </p:nvSpPr>
        <p:spPr>
          <a:xfrm>
            <a:off x="4052520" y="17305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heck normalized: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52280" y="2743200"/>
            <a:ext cx="1297080" cy="371520"/>
            <a:chOff x="152280" y="2743200"/>
            <a:chExt cx="1297080" cy="371520"/>
          </a:xfrm>
        </p:grpSpPr>
        <p:pic>
          <p:nvPicPr>
            <p:cNvPr id="193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533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" descr=""/>
            <p:cNvPicPr/>
            <p:nvPr/>
          </p:nvPicPr>
          <p:blipFill>
            <a:blip r:embed="rId3"/>
            <a:stretch/>
          </p:blipFill>
          <p:spPr>
            <a:xfrm>
              <a:off x="716040" y="2782080"/>
              <a:ext cx="7333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5" descr=""/>
          <p:cNvPicPr/>
          <p:nvPr/>
        </p:nvPicPr>
        <p:blipFill>
          <a:blip r:embed="rId4"/>
          <a:stretch/>
        </p:blipFill>
        <p:spPr>
          <a:xfrm>
            <a:off x="84240" y="3197160"/>
            <a:ext cx="1380960" cy="371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76320" y="3733920"/>
            <a:ext cx="809640" cy="390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6"/>
          <a:stretch/>
        </p:blipFill>
        <p:spPr>
          <a:xfrm>
            <a:off x="901800" y="3790800"/>
            <a:ext cx="657000" cy="247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6"/>
          <p:cNvGrpSpPr/>
          <p:nvPr/>
        </p:nvGrpSpPr>
        <p:grpSpPr>
          <a:xfrm>
            <a:off x="1560960" y="3697200"/>
            <a:ext cx="1342440" cy="492120"/>
            <a:chOff x="1560960" y="3697200"/>
            <a:chExt cx="1342440" cy="492120"/>
          </a:xfrm>
        </p:grpSpPr>
        <p:pic>
          <p:nvPicPr>
            <p:cNvPr id="199" name="Picture 8" descr=""/>
            <p:cNvPicPr/>
            <p:nvPr/>
          </p:nvPicPr>
          <p:blipFill>
            <a:blip r:embed="rId7"/>
            <a:stretch/>
          </p:blipFill>
          <p:spPr>
            <a:xfrm>
              <a:off x="2522520" y="37418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5"/>
            <p:cNvSpPr/>
            <p:nvPr/>
          </p:nvSpPr>
          <p:spPr>
            <a:xfrm>
              <a:off x="1560960" y="372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Picture 9" descr=""/>
            <p:cNvPicPr/>
            <p:nvPr/>
          </p:nvPicPr>
          <p:blipFill>
            <a:blip r:embed="rId8"/>
            <a:stretch/>
          </p:blipFill>
          <p:spPr>
            <a:xfrm>
              <a:off x="1855800" y="3729600"/>
              <a:ext cx="488880" cy="3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14"/>
            <p:cNvSpPr/>
            <p:nvPr/>
          </p:nvSpPr>
          <p:spPr>
            <a:xfrm>
              <a:off x="2288520" y="3697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10" descr=""/>
          <p:cNvPicPr/>
          <p:nvPr/>
        </p:nvPicPr>
        <p:blipFill>
          <a:blip r:embed="rId9"/>
          <a:stretch/>
        </p:blipFill>
        <p:spPr>
          <a:xfrm>
            <a:off x="0" y="434340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10"/>
          <a:stretch/>
        </p:blipFill>
        <p:spPr>
          <a:xfrm>
            <a:off x="2465280" y="4352760"/>
            <a:ext cx="1600200" cy="37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11"/>
          <a:stretch/>
        </p:blipFill>
        <p:spPr>
          <a:xfrm>
            <a:off x="146160" y="4876920"/>
            <a:ext cx="125712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12"/>
          <a:stretch/>
        </p:blipFill>
        <p:spPr>
          <a:xfrm>
            <a:off x="19080" y="5257800"/>
            <a:ext cx="92376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13"/>
          <a:stretch/>
        </p:blipFill>
        <p:spPr>
          <a:xfrm>
            <a:off x="901800" y="5257800"/>
            <a:ext cx="90468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14"/>
          <a:stretch/>
        </p:blipFill>
        <p:spPr>
          <a:xfrm>
            <a:off x="4133880" y="441000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15"/>
          <a:stretch/>
        </p:blipFill>
        <p:spPr>
          <a:xfrm>
            <a:off x="2833560" y="5791320"/>
            <a:ext cx="3000600" cy="62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16"/>
          <a:stretch/>
        </p:blipFill>
        <p:spPr>
          <a:xfrm>
            <a:off x="5991120" y="5816520"/>
            <a:ext cx="1019160" cy="6098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120240" y="58960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isson dis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7"/>
          <a:stretch/>
        </p:blipFill>
        <p:spPr>
          <a:xfrm>
            <a:off x="5470560" y="2219400"/>
            <a:ext cx="2987640" cy="21333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8"/>
          <p:cNvSpPr/>
          <p:nvPr/>
        </p:nvSpPr>
        <p:spPr>
          <a:xfrm>
            <a:off x="5750280" y="4408560"/>
            <a:ext cx="2428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eck: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0&gt;=|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 R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?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herent State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432240" y="1828800"/>
            <a:ext cx="2247840" cy="49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693960" y="2417760"/>
            <a:ext cx="17240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Theory of HB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-46080" y="1447920"/>
            <a:ext cx="4324320" cy="279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5638680" y="2114640"/>
            <a:ext cx="3295800" cy="7048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5800320" y="2895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 or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4846680" y="3484440"/>
            <a:ext cx="2305080" cy="7430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984680" y="1612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5"/>
          <a:stretch/>
        </p:blipFill>
        <p:spPr>
          <a:xfrm>
            <a:off x="68400" y="4629240"/>
            <a:ext cx="2047680" cy="780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6"/>
          <a:stretch/>
        </p:blipFill>
        <p:spPr>
          <a:xfrm>
            <a:off x="2514600" y="4629240"/>
            <a:ext cx="1895400" cy="761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385200" y="42386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2802600" y="424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7"/>
          <a:stretch/>
        </p:blipFill>
        <p:spPr>
          <a:xfrm>
            <a:off x="2724120" y="5715000"/>
            <a:ext cx="1409760" cy="476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1832400" y="5734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8"/>
          <a:stretch/>
        </p:blipFill>
        <p:spPr>
          <a:xfrm>
            <a:off x="5156280" y="4376880"/>
            <a:ext cx="2085840" cy="65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10" descr=""/>
          <p:cNvPicPr/>
          <p:nvPr/>
        </p:nvPicPr>
        <p:blipFill>
          <a:blip r:embed="rId9"/>
          <a:stretch/>
        </p:blipFill>
        <p:spPr>
          <a:xfrm>
            <a:off x="5078520" y="5800680"/>
            <a:ext cx="1143000" cy="5238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5036760" y="5010120"/>
            <a:ext cx="20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&gt;=|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(number st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7139520" y="5029200"/>
            <a:ext cx="207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=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coheren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656520" y="6229440"/>
            <a:ext cx="33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=0 “anti-bunching” for single ph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341360" y="2265480"/>
            <a:ext cx="6461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341360" y="2265480"/>
            <a:ext cx="6461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80" y="580680"/>
            <a:ext cx="43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x FQ’Cha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5840" y="186048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4343400" y="581040"/>
            <a:ext cx="450360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4572000" y="2048040"/>
            <a:ext cx="3038400" cy="138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5"/>
          <a:stretch/>
        </p:blipFill>
        <p:spPr>
          <a:xfrm>
            <a:off x="4403880" y="373392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6"/>
          <a:stretch/>
        </p:blipFill>
        <p:spPr>
          <a:xfrm>
            <a:off x="4572000" y="5410080"/>
            <a:ext cx="15526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7"/>
          <a:stretch/>
        </p:blipFill>
        <p:spPr>
          <a:xfrm>
            <a:off x="76320" y="5211720"/>
            <a:ext cx="4233600" cy="117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8"/>
          <a:stretch/>
        </p:blipFill>
        <p:spPr>
          <a:xfrm>
            <a:off x="5950080" y="545292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9"/>
          <a:stretch/>
        </p:blipFill>
        <p:spPr>
          <a:xfrm>
            <a:off x="5365800" y="6227640"/>
            <a:ext cx="271152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62000" y="1981080"/>
            <a:ext cx="5997600" cy="2167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717732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Straight Arrow Connector 7"/>
          <p:cNvCxnSpPr/>
          <p:nvPr/>
        </p:nvCxnSpPr>
        <p:spPr>
          <a:xfrm>
            <a:off x="6257520" y="2439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4" name="Straight Arrow Connector 8"/>
          <p:cNvCxnSpPr/>
          <p:nvPr/>
        </p:nvCxnSpPr>
        <p:spPr>
          <a:xfrm>
            <a:off x="6257520" y="3582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248600" y="3346560"/>
            <a:ext cx="1278000" cy="47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4505400" y="4205160"/>
            <a:ext cx="419076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884040" y="148104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point fluctua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11560" y="581832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-phas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um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1676520" cy="61128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852560" cy="54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553080" y="1311120"/>
            <a:ext cx="2470320" cy="240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219320" y="4522680"/>
            <a:ext cx="5975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232080" y="2209680"/>
            <a:ext cx="2352600" cy="135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5680080" y="2610000"/>
            <a:ext cx="2019240" cy="55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45960" y="4237200"/>
            <a:ext cx="197172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2620800" y="442764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2514600" y="5132520"/>
            <a:ext cx="2571840" cy="58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5584680" y="4832280"/>
            <a:ext cx="1123920" cy="486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phas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654960" y="1600200"/>
            <a:ext cx="1741320" cy="76212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021120" cy="3382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93600" y="5999040"/>
            <a:ext cx="374832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19T02:53:31Z</dcterms:modified>
  <cp:revision>696</cp:revision>
  <dc:subject>Physics 272H, Spring 2007</dc:subject>
  <dc:title>Lecture 2</dc:title>
</cp:coreProperties>
</file>