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3.wmf" ContentType="image/x-wmf"/>
  <Override PartName="/ppt/media/image30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17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84.png" ContentType="image/png"/>
  <Override PartName="/ppt/media/image16.wmf" ContentType="image/x-wmf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83.png" ContentType="image/png"/>
  <Override PartName="/ppt/media/image48.png" ContentType="image/png"/>
  <Override PartName="/ppt/media/image70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19.wmf" ContentType="image/x-wmf"/>
  <Override PartName="/ppt/media/image62.wmf" ContentType="image/x-wmf"/>
  <Override PartName="/ppt/media/image6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26.wmf" ContentType="image/x-wmf"/>
  <Override PartName="/ppt/media/image91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7.png" ContentType="image/png"/>
  <Override PartName="/ppt/media/image88.wmf" ContentType="image/x-wmf"/>
  <Override PartName="/ppt/media/image11.png" ContentType="image/png"/>
  <Override PartName="/ppt/media/image76.wmf" ContentType="image/x-wmf"/>
  <Override PartName="/ppt/media/image36.png" ContentType="image/png"/>
  <Override PartName="/ppt/media/image74.wmf" ContentType="image/x-wmf"/>
  <Override PartName="/ppt/media/image34.png" ContentType="image/png"/>
  <Override PartName="/ppt/media/image80.wmf" ContentType="image/x-wmf"/>
  <Override PartName="/ppt/media/image69.wmf" ContentType="image/x-wmf"/>
  <Override PartName="/ppt/media/image92.wmf" ContentType="image/x-wmf"/>
  <Override PartName="/ppt/media/image27.wmf" ContentType="image/x-wmf"/>
  <Override PartName="/ppt/media/image64.wmf" ContentType="image/x-wmf"/>
  <Override PartName="/ppt/media/image79.png" ContentType="image/png"/>
  <Override PartName="/ppt/media/image75.wmf" ContentType="image/x-wmf"/>
  <Override PartName="/ppt/media/image35.png" ContentType="image/png"/>
  <Override PartName="/ppt/media/image73.wmf" ContentType="image/x-wmf"/>
  <Override PartName="/ppt/media/image72.wmf" ContentType="image/x-wmf"/>
  <Override PartName="/ppt/media/image32.png" ContentType="image/png"/>
  <Override PartName="/ppt/media/image68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9.wmf" ContentType="image/x-wmf"/>
  <Override PartName="/ppt/media/image31.png" ContentType="image/png"/>
  <Override PartName="/ppt/media/image4.png" ContentType="image/png"/>
  <Override PartName="/ppt/media/image81.png" ContentType="image/png"/>
  <Override PartName="/ppt/media/image5.png" ContentType="image/png"/>
  <Override PartName="/ppt/media/image82.png" ContentType="image/png"/>
  <Override PartName="/ppt/media/image93.wmf" ContentType="image/x-wmf"/>
  <Override PartName="/ppt/media/image28.wmf" ContentType="image/x-wmf"/>
  <Override PartName="/ppt/media/image78.wmf" ContentType="image/x-wmf"/>
  <Override PartName="/ppt/media/image10.png" ContentType="image/pn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0E3C5-20DC-4001-96B7-D21C88A68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E2C2B-0497-4FFC-9E27-54556D22D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C98-25A3-471E-8384-64929350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90B-FA2A-431F-9869-CB69528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D66-6534-418E-B3B8-1CE14B2F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9B6-0AC8-47C4-ADAB-B63331E7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9CB-6FFA-4C45-9122-809C2B00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C97-9512-4E9F-89EB-C4FD02A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4F9-85EB-4EA7-8FFB-A2E8DF0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FAF-B221-49A4-B956-A4FFA9C7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BD0-732D-4309-A87F-D5F9A57C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5F4-1FEE-4135-BC8D-75F081B3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067-551E-4B5C-A49F-E9A52C3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267-FF8D-430A-9CD2-F1EEB536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826A-2A81-456B-B934-D392E44796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B5C0-BA94-4306-B62C-1F1BF1889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87D3B4E7-F1C6-4A7D-A99B-795F5B534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image" Target="../media/image65.wmf"/><Relationship Id="rId8" Type="http://schemas.openxmlformats.org/officeDocument/2006/relationships/image" Target="../media/image64.wmf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3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hoton Source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6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4740120" cy="389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79880" cy="22939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787360" y="51055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particle 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442800" y="1828800"/>
            <a:ext cx="6972120" cy="27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0" y="4673520"/>
            <a:ext cx="5105520" cy="141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28480" y="1133640"/>
            <a:ext cx="5915160" cy="69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5105520" y="4749840"/>
            <a:ext cx="4108320" cy="126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6384960" y="2362320"/>
            <a:ext cx="2743200" cy="992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6992640" y="3354480"/>
            <a:ext cx="22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 photons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tibu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nergy (pho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80" y="580680"/>
            <a:ext cx="43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x FQ’Cha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5840" y="186048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4343400" y="581040"/>
            <a:ext cx="4503600" cy="117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4572000" y="2048040"/>
            <a:ext cx="3038400" cy="1380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4403880" y="373392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4572000" y="5410080"/>
            <a:ext cx="15526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28600" y="2062080"/>
            <a:ext cx="2073240" cy="5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105520" y="1967040"/>
            <a:ext cx="550800" cy="225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5105520" y="2347920"/>
            <a:ext cx="838080" cy="2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2717640" y="1959120"/>
            <a:ext cx="1697040" cy="64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6346800" y="2079720"/>
            <a:ext cx="154296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7"/>
          <a:stretch/>
        </p:blipFill>
        <p:spPr>
          <a:xfrm>
            <a:off x="76320" y="5211720"/>
            <a:ext cx="4233600" cy="117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8"/>
          <a:stretch/>
        </p:blipFill>
        <p:spPr>
          <a:xfrm>
            <a:off x="5950080" y="545292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9"/>
          <a:stretch/>
        </p:blipFill>
        <p:spPr>
          <a:xfrm>
            <a:off x="5365800" y="6227640"/>
            <a:ext cx="271152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or diagram and field quadratures (dimension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5446440" cy="1700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85840" y="3886200"/>
            <a:ext cx="2512800" cy="1066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124080" y="3886200"/>
            <a:ext cx="1940040" cy="1022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6019920" y="1752480"/>
            <a:ext cx="257940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5672160" y="2273400"/>
            <a:ext cx="34718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62000" y="1981080"/>
            <a:ext cx="5997600" cy="21672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717732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Straight Arrow Connector 7"/>
          <p:cNvCxnSpPr/>
          <p:nvPr/>
        </p:nvCxnSpPr>
        <p:spPr>
          <a:xfrm>
            <a:off x="6257520" y="2439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67" name="Straight Arrow Connector 8"/>
          <p:cNvCxnSpPr/>
          <p:nvPr/>
        </p:nvCxnSpPr>
        <p:spPr>
          <a:xfrm>
            <a:off x="6257520" y="3582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7248600" y="3346560"/>
            <a:ext cx="1278000" cy="47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3"/>
          <a:stretch/>
        </p:blipFill>
        <p:spPr>
          <a:xfrm>
            <a:off x="4505400" y="4205160"/>
            <a:ext cx="4190760" cy="1514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3884040" y="148104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point fluctua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3211560" y="581832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-phas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um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1676520" cy="61128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852560" cy="544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553080" y="1311120"/>
            <a:ext cx="2470320" cy="2408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1219320" y="4522680"/>
            <a:ext cx="5975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393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 &amp;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correlation  [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6124680" cy="10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2744640"/>
            <a:ext cx="5962680" cy="50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6294600" y="1511280"/>
            <a:ext cx="12668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264960" y="3429000"/>
            <a:ext cx="602964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264960" y="4876920"/>
            <a:ext cx="1933560" cy="51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6"/>
          <a:stretch/>
        </p:blipFill>
        <p:spPr>
          <a:xfrm>
            <a:off x="2666880" y="4829040"/>
            <a:ext cx="30099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93600" y="5308560"/>
            <a:ext cx="3727440" cy="120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8"/>
          <a:stretch/>
        </p:blipFill>
        <p:spPr>
          <a:xfrm>
            <a:off x="3886200" y="5384880"/>
            <a:ext cx="32958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6656400" y="3957480"/>
            <a:ext cx="2295360" cy="5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0"/>
          <a:stretch/>
        </p:blipFill>
        <p:spPr>
          <a:xfrm>
            <a:off x="7419960" y="4529160"/>
            <a:ext cx="93348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1"/>
          <a:stretch/>
        </p:blipFill>
        <p:spPr>
          <a:xfrm>
            <a:off x="6703920" y="2575080"/>
            <a:ext cx="1716120" cy="138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723440" y="1301760"/>
            <a:ext cx="13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her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imir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00400" cy="327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7230960" y="2819520"/>
            <a:ext cx="14558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232080" y="2209680"/>
            <a:ext cx="2352600" cy="1352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5680080" y="2610000"/>
            <a:ext cx="2019240" cy="552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45960" y="4237200"/>
            <a:ext cx="19717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2620800" y="442764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6"/>
          <a:stretch/>
        </p:blipFill>
        <p:spPr>
          <a:xfrm>
            <a:off x="2514600" y="5132520"/>
            <a:ext cx="2571840" cy="581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7"/>
          <a:stretch/>
        </p:blipFill>
        <p:spPr>
          <a:xfrm>
            <a:off x="5584680" y="4832280"/>
            <a:ext cx="1123920" cy="486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phas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6654960" y="1600200"/>
            <a:ext cx="1741320" cy="76212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021120" cy="3382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93600" y="5999040"/>
            <a:ext cx="374832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der correlation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3108240" cy="45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88880" y="1417680"/>
            <a:ext cx="7539120" cy="831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990720" y="3259080"/>
            <a:ext cx="1234800" cy="45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5410080" y="2800440"/>
            <a:ext cx="1676520" cy="955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3809880" y="4038480"/>
            <a:ext cx="132264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695760" y="4518000"/>
            <a:ext cx="1455840" cy="46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7"/>
          <a:stretch/>
        </p:blipFill>
        <p:spPr>
          <a:xfrm>
            <a:off x="3733920" y="5059440"/>
            <a:ext cx="1101600" cy="27936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11"/>
          <p:cNvCxnSpPr>
            <a:endCxn id="79" idx="0"/>
          </p:cNvCxnSpPr>
          <p:nvPr/>
        </p:nvCxnSpPr>
        <p:spPr>
          <a:xfrm flipH="1">
            <a:off x="4471200" y="2968560"/>
            <a:ext cx="1243800" cy="1070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6089760" y="4005360"/>
            <a:ext cx="2931840" cy="51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9"/>
          <a:stretch/>
        </p:blipFill>
        <p:spPr>
          <a:xfrm>
            <a:off x="6089760" y="4576680"/>
            <a:ext cx="1895400" cy="52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0"/>
          <a:stretch/>
        </p:blipFill>
        <p:spPr>
          <a:xfrm>
            <a:off x="6089760" y="5310360"/>
            <a:ext cx="1520640" cy="40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11"/>
          <a:stretch/>
        </p:blipFill>
        <p:spPr>
          <a:xfrm>
            <a:off x="147600" y="4027320"/>
            <a:ext cx="29210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BT with ph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-152280" y="2057400"/>
            <a:ext cx="6608520" cy="405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1455840" cy="187560"/>
          </a:xfrm>
          <a:prstGeom prst="rect">
            <a:avLst/>
          </a:prstGeom>
          <a:ln w="0">
            <a:noFill/>
          </a:ln>
        </p:spPr>
      </p:pic>
      <p:sp>
        <p:nvSpPr>
          <p:cNvPr id="90" name="Oval 5"/>
          <p:cNvSpPr/>
          <p:nvPr/>
        </p:nvSpPr>
        <p:spPr>
          <a:xfrm>
            <a:off x="4800600" y="2400480"/>
            <a:ext cx="1455840" cy="263520"/>
          </a:xfrm>
          <a:prstGeom prst="ellipse">
            <a:avLst/>
          </a:prstGeom>
          <a:noFill/>
          <a:ln w="25560">
            <a:solidFill>
              <a:srgbClr val="f6f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6680160" y="2276640"/>
            <a:ext cx="2006640" cy="510840"/>
          </a:xfrm>
          <a:prstGeom prst="rect">
            <a:avLst/>
          </a:prstGeom>
          <a:ln w="0">
            <a:noFill/>
          </a:ln>
        </p:spPr>
      </p:pic>
      <p:sp>
        <p:nvSpPr>
          <p:cNvPr id="92" name="Oval 10"/>
          <p:cNvSpPr/>
          <p:nvPr/>
        </p:nvSpPr>
        <p:spPr>
          <a:xfrm>
            <a:off x="2819520" y="3276720"/>
            <a:ext cx="9144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4"/>
          <a:stretch/>
        </p:blipFill>
        <p:spPr>
          <a:xfrm>
            <a:off x="7275600" y="5029200"/>
            <a:ext cx="815760" cy="258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4" name="TextBox 12"/>
          <p:cNvSpPr/>
          <p:nvPr/>
        </p:nvSpPr>
        <p:spPr>
          <a:xfrm>
            <a:off x="6867000" y="4567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ingle) 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4200" y="2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requirements/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06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liable) Single photo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multiphoton emission compromises security by giving Eve more chances to evade detection (both Eve’s detectors clic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nows basis wrong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uated single-freq laser: photon Poisson distr, subject to multi-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emand” single photon 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urrent researc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21640" y="3505320"/>
            <a:ext cx="2017440" cy="143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377172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7620120" y="4006800"/>
            <a:ext cx="1100160" cy="21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8218440" y="4222800"/>
            <a:ext cx="33336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33400" y="1476360"/>
            <a:ext cx="74772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181160" y="1676520"/>
            <a:ext cx="6781680" cy="480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6320" y="689040"/>
            <a:ext cx="23144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demand single-photon 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photon gu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942240" cy="2198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64520" y="198612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ample (optical trig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2654280" cy="56754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163760" y="388620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&gt;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bunching == sub-poissoni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025880" y="1617840"/>
            <a:ext cx="390204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3914640" y="11556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lid stat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6770520" y="2378160"/>
            <a:ext cx="23162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18T13:57:09Z</dcterms:modified>
  <cp:revision>690</cp:revision>
  <dc:subject>Physics 272H, Spring 2007</dc:subject>
  <dc:title>Lecture 2</dc:title>
</cp:coreProperties>
</file>