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3.wmf" ContentType="image/x-wmf"/>
  <Override PartName="/ppt/media/image30.wmf" ContentType="image/x-wmf"/>
  <Override PartName="/ppt/media/image42.wmf" ContentType="image/x-wmf"/>
  <Override PartName="/ppt/media/image8.png" ContentType="image/png"/>
  <Override PartName="/ppt/media/image85.png" ContentType="image/png"/>
  <Override PartName="/ppt/media/image17.wmf" ContentType="image/x-wmf"/>
  <Override PartName="/ppt/media/image13.png" ContentType="image/png"/>
  <Override PartName="/ppt/media/image1.png" ContentType="image/png"/>
  <Override PartName="/ppt/media/image41.wmf" ContentType="image/x-wmf"/>
  <Override PartName="/ppt/media/image7.png" ContentType="image/png"/>
  <Override PartName="/ppt/media/image84.png" ContentType="image/png"/>
  <Override PartName="/ppt/media/image16.wmf" ContentType="image/x-wmf"/>
  <Override PartName="/ppt/media/image49.png" ContentType="image/png"/>
  <Override PartName="/ppt/media/image71.wmf" ContentType="image/x-wmf"/>
  <Override PartName="/ppt/media/image12.png" ContentType="image/png"/>
  <Override PartName="/ppt/media/image40.wmf" ContentType="image/x-wmf"/>
  <Override PartName="/ppt/media/image6.png" ContentType="image/png"/>
  <Override PartName="/ppt/media/image83.png" ContentType="image/png"/>
  <Override PartName="/ppt/media/image48.png" ContentType="image/png"/>
  <Override PartName="/ppt/media/image70.wmf" ContentType="image/x-wmf"/>
  <Override PartName="/ppt/media/image23.wmf" ContentType="image/x-wmf"/>
  <Override PartName="/ppt/media/image60.wmf" ContentType="image/x-wmf"/>
  <Override PartName="/ppt/media/image18.wmf" ContentType="image/x-wmf"/>
  <Override PartName="/ppt/media/image24.wmf" ContentType="image/x-wmf"/>
  <Override PartName="/ppt/media/image61.wmf" ContentType="image/x-wmf"/>
  <Override PartName="/ppt/media/image19.wmf" ContentType="image/x-wmf"/>
  <Override PartName="/ppt/media/image62.wmf" ContentType="image/x-wmf"/>
  <Override PartName="/ppt/media/image63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26.wmf" ContentType="image/x-wmf"/>
  <Override PartName="/ppt/media/image91.wmf" ContentType="image/x-wmf"/>
  <Override PartName="/ppt/media/image89.wmf" ContentType="image/x-wmf"/>
  <Override PartName="/ppt/media/image77.wmf" ContentType="image/x-wmf"/>
  <Override PartName="/ppt/media/image25.wmf" ContentType="image/x-wmf"/>
  <Override PartName="/ppt/media/image90.wmf" ContentType="image/x-wmf"/>
  <Override PartName="/ppt/media/image87.png" ContentType="image/png"/>
  <Override PartName="/ppt/media/image88.wmf" ContentType="image/x-wmf"/>
  <Override PartName="/ppt/media/image11.png" ContentType="image/png"/>
  <Override PartName="/ppt/media/image76.wmf" ContentType="image/x-wmf"/>
  <Override PartName="/ppt/media/image36.png" ContentType="image/png"/>
  <Override PartName="/ppt/media/image74.wmf" ContentType="image/x-wmf"/>
  <Override PartName="/ppt/media/image34.png" ContentType="image/png"/>
  <Override PartName="/ppt/media/image80.wmf" ContentType="image/x-wmf"/>
  <Override PartName="/ppt/media/image69.wmf" ContentType="image/x-wmf"/>
  <Override PartName="/ppt/media/image92.wmf" ContentType="image/x-wmf"/>
  <Override PartName="/ppt/media/image27.wmf" ContentType="image/x-wmf"/>
  <Override PartName="/ppt/media/image64.wmf" ContentType="image/x-wmf"/>
  <Override PartName="/ppt/media/image79.png" ContentType="image/png"/>
  <Override PartName="/ppt/media/image75.wmf" ContentType="image/x-wmf"/>
  <Override PartName="/ppt/media/image35.png" ContentType="image/png"/>
  <Override PartName="/ppt/media/image73.wmf" ContentType="image/x-wmf"/>
  <Override PartName="/ppt/media/image72.wmf" ContentType="image/x-wmf"/>
  <Override PartName="/ppt/media/image32.png" ContentType="image/png"/>
  <Override PartName="/ppt/media/image68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55.wmf" ContentType="image/x-wmf"/>
  <Override PartName="/ppt/media/image3.png" ContentType="image/png"/>
  <Override PartName="/ppt/media/image15.png" ContentType="image/png"/>
  <Override PartName="/ppt/media/image54.wmf" ContentType="image/x-wmf"/>
  <Override PartName="/ppt/media/image2.png" ContentType="image/png"/>
  <Override PartName="/ppt/media/image14.png" ContentType="image/png"/>
  <Override PartName="/ppt/media/image29.wmf" ContentType="image/x-wmf"/>
  <Override PartName="/ppt/media/image31.png" ContentType="image/png"/>
  <Override PartName="/ppt/media/image4.png" ContentType="image/png"/>
  <Override PartName="/ppt/media/image81.png" ContentType="image/png"/>
  <Override PartName="/ppt/media/image5.png" ContentType="image/png"/>
  <Override PartName="/ppt/media/image82.png" ContentType="image/png"/>
  <Override PartName="/ppt/media/image93.wmf" ContentType="image/x-wmf"/>
  <Override PartName="/ppt/media/image28.wmf" ContentType="image/x-wmf"/>
  <Override PartName="/ppt/media/image78.wmf" ContentType="image/x-wmf"/>
  <Override PartName="/ppt/media/image10.png" ContentType="image/png"/>
  <Override PartName="/ppt/media/image4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8B610-6B05-489D-9B5A-28D1A2ED13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8DB87-69ED-428B-B7E3-21C98F3849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FD0-AFED-478B-AF66-E4D025FE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96D5-EBF1-419A-BAF2-DA086FF2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098-533C-4935-BBDC-0376C19A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5BE-3403-4AFC-AABE-7B6005AC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E519-BDB0-4B2A-AD8F-394CF544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8352-99F0-41D0-803A-5F1E4589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51D6-4CFB-43B8-8890-5FD5A45B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877-E1AD-417D-9251-36B4F94E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E2B-2DEE-4699-A9D8-30051404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197-70A5-4D86-965F-C5F8B2C3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3168-FCFE-490A-8F3A-43299F19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0ED-0A54-48E3-8050-CBEF0970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EC66-B9B3-471D-80EF-E6E680EF36A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4569-F55F-4BCA-9AB8-67D389FD0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EE132270-8C93-4CFF-A89D-315765183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image" Target="../media/image59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image" Target="../media/image59.wmf"/><Relationship Id="rId7" Type="http://schemas.openxmlformats.org/officeDocument/2006/relationships/image" Target="../media/image65.wmf"/><Relationship Id="rId8" Type="http://schemas.openxmlformats.org/officeDocument/2006/relationships/image" Target="../media/image64.wmf"/><Relationship Id="rId9" Type="http://schemas.openxmlformats.org/officeDocument/2006/relationships/image" Target="../media/image66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86.png"/><Relationship Id="rId7" Type="http://schemas.openxmlformats.org/officeDocument/2006/relationships/image" Target="../media/image87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image" Target="../media/image89.wmf"/><Relationship Id="rId3" Type="http://schemas.openxmlformats.org/officeDocument/2006/relationships/image" Target="../media/image9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image" Target="../media/image9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image" Target="../media/image24.wmf"/><Relationship Id="rId10" Type="http://schemas.openxmlformats.org/officeDocument/2006/relationships/image" Target="../media/image25.wmf"/><Relationship Id="rId11" Type="http://schemas.openxmlformats.org/officeDocument/2006/relationships/image" Target="../media/image26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13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23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Photon Source;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rent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6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6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0" y="1752480"/>
            <a:ext cx="4740120" cy="3894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4079880" cy="22939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5787360" y="5105520"/>
            <a:ext cx="28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particle d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442800" y="1828800"/>
            <a:ext cx="6972120" cy="2771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0" y="4673520"/>
            <a:ext cx="5105520" cy="1419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528480" y="1133640"/>
            <a:ext cx="5915160" cy="695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4"/>
          <a:stretch/>
        </p:blipFill>
        <p:spPr>
          <a:xfrm>
            <a:off x="5105520" y="4749840"/>
            <a:ext cx="4108320" cy="1266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5"/>
          <a:stretch/>
        </p:blipFill>
        <p:spPr>
          <a:xfrm>
            <a:off x="6384960" y="2362320"/>
            <a:ext cx="2743200" cy="992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6992640" y="3354480"/>
            <a:ext cx="222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ngle photons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ntibun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um nature of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zed energy (phot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zed E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80" y="580680"/>
            <a:ext cx="432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x FQ’Chap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1905120"/>
            <a:ext cx="3076560" cy="4390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15840" y="1860480"/>
            <a:ext cx="3076560" cy="439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4343400" y="581040"/>
            <a:ext cx="4503600" cy="117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4"/>
          <a:stretch/>
        </p:blipFill>
        <p:spPr>
          <a:xfrm>
            <a:off x="4572000" y="2048040"/>
            <a:ext cx="3038400" cy="1380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5"/>
          <a:stretch/>
        </p:blipFill>
        <p:spPr>
          <a:xfrm>
            <a:off x="4403880" y="373392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6"/>
          <a:stretch/>
        </p:blipFill>
        <p:spPr>
          <a:xfrm>
            <a:off x="4572000" y="5410080"/>
            <a:ext cx="155268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ght as classical EM wave (oscilla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25560" y="2057400"/>
            <a:ext cx="1917720" cy="188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476440" y="2286000"/>
            <a:ext cx="2095560" cy="252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2444760" y="2824200"/>
            <a:ext cx="2160720" cy="352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4"/>
          <a:stretch/>
        </p:blipFill>
        <p:spPr>
          <a:xfrm>
            <a:off x="4876920" y="2538360"/>
            <a:ext cx="903240" cy="325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5"/>
          <a:stretch/>
        </p:blipFill>
        <p:spPr>
          <a:xfrm>
            <a:off x="2444760" y="3606840"/>
            <a:ext cx="2006640" cy="488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6"/>
          <a:stretch/>
        </p:blipFill>
        <p:spPr>
          <a:xfrm>
            <a:off x="2398680" y="4525920"/>
            <a:ext cx="302112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cal Harmonic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228600" y="2062080"/>
            <a:ext cx="2073240" cy="571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5105520" y="1967040"/>
            <a:ext cx="550800" cy="225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3"/>
          <a:stretch/>
        </p:blipFill>
        <p:spPr>
          <a:xfrm>
            <a:off x="5105520" y="2347920"/>
            <a:ext cx="838080" cy="24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4"/>
          <a:stretch/>
        </p:blipFill>
        <p:spPr>
          <a:xfrm>
            <a:off x="2717640" y="1959120"/>
            <a:ext cx="1697040" cy="649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5"/>
          <a:stretch/>
        </p:blipFill>
        <p:spPr>
          <a:xfrm>
            <a:off x="6346800" y="2079720"/>
            <a:ext cx="154296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ght as classical EM wave (oscilla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5560" y="2057400"/>
            <a:ext cx="1917720" cy="1886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2476440" y="2286000"/>
            <a:ext cx="2095560" cy="25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2444760" y="2824200"/>
            <a:ext cx="2160720" cy="352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4"/>
          <a:stretch/>
        </p:blipFill>
        <p:spPr>
          <a:xfrm>
            <a:off x="4876920" y="2538360"/>
            <a:ext cx="903240" cy="325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5"/>
          <a:stretch/>
        </p:blipFill>
        <p:spPr>
          <a:xfrm>
            <a:off x="2444760" y="3606840"/>
            <a:ext cx="2006640" cy="488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6"/>
          <a:stretch/>
        </p:blipFill>
        <p:spPr>
          <a:xfrm>
            <a:off x="2398680" y="4525920"/>
            <a:ext cx="3021120" cy="60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7"/>
          <a:stretch/>
        </p:blipFill>
        <p:spPr>
          <a:xfrm>
            <a:off x="76320" y="5211720"/>
            <a:ext cx="4233600" cy="1171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8"/>
          <a:stretch/>
        </p:blipFill>
        <p:spPr>
          <a:xfrm>
            <a:off x="5950080" y="5452920"/>
            <a:ext cx="1542960" cy="451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9"/>
          <a:stretch/>
        </p:blipFill>
        <p:spPr>
          <a:xfrm>
            <a:off x="5365800" y="6227640"/>
            <a:ext cx="271152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or diagram and field quadratures (dimension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5446440" cy="1700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285840" y="3886200"/>
            <a:ext cx="2512800" cy="1066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3"/>
          <a:stretch/>
        </p:blipFill>
        <p:spPr>
          <a:xfrm>
            <a:off x="3124080" y="3886200"/>
            <a:ext cx="1940040" cy="1022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4"/>
          <a:stretch/>
        </p:blipFill>
        <p:spPr>
          <a:xfrm>
            <a:off x="6019920" y="1752480"/>
            <a:ext cx="2579400" cy="390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"/>
          <p:cNvPicPr/>
          <p:nvPr/>
        </p:nvPicPr>
        <p:blipFill>
          <a:blip r:embed="rId5"/>
          <a:stretch/>
        </p:blipFill>
        <p:spPr>
          <a:xfrm>
            <a:off x="5672160" y="2273400"/>
            <a:ext cx="347184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um harmonic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62000" y="1981080"/>
            <a:ext cx="5997600" cy="21672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7177320" y="2209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Straight Arrow Connector 7"/>
          <p:cNvCxnSpPr/>
          <p:nvPr/>
        </p:nvCxnSpPr>
        <p:spPr>
          <a:xfrm>
            <a:off x="6257520" y="2439720"/>
            <a:ext cx="6865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67" name="Straight Arrow Connector 8"/>
          <p:cNvCxnSpPr/>
          <p:nvPr/>
        </p:nvCxnSpPr>
        <p:spPr>
          <a:xfrm>
            <a:off x="6257520" y="3582720"/>
            <a:ext cx="6865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pic>
        <p:nvPicPr>
          <p:cNvPr id="168" name="Picture 9" descr=""/>
          <p:cNvPicPr/>
          <p:nvPr/>
        </p:nvPicPr>
        <p:blipFill>
          <a:blip r:embed="rId2"/>
          <a:stretch/>
        </p:blipFill>
        <p:spPr>
          <a:xfrm>
            <a:off x="7248600" y="3346560"/>
            <a:ext cx="1278000" cy="473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"/>
          <p:cNvPicPr/>
          <p:nvPr/>
        </p:nvPicPr>
        <p:blipFill>
          <a:blip r:embed="rId3"/>
          <a:stretch/>
        </p:blipFill>
        <p:spPr>
          <a:xfrm>
            <a:off x="4505400" y="4205160"/>
            <a:ext cx="4190760" cy="15145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1"/>
          <p:cNvSpPr/>
          <p:nvPr/>
        </p:nvSpPr>
        <p:spPr>
          <a:xfrm>
            <a:off x="3884040" y="1481040"/>
            <a:ext cx="51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-point fluctuatio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uum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3211560" y="5818320"/>
            <a:ext cx="37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-phase 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um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1676520" cy="611280"/>
          </a:xfrm>
          <a:prstGeom prst="rect">
            <a:avLst/>
          </a:prstGeom>
          <a:ln w="9360">
            <a:solidFill>
              <a:srgbClr val="161645"/>
            </a:solidFill>
            <a:miter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352680" y="2209680"/>
            <a:ext cx="1852560" cy="544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6553080" y="1311120"/>
            <a:ext cx="2470320" cy="2408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4"/>
          <a:stretch/>
        </p:blipFill>
        <p:spPr>
          <a:xfrm>
            <a:off x="1219320" y="4522680"/>
            <a:ext cx="597528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39360"/>
            <a:ext cx="91440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rence &amp;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der correlation  [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6124680" cy="103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42920" y="2744640"/>
            <a:ext cx="5962680" cy="505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6294600" y="1511280"/>
            <a:ext cx="1266840" cy="6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4"/>
          <a:stretch/>
        </p:blipFill>
        <p:spPr>
          <a:xfrm>
            <a:off x="264960" y="3429000"/>
            <a:ext cx="6029640" cy="124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>
            <a:off x="264960" y="4876920"/>
            <a:ext cx="1933560" cy="514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6"/>
          <a:stretch/>
        </p:blipFill>
        <p:spPr>
          <a:xfrm>
            <a:off x="2666880" y="4829040"/>
            <a:ext cx="300996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93600" y="5308560"/>
            <a:ext cx="3727440" cy="120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8"/>
          <a:stretch/>
        </p:blipFill>
        <p:spPr>
          <a:xfrm>
            <a:off x="3886200" y="5384880"/>
            <a:ext cx="329580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9"/>
          <a:stretch/>
        </p:blipFill>
        <p:spPr>
          <a:xfrm>
            <a:off x="6656400" y="3957480"/>
            <a:ext cx="2295360" cy="571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10"/>
          <a:stretch/>
        </p:blipFill>
        <p:spPr>
          <a:xfrm>
            <a:off x="7419960" y="4529160"/>
            <a:ext cx="93348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"/>
          <p:cNvPicPr/>
          <p:nvPr/>
        </p:nvPicPr>
        <p:blipFill>
          <a:blip r:embed="rId11"/>
          <a:stretch/>
        </p:blipFill>
        <p:spPr>
          <a:xfrm>
            <a:off x="6703920" y="2575080"/>
            <a:ext cx="1716120" cy="138888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7723440" y="1301760"/>
            <a:ext cx="134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er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imir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200400" cy="3273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" descr=""/>
          <p:cNvPicPr/>
          <p:nvPr/>
        </p:nvPicPr>
        <p:blipFill>
          <a:blip r:embed="rId2"/>
          <a:stretch/>
        </p:blipFill>
        <p:spPr>
          <a:xfrm>
            <a:off x="7230960" y="2819520"/>
            <a:ext cx="145584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herent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987640" cy="213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3232080" y="2209680"/>
            <a:ext cx="2352600" cy="1352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3"/>
          <a:stretch/>
        </p:blipFill>
        <p:spPr>
          <a:xfrm>
            <a:off x="5680080" y="2610000"/>
            <a:ext cx="2019240" cy="552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4"/>
          <a:stretch/>
        </p:blipFill>
        <p:spPr>
          <a:xfrm>
            <a:off x="345960" y="4237200"/>
            <a:ext cx="1971720" cy="838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5"/>
          <a:stretch/>
        </p:blipFill>
        <p:spPr>
          <a:xfrm>
            <a:off x="2620800" y="4427640"/>
            <a:ext cx="1981440" cy="457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6"/>
          <a:stretch/>
        </p:blipFill>
        <p:spPr>
          <a:xfrm>
            <a:off x="2514600" y="5132520"/>
            <a:ext cx="2571840" cy="581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7"/>
          <a:stretch/>
        </p:blipFill>
        <p:spPr>
          <a:xfrm>
            <a:off x="5584680" y="4832280"/>
            <a:ext cx="1123920" cy="4860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phase 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6654960" y="1600200"/>
            <a:ext cx="1741320" cy="762120"/>
          </a:xfrm>
          <a:prstGeom prst="rect">
            <a:avLst/>
          </a:prstGeom>
          <a:ln w="9360">
            <a:solidFill>
              <a:srgbClr val="161645"/>
            </a:solidFill>
            <a:miter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021120" cy="3382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93600" y="5999040"/>
            <a:ext cx="374832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0" y="660240"/>
            <a:ext cx="4408560" cy="1940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2"/>
          <a:stretch/>
        </p:blipFill>
        <p:spPr>
          <a:xfrm>
            <a:off x="4621320" y="660240"/>
            <a:ext cx="4599000" cy="3454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3"/>
          <a:stretch/>
        </p:blipFill>
        <p:spPr>
          <a:xfrm>
            <a:off x="0" y="2666880"/>
            <a:ext cx="462132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rder correlatio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3108240" cy="450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488880" y="1417680"/>
            <a:ext cx="7539120" cy="831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990720" y="3259080"/>
            <a:ext cx="1234800" cy="45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4"/>
          <a:stretch/>
        </p:blipFill>
        <p:spPr>
          <a:xfrm>
            <a:off x="5410080" y="2800440"/>
            <a:ext cx="1676520" cy="955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9" name="Picture 7" descr=""/>
          <p:cNvPicPr/>
          <p:nvPr/>
        </p:nvPicPr>
        <p:blipFill>
          <a:blip r:embed="rId5"/>
          <a:stretch/>
        </p:blipFill>
        <p:spPr>
          <a:xfrm>
            <a:off x="3809880" y="4038480"/>
            <a:ext cx="1322640" cy="457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6"/>
          <a:stretch/>
        </p:blipFill>
        <p:spPr>
          <a:xfrm>
            <a:off x="3695760" y="4518000"/>
            <a:ext cx="1455840" cy="466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7"/>
          <a:stretch/>
        </p:blipFill>
        <p:spPr>
          <a:xfrm>
            <a:off x="3733920" y="5059440"/>
            <a:ext cx="1101600" cy="279360"/>
          </a:xfrm>
          <a:prstGeom prst="rect">
            <a:avLst/>
          </a:prstGeom>
          <a:ln w="0">
            <a:noFill/>
          </a:ln>
        </p:spPr>
      </p:pic>
      <p:cxnSp>
        <p:nvCxnSpPr>
          <p:cNvPr id="82" name="Straight Arrow Connector 11"/>
          <p:cNvCxnSpPr>
            <a:endCxn id="79" idx="0"/>
          </p:cNvCxnSpPr>
          <p:nvPr/>
        </p:nvCxnSpPr>
        <p:spPr>
          <a:xfrm flipH="1">
            <a:off x="4471200" y="2968560"/>
            <a:ext cx="1243800" cy="1070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pic>
        <p:nvPicPr>
          <p:cNvPr id="83" name="Picture 12" descr=""/>
          <p:cNvPicPr/>
          <p:nvPr/>
        </p:nvPicPr>
        <p:blipFill>
          <a:blip r:embed="rId8"/>
          <a:stretch/>
        </p:blipFill>
        <p:spPr>
          <a:xfrm>
            <a:off x="6089760" y="4005360"/>
            <a:ext cx="2931840" cy="511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9"/>
          <a:stretch/>
        </p:blipFill>
        <p:spPr>
          <a:xfrm>
            <a:off x="6089760" y="4576680"/>
            <a:ext cx="1895400" cy="522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10"/>
          <a:stretch/>
        </p:blipFill>
        <p:spPr>
          <a:xfrm>
            <a:off x="6089760" y="5310360"/>
            <a:ext cx="1520640" cy="401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"/>
          <p:cNvPicPr/>
          <p:nvPr/>
        </p:nvPicPr>
        <p:blipFill>
          <a:blip r:embed="rId11"/>
          <a:stretch/>
        </p:blipFill>
        <p:spPr>
          <a:xfrm>
            <a:off x="147600" y="4027320"/>
            <a:ext cx="292104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BT with pho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-152280" y="2057400"/>
            <a:ext cx="6608520" cy="4052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1455840" cy="187560"/>
          </a:xfrm>
          <a:prstGeom prst="rect">
            <a:avLst/>
          </a:prstGeom>
          <a:ln w="0">
            <a:noFill/>
          </a:ln>
        </p:spPr>
      </p:pic>
      <p:sp>
        <p:nvSpPr>
          <p:cNvPr id="90" name="Oval 5"/>
          <p:cNvSpPr/>
          <p:nvPr/>
        </p:nvSpPr>
        <p:spPr>
          <a:xfrm>
            <a:off x="4800600" y="2400480"/>
            <a:ext cx="1455840" cy="263520"/>
          </a:xfrm>
          <a:prstGeom prst="ellipse">
            <a:avLst/>
          </a:prstGeom>
          <a:noFill/>
          <a:ln w="25560">
            <a:solidFill>
              <a:srgbClr val="f6f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6680160" y="2276640"/>
            <a:ext cx="2006640" cy="510840"/>
          </a:xfrm>
          <a:prstGeom prst="rect">
            <a:avLst/>
          </a:prstGeom>
          <a:ln w="0">
            <a:noFill/>
          </a:ln>
        </p:spPr>
      </p:pic>
      <p:sp>
        <p:nvSpPr>
          <p:cNvPr id="92" name="Oval 10"/>
          <p:cNvSpPr/>
          <p:nvPr/>
        </p:nvSpPr>
        <p:spPr>
          <a:xfrm>
            <a:off x="2819520" y="3276720"/>
            <a:ext cx="914400" cy="761760"/>
          </a:xfrm>
          <a:prstGeom prst="ellipse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4"/>
          <a:stretch/>
        </p:blipFill>
        <p:spPr>
          <a:xfrm>
            <a:off x="7275600" y="5029200"/>
            <a:ext cx="815760" cy="258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94" name="TextBox 12"/>
          <p:cNvSpPr/>
          <p:nvPr/>
        </p:nvSpPr>
        <p:spPr>
          <a:xfrm>
            <a:off x="6867000" y="456732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Single) pho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4200" y="25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requirements/com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06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liable) Single photo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multiphoton emission compromises security by giving Eve more chances to evade detection (both Eve’s detectors click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nows basis wrong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uated single-freq laser: photon Poisson distr, subject to multi-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-demand” single photon sour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urrent research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821640" y="3505320"/>
            <a:ext cx="2017440" cy="1436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133720" y="4114800"/>
            <a:ext cx="3771720" cy="619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7620120" y="4006800"/>
            <a:ext cx="1100160" cy="21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8218440" y="4222800"/>
            <a:ext cx="33336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833400" y="1476360"/>
            <a:ext cx="74772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1181160" y="1676520"/>
            <a:ext cx="6781680" cy="4802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76320" y="689040"/>
            <a:ext cx="231444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demand single-photon sou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photon gu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6942240" cy="21988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164520" y="198612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ample (optical trig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2654280" cy="56754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4163760" y="388620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&gt;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bunching == sub-poissoni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4025880" y="1617840"/>
            <a:ext cx="3902040" cy="7095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3914640" y="115560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olid stat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3"/>
          <a:stretch/>
        </p:blipFill>
        <p:spPr>
          <a:xfrm>
            <a:off x="6770520" y="2378160"/>
            <a:ext cx="231624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chen</cp:lastModifiedBy>
  <cp:lastPrinted>2006-01-11T03:05:51Z</cp:lastPrinted>
  <dcterms:modified xsi:type="dcterms:W3CDTF">2016-04-18T13:57:09Z</dcterms:modified>
  <cp:revision>690</cp:revision>
  <dc:subject>Physics 272H, Spring 2007</dc:subject>
  <dc:title>Lecture 2</dc:title>
</cp:coreProperties>
</file>