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wmf" ContentType="image/x-wmf"/>
  <Override PartName="/ppt/media/image47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85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84.png" ContentType="image/png"/>
  <Override PartName="/ppt/media/image49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29.png" ContentType="image/png"/>
  <Override PartName="/ppt/media/image9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73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56.wmf" ContentType="image/x-wmf"/>
  <Override PartName="/ppt/media/image69.png" ContentType="image/png"/>
  <Override PartName="/ppt/media/image32.png" ContentType="image/png"/>
  <Override PartName="/ppt/media/image71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38.jpeg" ContentType="image/jpeg"/>
  <Override PartName="/ppt/media/image72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3DE-F588-4859-8C7E-E58D3C6F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907-D078-494B-8099-8418D0F4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F30-F658-4940-BA17-D47F3FD5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9AD-A67D-4653-B81C-BC734C10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CEC-56DE-400A-8993-57B74B30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1C8-A1EE-475A-967B-85257BA1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BAA-6701-44D2-B264-0BD45213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17F-0DE4-47CF-B28E-AC5D5A73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6E0-FE94-471A-8109-9485CD94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58D-7B38-4025-AC15-695601CD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9EC-8856-4B09-AF57-B9F16A42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2C9-FA0A-4839-B5A6-7253A2A2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F4B8-1407-4174-9E63-BD752E75DD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1ADB-A850-447B-B4D4-C6667C12A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81761823-9F3D-4B13-A22B-83C6CFA62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48.wmf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wm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0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7644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uperpoissoni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“Chaotic” (partially coherent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7372080" cy="23432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46440" y="5484960"/>
            <a:ext cx="461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asurement time T (smaller) vs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poissonian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619440" cy="4610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4572000"/>
            <a:ext cx="2562120" cy="34308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"/>
          <p:cNvGrpSpPr/>
          <p:nvPr/>
        </p:nvGrpSpPr>
        <p:grpSpPr>
          <a:xfrm>
            <a:off x="4572000" y="1433520"/>
            <a:ext cx="3990960" cy="4909680"/>
            <a:chOff x="4572000" y="1433520"/>
            <a:chExt cx="3990960" cy="4909680"/>
          </a:xfrm>
        </p:grpSpPr>
        <p:pic>
          <p:nvPicPr>
            <p:cNvPr id="154" name="Picture 2" descr=""/>
            <p:cNvPicPr/>
            <p:nvPr/>
          </p:nvPicPr>
          <p:blipFill>
            <a:blip r:embed="rId3"/>
            <a:stretch/>
          </p:blipFill>
          <p:spPr>
            <a:xfrm>
              <a:off x="4572000" y="1433520"/>
              <a:ext cx="39909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4"/>
            <p:cNvSpPr/>
            <p:nvPr/>
          </p:nvSpPr>
          <p:spPr>
            <a:xfrm>
              <a:off x="4807800" y="5334480"/>
              <a:ext cx="353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ut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any (random) loss w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andomize the phot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det. Subpoissonian challeng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todetectors (experimental &amp; the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quantum optics/phot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hotodetection process: Quantum light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ntum response of photodet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common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conductor &amp; photo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hoton/counting detector: PMT &amp; A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of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lassical theory (Poi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/quantum noise, fan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74600" y="6032520"/>
            <a:ext cx="41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’Chap 3.7; FQ Chap 5.8-5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views on Photo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28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tter, R.A.; Wilson, D.M. “A Review of Photodetectors for Sensing Light-Emitting Reporters in Biological Systems”, IEEE SENSORS JOURNAL, 3,288,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rizan and Samo Korpar, “Photodetectors in Particle Physics Experiments”, Annu. Rev. Nucl. Part. Sci. 2013. 63:329–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hi et al. “Nanowire Photodetectors”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 Nanosci Nanotechnol. 2010 Mar;10(3):1430-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oo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H.Rieke, Detection of Light (2ed. 2003) --- astro ap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 Knoll, ‘Radiation detection and measurement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cholas Tsoulfanidis,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AND DETECTION OF RADI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, 3-ed 2010  [onlin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p. higher energy radiation/pho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7238880" y="4343400"/>
            <a:ext cx="2187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8734320" cy="42195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457200" y="528624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tter, R.A.; Wilson, D.M. “A Review of Photodetectors for Sensing Light-Emitting Reporters in Biological Systems”, IEEE SENSORS JOURNAL, 3,288, (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y of Photodetection (semiclasic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-30240" y="1312920"/>
            <a:ext cx="4362480" cy="180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332240" y="1523880"/>
            <a:ext cx="4811760" cy="1384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152280" y="3179880"/>
            <a:ext cx="265752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4"/>
          <a:stretch/>
        </p:blipFill>
        <p:spPr>
          <a:xfrm>
            <a:off x="95400" y="3560760"/>
            <a:ext cx="4572000" cy="384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5"/>
          <a:stretch/>
        </p:blipFill>
        <p:spPr>
          <a:xfrm>
            <a:off x="95400" y="3944880"/>
            <a:ext cx="4572000" cy="52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6"/>
          <a:stretch/>
        </p:blipFill>
        <p:spPr>
          <a:xfrm>
            <a:off x="4935600" y="3179880"/>
            <a:ext cx="4205160" cy="217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7"/>
          <a:stretch/>
        </p:blipFill>
        <p:spPr>
          <a:xfrm>
            <a:off x="187200" y="5356080"/>
            <a:ext cx="4145040" cy="11336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73" name="TextBox 3"/>
          <p:cNvSpPr/>
          <p:nvPr/>
        </p:nvSpPr>
        <p:spPr>
          <a:xfrm>
            <a:off x="194040" y="495144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If I(t)=I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4531680" y="569124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If I(t) fluctuating, superpoisso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y of Photodetection (quant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52280" y="1433520"/>
            <a:ext cx="3990960" cy="4909680"/>
            <a:chOff x="152280" y="1433520"/>
            <a:chExt cx="3990960" cy="4909680"/>
          </a:xfrm>
        </p:grpSpPr>
        <p:pic>
          <p:nvPicPr>
            <p:cNvPr id="177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1433520"/>
              <a:ext cx="39909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5"/>
            <p:cNvSpPr/>
            <p:nvPr/>
          </p:nvSpPr>
          <p:spPr>
            <a:xfrm>
              <a:off x="388080" y="5334480"/>
              <a:ext cx="353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ut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any (random) loss w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andomize the phot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det. Subpoissonian challeng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4724280" y="1433520"/>
            <a:ext cx="3381480" cy="6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3929040" y="2522520"/>
            <a:ext cx="5119560" cy="2324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5459040" y="53341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ey: high Q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ise in Photodi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7182000" cy="90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0" y="2505240"/>
            <a:ext cx="4057560" cy="36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0" y="3230640"/>
            <a:ext cx="5105520" cy="1655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4"/>
          <a:stretch/>
        </p:blipFill>
        <p:spPr>
          <a:xfrm>
            <a:off x="5904000" y="2644920"/>
            <a:ext cx="3209760" cy="2781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5"/>
          <a:stretch/>
        </p:blipFill>
        <p:spPr>
          <a:xfrm>
            <a:off x="304920" y="5083200"/>
            <a:ext cx="1971720" cy="342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6"/>
          <a:stretch/>
        </p:blipFill>
        <p:spPr>
          <a:xfrm>
            <a:off x="210960" y="5638680"/>
            <a:ext cx="2343240" cy="381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7"/>
          <a:stretch/>
        </p:blipFill>
        <p:spPr>
          <a:xfrm>
            <a:off x="3048120" y="5383080"/>
            <a:ext cx="373356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ot Noise (“quantum noise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57760" y="1366920"/>
            <a:ext cx="5286240" cy="123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76320" y="1270080"/>
            <a:ext cx="3450960" cy="3332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3735360" y="2743200"/>
            <a:ext cx="5372280" cy="74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2279520" y="4751280"/>
            <a:ext cx="2694240" cy="178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5"/>
          <a:stretch/>
        </p:blipFill>
        <p:spPr>
          <a:xfrm>
            <a:off x="138240" y="4902120"/>
            <a:ext cx="2111400" cy="1489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6"/>
          <a:stretch/>
        </p:blipFill>
        <p:spPr>
          <a:xfrm>
            <a:off x="4800600" y="3587760"/>
            <a:ext cx="2392200" cy="2855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7"/>
          <a:stretch/>
        </p:blipFill>
        <p:spPr>
          <a:xfrm>
            <a:off x="7192800" y="4248000"/>
            <a:ext cx="19148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5840" y="762120"/>
            <a:ext cx="7162920" cy="2228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-47520" y="2990880"/>
            <a:ext cx="7210440" cy="56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368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Optics of Ph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94320" y="14540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36840" y="1419120"/>
            <a:ext cx="7576920" cy="1752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590920" y="3387600"/>
            <a:ext cx="4181400" cy="22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Box 4"/>
          <p:cNvSpPr/>
          <p:nvPr/>
        </p:nvSpPr>
        <p:spPr>
          <a:xfrm>
            <a:off x="1824120" y="603900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ap 7-8: coherent, squeezed, &amp;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6796800" y="51372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0" y="4697280"/>
            <a:ext cx="1817640" cy="180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4"/>
          <a:stretch/>
        </p:blipFill>
        <p:spPr>
          <a:xfrm>
            <a:off x="6846840" y="3546360"/>
            <a:ext cx="18925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lassical)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2363760"/>
            <a:ext cx="6781680" cy="3193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664560" y="1871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so: feed-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6781680" y="1825560"/>
            <a:ext cx="2332080" cy="2021040"/>
          </a:xfrm>
          <a:prstGeom prst="rect">
            <a:avLst/>
          </a:prstGeom>
          <a:ln w="0">
            <a:noFill/>
          </a:ln>
        </p:spPr>
      </p:pic>
      <p:sp>
        <p:nvSpPr>
          <p:cNvPr id="206" name="Oval 4"/>
          <p:cNvSpPr/>
          <p:nvPr/>
        </p:nvSpPr>
        <p:spPr>
          <a:xfrm>
            <a:off x="7772400" y="2644920"/>
            <a:ext cx="1066680" cy="3808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8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Observation of quantum nature of ligh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-poissonia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038320"/>
            <a:ext cx="6324480" cy="704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4606920" cy="3552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203640" cy="29304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2082240" y="1644480"/>
            <a:ext cx="52189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Use sub-poissonia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s to gernerate SubP-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002040" y="3276720"/>
            <a:ext cx="26668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Sub-poiss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counting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-30240" y="1035000"/>
            <a:ext cx="5978520" cy="4200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3"/>
          <a:stretch/>
        </p:blipFill>
        <p:spPr>
          <a:xfrm>
            <a:off x="4788000" y="4724280"/>
            <a:ext cx="4386240" cy="1800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948280" y="1976400"/>
            <a:ext cx="2667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Sub-shot noise photo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840" y="1189080"/>
            <a:ext cx="2671920" cy="4449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94320" y="1189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687760" y="1407960"/>
            <a:ext cx="6426000" cy="148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3086280" y="3998880"/>
            <a:ext cx="4714560" cy="16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5607000" y="5727600"/>
            <a:ext cx="3333960" cy="685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2295360" y="5608800"/>
            <a:ext cx="29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ingle photon detect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MT (photomultiplier tub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PD (avalanche photodi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581280" y="3276720"/>
            <a:ext cx="4981680" cy="59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6"/>
          <a:stretch/>
        </p:blipFill>
        <p:spPr>
          <a:xfrm>
            <a:off x="3762360" y="3092400"/>
            <a:ext cx="37814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photons (detected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1543320" cy="33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0" y="2133720"/>
            <a:ext cx="2819520" cy="60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19080" y="2733840"/>
            <a:ext cx="3029040" cy="20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4191120" y="1455840"/>
            <a:ext cx="4570200" cy="19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5"/>
          <a:stretch/>
        </p:blipFill>
        <p:spPr>
          <a:xfrm>
            <a:off x="49320" y="3581280"/>
            <a:ext cx="2800080" cy="154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505320" y="4460760"/>
            <a:ext cx="4486320" cy="61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herent Light: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oisson Photon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5840" y="1523880"/>
            <a:ext cx="4572000" cy="704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0" y="2395440"/>
            <a:ext cx="3733920" cy="19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840" y="2819520"/>
            <a:ext cx="981000" cy="27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0" y="3276720"/>
            <a:ext cx="2895480" cy="53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46080" y="3900600"/>
            <a:ext cx="300204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50760" y="4416480"/>
            <a:ext cx="946080" cy="338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66600" y="4976640"/>
            <a:ext cx="4902120" cy="749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46080" y="5943600"/>
            <a:ext cx="1952640" cy="48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1739880" y="6105600"/>
            <a:ext cx="5619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2857680" y="5989680"/>
            <a:ext cx="1143000" cy="32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2" descr=""/>
          <p:cNvPicPr/>
          <p:nvPr/>
        </p:nvPicPr>
        <p:blipFill>
          <a:blip r:embed="rId11"/>
          <a:stretch/>
        </p:blipFill>
        <p:spPr>
          <a:xfrm>
            <a:off x="4800600" y="1595520"/>
            <a:ext cx="4433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5840" y="1676520"/>
            <a:ext cx="7257960" cy="142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840" y="3395520"/>
            <a:ext cx="647712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of Light by Phot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0240" y="1523880"/>
            <a:ext cx="3255840" cy="3729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068720" y="3781440"/>
            <a:ext cx="4476960" cy="1095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038480" y="3781440"/>
            <a:ext cx="4324320" cy="409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60800" y="3319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Nonclassical 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2476440" y="5105520"/>
            <a:ext cx="659124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poissonian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304640" cy="495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32760" y="129384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) Thermal Light  (black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5560" y="5791320"/>
            <a:ext cx="4286160" cy="6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5" descr="http://astrocosmosci.files.wordpress.com/2012/07/black-body-graph.jpg"/>
          <p:cNvPicPr/>
          <p:nvPr/>
        </p:nvPicPr>
        <p:blipFill>
          <a:blip r:embed="rId3"/>
          <a:stretch/>
        </p:blipFill>
        <p:spPr>
          <a:xfrm>
            <a:off x="5915160" y="1195560"/>
            <a:ext cx="3000240" cy="279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www.tf.uni-kiel.de/matwis/amat/semi_en/kap_5/illustr/planck_radiation.gif"/>
          <p:cNvPicPr/>
          <p:nvPr/>
        </p:nvPicPr>
        <p:blipFill>
          <a:blip r:embed="rId4"/>
          <a:stretch/>
        </p:blipFill>
        <p:spPr>
          <a:xfrm>
            <a:off x="5234040" y="3962520"/>
            <a:ext cx="3886200" cy="2589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25560" y="1811160"/>
            <a:ext cx="3555720" cy="1617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16"/>
          <p:cNvGraphicFramePr/>
          <p:nvPr/>
        </p:nvGraphicFramePr>
        <p:xfrm>
          <a:off x="258840" y="2057400"/>
          <a:ext cx="12175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840" y="2057400"/>
                    <a:ext cx="1217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7"/>
          <p:cNvGraphicFramePr/>
          <p:nvPr/>
        </p:nvGraphicFramePr>
        <p:xfrm>
          <a:off x="228600" y="2438280"/>
          <a:ext cx="18144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38280"/>
                    <a:ext cx="1814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8"/>
          <p:cNvGraphicFramePr/>
          <p:nvPr/>
        </p:nvGraphicFramePr>
        <p:xfrm>
          <a:off x="228600" y="3048120"/>
          <a:ext cx="96048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3048120"/>
                    <a:ext cx="960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19"/>
          <p:cNvGraphicFramePr/>
          <p:nvPr/>
        </p:nvGraphicFramePr>
        <p:xfrm>
          <a:off x="2133720" y="2971800"/>
          <a:ext cx="1430280" cy="38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2971800"/>
                    <a:ext cx="14302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20"/>
          <p:cNvSpPr/>
          <p:nvPr/>
        </p:nvSpPr>
        <p:spPr>
          <a:xfrm>
            <a:off x="36720" y="18111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 (Rayleigh-Je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25560" y="3581280"/>
            <a:ext cx="4775040" cy="1417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20160" y="3583080"/>
            <a:ext cx="20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ck (quantu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27"/>
          <p:cNvGraphicFramePr/>
          <p:nvPr/>
        </p:nvGraphicFramePr>
        <p:xfrm>
          <a:off x="228600" y="3998880"/>
          <a:ext cx="1495440" cy="298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3998880"/>
                    <a:ext cx="14954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8"/>
          <p:cNvGraphicFramePr/>
          <p:nvPr/>
        </p:nvGraphicFramePr>
        <p:xfrm>
          <a:off x="2235240" y="3983040"/>
          <a:ext cx="249876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0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35240" y="3983040"/>
                    <a:ext cx="2498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29"/>
          <p:cNvGraphicFramePr/>
          <p:nvPr/>
        </p:nvGraphicFramePr>
        <p:xfrm>
          <a:off x="152280" y="4240080"/>
          <a:ext cx="1471680" cy="660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2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4240080"/>
                    <a:ext cx="14716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21"/>
          <p:cNvGraphicFramePr/>
          <p:nvPr/>
        </p:nvGraphicFramePr>
        <p:xfrm>
          <a:off x="3979800" y="2181240"/>
          <a:ext cx="1730520" cy="106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4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79800" y="2181240"/>
                    <a:ext cx="17305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2"/>
          <p:cNvGraphicFramePr/>
          <p:nvPr/>
        </p:nvGraphicFramePr>
        <p:xfrm>
          <a:off x="1814400" y="5256360"/>
          <a:ext cx="1065240" cy="38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6" name="Object 2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14400" y="5256360"/>
                    <a:ext cx="1065240" cy="382320"/>
                  </a:xfrm>
                  <a:prstGeom prst="rect">
                    <a:avLst/>
                  </a:prstGeom>
                  <a:ln w="9360">
                    <a:solidFill>
                      <a:srgbClr val="ffc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1600200"/>
            <a:ext cx="3191040" cy="838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12240" y="94284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ocus on one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000520" cy="2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3821040" y="1306440"/>
            <a:ext cx="4915080" cy="9432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5"/>
          <p:cNvGrpSpPr/>
          <p:nvPr/>
        </p:nvGrpSpPr>
        <p:grpSpPr>
          <a:xfrm>
            <a:off x="304920" y="3301920"/>
            <a:ext cx="4992480" cy="743040"/>
            <a:chOff x="304920" y="3301920"/>
            <a:chExt cx="4992480" cy="743040"/>
          </a:xfrm>
        </p:grpSpPr>
        <p:pic>
          <p:nvPicPr>
            <p:cNvPr id="132" name="Picture 4" descr=""/>
            <p:cNvPicPr/>
            <p:nvPr/>
          </p:nvPicPr>
          <p:blipFill>
            <a:blip r:embed="rId4"/>
            <a:stretch/>
          </p:blipFill>
          <p:spPr>
            <a:xfrm>
              <a:off x="304920" y="3301920"/>
              <a:ext cx="19047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"/>
            <p:cNvPicPr/>
            <p:nvPr/>
          </p:nvPicPr>
          <p:blipFill>
            <a:blip r:embed="rId5"/>
            <a:stretch/>
          </p:blipFill>
          <p:spPr>
            <a:xfrm>
              <a:off x="2144880" y="3387600"/>
              <a:ext cx="100008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" descr=""/>
            <p:cNvPicPr/>
            <p:nvPr/>
          </p:nvPicPr>
          <p:blipFill>
            <a:blip r:embed="rId6"/>
            <a:stretch/>
          </p:blipFill>
          <p:spPr>
            <a:xfrm>
              <a:off x="3144960" y="3368520"/>
              <a:ext cx="21524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Rectangle 6"/>
          <p:cNvSpPr/>
          <p:nvPr/>
        </p:nvSpPr>
        <p:spPr>
          <a:xfrm>
            <a:off x="304920" y="3200400"/>
            <a:ext cx="509580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7"/>
          <a:stretch/>
        </p:blipFill>
        <p:spPr>
          <a:xfrm>
            <a:off x="4572000" y="2314440"/>
            <a:ext cx="1971720" cy="66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3821040" y="1152360"/>
            <a:ext cx="4915080" cy="18288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8"/>
          <a:stretch/>
        </p:blipFill>
        <p:spPr>
          <a:xfrm>
            <a:off x="4549680" y="838080"/>
            <a:ext cx="3191040" cy="31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9"/>
          <a:stretch/>
        </p:blipFill>
        <p:spPr>
          <a:xfrm>
            <a:off x="5959440" y="3060720"/>
            <a:ext cx="3130560" cy="3287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10"/>
          <a:stretch/>
        </p:blipFill>
        <p:spPr>
          <a:xfrm>
            <a:off x="1184400" y="4297320"/>
            <a:ext cx="2636640" cy="6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41" name="Straight Arrow Connector 9"/>
          <p:cNvCxnSpPr/>
          <p:nvPr/>
        </p:nvCxnSpPr>
        <p:spPr>
          <a:xfrm flipV="1">
            <a:off x="2468520" y="4799880"/>
            <a:ext cx="254880" cy="191160"/>
          </a:xfrm>
          <a:prstGeom prst="straightConnector1">
            <a:avLst/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2" name="Straight Arrow Connector 11"/>
          <p:cNvCxnSpPr/>
          <p:nvPr/>
        </p:nvCxnSpPr>
        <p:spPr>
          <a:xfrm flipH="1" flipV="1">
            <a:off x="3428280" y="4800240"/>
            <a:ext cx="392760" cy="381600"/>
          </a:xfrm>
          <a:prstGeom prst="straightConnector1">
            <a:avLst/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3" name="TextBox 13"/>
          <p:cNvSpPr/>
          <p:nvPr/>
        </p:nvSpPr>
        <p:spPr>
          <a:xfrm>
            <a:off x="1528920" y="49356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rticle (Pho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3"/>
          <p:cNvSpPr/>
          <p:nvPr/>
        </p:nvSpPr>
        <p:spPr>
          <a:xfrm>
            <a:off x="3794400" y="5106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 nois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1"/>
          <a:stretch/>
        </p:blipFill>
        <p:spPr>
          <a:xfrm>
            <a:off x="152280" y="5581800"/>
            <a:ext cx="4633920" cy="9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07T13:01:20Z</dcterms:modified>
  <cp:revision>658</cp:revision>
  <dc:subject>Physics 272H, Spring 2007</dc:subject>
  <dc:title>Lecture 2</dc:title>
</cp:coreProperties>
</file>