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9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56.wmf" ContentType="image/x-wmf"/>
  <Override PartName="/ppt/media/image69.png" ContentType="image/png"/>
  <Override PartName="/ppt/media/image32.png" ContentType="image/png"/>
  <Override PartName="/ppt/media/image71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72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FB2-C6E2-44C7-9916-1985E993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28F-3308-47FF-981F-245EC705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99B-F79A-4ABA-9E9E-6C31C3AA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7B2-DCA2-41F7-B81C-2618E57E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D04-5FFB-488E-BCB8-47D1C244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C9F-8675-4325-BE9D-1977E24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825-C7ED-4D65-AE4C-8F18FC18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09C-4639-472E-B2D1-BC555C3E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9AC-DF5F-4AF9-BC8F-4ADDB94A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8CF-4583-4243-B697-1D66FF2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C36-EB43-4146-954F-7C6F9E7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598-950A-4A49-9DF6-14EA091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4E9E-5F0F-4F0F-959B-4382526B44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C0BC-7FF7-4137-ADF3-D4B0F175F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4EF57942-0DBF-4C18-A04D-01AACB6B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0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7644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perpoisson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“Chaotic” (partially coherent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7372080" cy="2343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440" y="5484960"/>
            <a:ext cx="461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time T (smaller) vs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619440" cy="4610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4572000"/>
            <a:ext cx="2562120" cy="3430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4572000" y="1433520"/>
            <a:ext cx="3990960" cy="4909680"/>
            <a:chOff x="4572000" y="1433520"/>
            <a:chExt cx="3990960" cy="4909680"/>
          </a:xfrm>
        </p:grpSpPr>
        <p:pic>
          <p:nvPicPr>
            <p:cNvPr id="154" name="Picture 2" descr=""/>
            <p:cNvPicPr/>
            <p:nvPr/>
          </p:nvPicPr>
          <p:blipFill>
            <a:blip r:embed="rId3"/>
            <a:stretch/>
          </p:blipFill>
          <p:spPr>
            <a:xfrm>
              <a:off x="457200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4"/>
            <p:cNvSpPr/>
            <p:nvPr/>
          </p:nvSpPr>
          <p:spPr>
            <a:xfrm>
              <a:off x="480780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experimental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74600" y="603252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semiclas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-30240" y="1312920"/>
            <a:ext cx="4362480" cy="18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332240" y="1523880"/>
            <a:ext cx="4811760" cy="138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152280" y="3179880"/>
            <a:ext cx="26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95400" y="3560760"/>
            <a:ext cx="4572000" cy="3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5"/>
          <a:stretch/>
        </p:blipFill>
        <p:spPr>
          <a:xfrm>
            <a:off x="95400" y="3944880"/>
            <a:ext cx="457200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6"/>
          <a:stretch/>
        </p:blipFill>
        <p:spPr>
          <a:xfrm>
            <a:off x="4935600" y="3179880"/>
            <a:ext cx="4205160" cy="217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7"/>
          <a:stretch/>
        </p:blipFill>
        <p:spPr>
          <a:xfrm>
            <a:off x="187200" y="5356080"/>
            <a:ext cx="4145040" cy="1133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73" name="TextBox 3"/>
          <p:cNvSpPr/>
          <p:nvPr/>
        </p:nvSpPr>
        <p:spPr>
          <a:xfrm>
            <a:off x="194040" y="495144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If I(t)=I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4531680" y="56912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If I(t) fluctuating, superpoiss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quant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52280" y="1433520"/>
            <a:ext cx="3990960" cy="4909680"/>
            <a:chOff x="152280" y="1433520"/>
            <a:chExt cx="3990960" cy="490968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38808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724280" y="1433520"/>
            <a:ext cx="3381480" cy="6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3929040" y="2522520"/>
            <a:ext cx="5119560" cy="2324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5459040" y="53341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ey: high Q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ise in Photodi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7182000" cy="90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0" y="2505240"/>
            <a:ext cx="4057560" cy="3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230640"/>
            <a:ext cx="5105520" cy="165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tretch/>
        </p:blipFill>
        <p:spPr>
          <a:xfrm>
            <a:off x="5904000" y="2644920"/>
            <a:ext cx="3209760" cy="2781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304920" y="5083200"/>
            <a:ext cx="1971720" cy="34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6"/>
          <a:stretch/>
        </p:blipFill>
        <p:spPr>
          <a:xfrm>
            <a:off x="210960" y="5638680"/>
            <a:ext cx="234324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7"/>
          <a:stretch/>
        </p:blipFill>
        <p:spPr>
          <a:xfrm>
            <a:off x="3048120" y="5383080"/>
            <a:ext cx="373356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ot Noise (“quantum noise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57760" y="1366920"/>
            <a:ext cx="5286240" cy="123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6320" y="1270080"/>
            <a:ext cx="3450960" cy="333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3735360" y="2743200"/>
            <a:ext cx="5372280" cy="7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2279520" y="4751280"/>
            <a:ext cx="2694240" cy="178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5"/>
          <a:stretch/>
        </p:blipFill>
        <p:spPr>
          <a:xfrm>
            <a:off x="138240" y="4902120"/>
            <a:ext cx="2111400" cy="148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6"/>
          <a:stretch/>
        </p:blipFill>
        <p:spPr>
          <a:xfrm>
            <a:off x="4800600" y="3587760"/>
            <a:ext cx="2392200" cy="285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7"/>
          <a:stretch/>
        </p:blipFill>
        <p:spPr>
          <a:xfrm>
            <a:off x="7192800" y="4248000"/>
            <a:ext cx="19148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840" y="762120"/>
            <a:ext cx="7162920" cy="2228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-47520" y="2990880"/>
            <a:ext cx="721044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368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Optics of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94320" y="1454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36840" y="1419120"/>
            <a:ext cx="7576920" cy="17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590920" y="3387600"/>
            <a:ext cx="4181400" cy="22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4"/>
          <p:cNvSpPr/>
          <p:nvPr/>
        </p:nvSpPr>
        <p:spPr>
          <a:xfrm>
            <a:off x="1824120" y="603900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p 7-8: coherent, squeezed, &amp;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796800" y="5137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4697280"/>
            <a:ext cx="1817640" cy="180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>
            <a:off x="6846840" y="3546360"/>
            <a:ext cx="1892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assical)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2363760"/>
            <a:ext cx="6781680" cy="3193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664560" y="1871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781680" y="1825560"/>
            <a:ext cx="2332080" cy="20210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>
            <a:off x="7772400" y="2644920"/>
            <a:ext cx="106668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8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Observation of quantum nature of ligh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-poissonia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038320"/>
            <a:ext cx="6324480" cy="70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606920" cy="3552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203640" cy="2930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2082240" y="1644480"/>
            <a:ext cx="5218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se sub-poissoni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s to gernerate SubP-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002040" y="3276720"/>
            <a:ext cx="26668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poiss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counting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-30240" y="1035000"/>
            <a:ext cx="5978520" cy="4200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4788000" y="4724280"/>
            <a:ext cx="4386240" cy="1800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948280" y="1976400"/>
            <a:ext cx="2667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shot noise photo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840" y="1189080"/>
            <a:ext cx="2671920" cy="4449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94320" y="1189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687760" y="1407960"/>
            <a:ext cx="6426000" cy="148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3086280" y="3998880"/>
            <a:ext cx="4714560" cy="16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5607000" y="5727600"/>
            <a:ext cx="333396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295360" y="5608800"/>
            <a:ext cx="29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photon det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MT (photomultiplier tu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PD (avalanche photodi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4981680" cy="59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3762360" y="3092400"/>
            <a:ext cx="3781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photons (detecte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15433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6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19080" y="2733840"/>
            <a:ext cx="3029040" cy="20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4191120" y="1455840"/>
            <a:ext cx="4570200" cy="19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49320" y="3581280"/>
            <a:ext cx="2800080" cy="154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505320" y="4460760"/>
            <a:ext cx="4486320" cy="6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herent Light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isson Photon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840" y="1523880"/>
            <a:ext cx="4572000" cy="70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2395440"/>
            <a:ext cx="3733920" cy="19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840" y="2819520"/>
            <a:ext cx="981000" cy="27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3276720"/>
            <a:ext cx="2895480" cy="53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46080" y="3900600"/>
            <a:ext cx="300204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50760" y="4416480"/>
            <a:ext cx="946080" cy="33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6600" y="4976640"/>
            <a:ext cx="4902120" cy="749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46080" y="5943600"/>
            <a:ext cx="1952640" cy="48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1739880" y="6105600"/>
            <a:ext cx="561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2857680" y="5989680"/>
            <a:ext cx="1143000" cy="32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"/>
          <p:cNvPicPr/>
          <p:nvPr/>
        </p:nvPicPr>
        <p:blipFill>
          <a:blip r:embed="rId11"/>
          <a:stretch/>
        </p:blipFill>
        <p:spPr>
          <a:xfrm>
            <a:off x="4800600" y="1595520"/>
            <a:ext cx="4433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5840" y="1676520"/>
            <a:ext cx="725796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840" y="3395520"/>
            <a:ext cx="64771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of Light by 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240" y="1523880"/>
            <a:ext cx="3255840" cy="372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068720" y="3781440"/>
            <a:ext cx="4476960" cy="1095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038480" y="3781440"/>
            <a:ext cx="4324320" cy="409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60800" y="3319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Nonclassical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476440" y="5105520"/>
            <a:ext cx="659124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304640" cy="495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32760" y="129384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Thermal Light  (black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5560" y="5791320"/>
            <a:ext cx="428616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5" descr="http://astrocosmosci.files.wordpress.com/2012/07/black-body-graph.jpg"/>
          <p:cNvPicPr/>
          <p:nvPr/>
        </p:nvPicPr>
        <p:blipFill>
          <a:blip r:embed="rId3"/>
          <a:stretch/>
        </p:blipFill>
        <p:spPr>
          <a:xfrm>
            <a:off x="5915160" y="1195560"/>
            <a:ext cx="3000240" cy="279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tf.uni-kiel.de/matwis/amat/semi_en/kap_5/illustr/planck_radiation.gif"/>
          <p:cNvPicPr/>
          <p:nvPr/>
        </p:nvPicPr>
        <p:blipFill>
          <a:blip r:embed="rId4"/>
          <a:stretch/>
        </p:blipFill>
        <p:spPr>
          <a:xfrm>
            <a:off x="5234040" y="3962520"/>
            <a:ext cx="3886200" cy="25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5560" y="1811160"/>
            <a:ext cx="3555720" cy="1617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16"/>
          <p:cNvGraphicFramePr/>
          <p:nvPr/>
        </p:nvGraphicFramePr>
        <p:xfrm>
          <a:off x="258840" y="2057400"/>
          <a:ext cx="12175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840" y="2057400"/>
                    <a:ext cx="1217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228600" y="2438280"/>
          <a:ext cx="1814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38280"/>
                    <a:ext cx="1814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228600" y="3048120"/>
          <a:ext cx="96048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3048120"/>
                    <a:ext cx="96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19"/>
          <p:cNvGraphicFramePr/>
          <p:nvPr/>
        </p:nvGraphicFramePr>
        <p:xfrm>
          <a:off x="2133720" y="2971800"/>
          <a:ext cx="143028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2971800"/>
                    <a:ext cx="14302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20"/>
          <p:cNvSpPr/>
          <p:nvPr/>
        </p:nvSpPr>
        <p:spPr>
          <a:xfrm>
            <a:off x="36720" y="1811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(Rayleigh-J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5560" y="3581280"/>
            <a:ext cx="4775040" cy="1417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20160" y="358308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ck (quantu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27"/>
          <p:cNvGraphicFramePr/>
          <p:nvPr/>
        </p:nvGraphicFramePr>
        <p:xfrm>
          <a:off x="228600" y="3998880"/>
          <a:ext cx="1495440" cy="29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3998880"/>
                    <a:ext cx="1495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8"/>
          <p:cNvGraphicFramePr/>
          <p:nvPr/>
        </p:nvGraphicFramePr>
        <p:xfrm>
          <a:off x="2235240" y="3983040"/>
          <a:ext cx="249876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5240" y="3983040"/>
                    <a:ext cx="2498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9"/>
          <p:cNvGraphicFramePr/>
          <p:nvPr/>
        </p:nvGraphicFramePr>
        <p:xfrm>
          <a:off x="152280" y="4240080"/>
          <a:ext cx="1471680" cy="66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4240080"/>
                    <a:ext cx="14716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1"/>
          <p:cNvGraphicFramePr/>
          <p:nvPr/>
        </p:nvGraphicFramePr>
        <p:xfrm>
          <a:off x="3979800" y="2181240"/>
          <a:ext cx="1730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79800" y="2181240"/>
                    <a:ext cx="1730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2"/>
          <p:cNvGraphicFramePr/>
          <p:nvPr/>
        </p:nvGraphicFramePr>
        <p:xfrm>
          <a:off x="1814400" y="5256360"/>
          <a:ext cx="1065240" cy="38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14400" y="5256360"/>
                    <a:ext cx="1065240" cy="382320"/>
                  </a:xfrm>
                  <a:prstGeom prst="rect">
                    <a:avLst/>
                  </a:prstGeom>
                  <a:ln w="9360">
                    <a:solidFill>
                      <a:srgbClr val="ffc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1600200"/>
            <a:ext cx="319104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12240" y="9428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ocus on one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00052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821040" y="1306440"/>
            <a:ext cx="4915080" cy="943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5"/>
          <p:cNvGrpSpPr/>
          <p:nvPr/>
        </p:nvGrpSpPr>
        <p:grpSpPr>
          <a:xfrm>
            <a:off x="304920" y="3301920"/>
            <a:ext cx="4992480" cy="743040"/>
            <a:chOff x="304920" y="3301920"/>
            <a:chExt cx="4992480" cy="743040"/>
          </a:xfrm>
        </p:grpSpPr>
        <p:pic>
          <p:nvPicPr>
            <p:cNvPr id="132" name="Picture 4" descr=""/>
            <p:cNvPicPr/>
            <p:nvPr/>
          </p:nvPicPr>
          <p:blipFill>
            <a:blip r:embed="rId4"/>
            <a:stretch/>
          </p:blipFill>
          <p:spPr>
            <a:xfrm>
              <a:off x="304920" y="3301920"/>
              <a:ext cx="19047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5"/>
            <a:stretch/>
          </p:blipFill>
          <p:spPr>
            <a:xfrm>
              <a:off x="2144880" y="3387600"/>
              <a:ext cx="10000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" descr=""/>
            <p:cNvPicPr/>
            <p:nvPr/>
          </p:nvPicPr>
          <p:blipFill>
            <a:blip r:embed="rId6"/>
            <a:stretch/>
          </p:blipFill>
          <p:spPr>
            <a:xfrm>
              <a:off x="3144960" y="3368520"/>
              <a:ext cx="21524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6"/>
          <p:cNvSpPr/>
          <p:nvPr/>
        </p:nvSpPr>
        <p:spPr>
          <a:xfrm>
            <a:off x="304920" y="3200400"/>
            <a:ext cx="50958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7"/>
          <a:stretch/>
        </p:blipFill>
        <p:spPr>
          <a:xfrm>
            <a:off x="4572000" y="2314440"/>
            <a:ext cx="197172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821040" y="1152360"/>
            <a:ext cx="4915080" cy="18288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8"/>
          <a:stretch/>
        </p:blipFill>
        <p:spPr>
          <a:xfrm>
            <a:off x="4549680" y="838080"/>
            <a:ext cx="3191040" cy="31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9"/>
          <a:stretch/>
        </p:blipFill>
        <p:spPr>
          <a:xfrm>
            <a:off x="5959440" y="3060720"/>
            <a:ext cx="3130560" cy="328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10"/>
          <a:stretch/>
        </p:blipFill>
        <p:spPr>
          <a:xfrm>
            <a:off x="1184400" y="4297320"/>
            <a:ext cx="2636640" cy="6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41" name="Straight Arrow Connector 9"/>
          <p:cNvCxnSpPr/>
          <p:nvPr/>
        </p:nvCxnSpPr>
        <p:spPr>
          <a:xfrm flipV="1">
            <a:off x="2468520" y="4799880"/>
            <a:ext cx="254880" cy="19116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" name="Straight Arrow Connector 11"/>
          <p:cNvCxnSpPr/>
          <p:nvPr/>
        </p:nvCxnSpPr>
        <p:spPr>
          <a:xfrm flipH="1" flipV="1">
            <a:off x="3428280" y="4800240"/>
            <a:ext cx="392760" cy="38160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3" name="TextBox 13"/>
          <p:cNvSpPr/>
          <p:nvPr/>
        </p:nvSpPr>
        <p:spPr>
          <a:xfrm>
            <a:off x="1528920" y="49356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rticle (Pho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3"/>
          <p:cNvSpPr/>
          <p:nvPr/>
        </p:nvSpPr>
        <p:spPr>
          <a:xfrm>
            <a:off x="3794400" y="5106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 nois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1"/>
          <a:stretch/>
        </p:blipFill>
        <p:spPr>
          <a:xfrm>
            <a:off x="152280" y="5581800"/>
            <a:ext cx="463392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07T13:01:20Z</dcterms:modified>
  <cp:revision>658</cp:revision>
  <dc:subject>Physics 272H, Spring 2007</dc:subject>
  <dc:title>Lecture 2</dc:title>
</cp:coreProperties>
</file>