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35.png" ContentType="image/png"/>
  <Override PartName="/ppt/media/image47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3053E-ED75-4EAC-8BE9-6828E2DC2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: 384,400 km,  1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E:  1.5E8km, 8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J:   7.8E8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3615A-5A27-41B0-85C7-D11B2BA93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A5C-CDEA-41CD-BBD9-9AF87E1B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3DE-CC78-4BA5-B935-5B88E6B9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2A8-D05C-4B40-8BD3-A6BF5980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420-E13A-4715-B6D0-294456A0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33D-9C01-41F6-A0C6-CBEB352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639-E9F3-4859-8714-EE59292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197-6F7D-4FA3-B2DA-33CBDA0C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E8C-09E3-4CDA-9FD0-9E5D97F3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402-6008-4AD1-A5A7-DC63A682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E42-CC9C-48C9-8E8E-85E59B4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D9D-8B28-489D-9B8E-4FA2366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2A1-C39D-4AE6-BD39-4092E61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0768-F022-40DE-B03B-23AB821CCF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BCDA-455F-4ACB-9D4C-6E43B0D2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2     (1/13/2016)         Slide </a:t>
            </a:r>
            <a:fld id="{02AA9391-F140-4396-AD64-079FBED36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“Classical” Opt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447920" y="27846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Q  Cha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(some of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S Chap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of interes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. Hecht, Optics (esp. Chap 8 on polar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auterborn &amp; Kurz, Coherent Optics, Chap 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152280" y="4538520"/>
            <a:ext cx="876312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rerequisite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PHYS 322/422 (E.Hecht “optics”), ME587, or some photonic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 at least a good E&amp;M, PHYS 272H/330/43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D.Griffiths “Intro electrodynamic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. Purcell’s E&amp;M; Feynman Lec. Vol 2;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927800" y="238752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sic &amp; relevant concepts, phenomena &amp; no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ed of L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by Ole Roemer (16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Orbits of Jupiter and Earth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4047120" y="3181320"/>
            <a:ext cx="30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1,000 km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0.7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2280" y="560376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amnh.org/education/resources/rfl/web/essaybooks/cosmic/p_roeme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040720" y="2389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clipse of Jupiter 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21840" y="6262560"/>
            <a:ext cx="59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ther clever “old” tricks in astro: see eg.  F. Shu, the physical univ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by Fizeau/Foucaul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980240" cy="3757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11040" y="61196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y 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&amp; speed of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chelson-Morley Experi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easure invariance of speed of 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t1.gstatic.com/images?q=tbn:ANd9GcQWyEiU72S8iL86Bif3vT-C3oV4S9iTHy0zj9wO12AJRj1i4_k-xA"/>
          <p:cNvPicPr/>
          <p:nvPr/>
        </p:nvPicPr>
        <p:blipFill>
          <a:blip r:embed="rId1"/>
          <a:stretch/>
        </p:blipFill>
        <p:spPr>
          <a:xfrm>
            <a:off x="152280" y="2216160"/>
            <a:ext cx="3353040" cy="386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hyperphysics.phy-astr.gsu.edu/hbase/relativ/imgrel/mmor.gif"/>
          <p:cNvPicPr/>
          <p:nvPr/>
        </p:nvPicPr>
        <p:blipFill>
          <a:blip r:embed="rId2"/>
          <a:stretch/>
        </p:blipFill>
        <p:spPr>
          <a:xfrm>
            <a:off x="3505320" y="2195640"/>
            <a:ext cx="5614920" cy="3713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2066040" y="44197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-M 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-M interfe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5019840" cy="355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181480" y="1932120"/>
            <a:ext cx="3067200" cy="1361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034600" y="426708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mmon use,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s (Plan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for EM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4358880" y="3316320"/>
            <a:ext cx="423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herical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vanescent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complicated solu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000880" y="6019920"/>
            <a:ext cx="44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umph” of “classical physic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, frequency [precise!], speed, wavevector,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,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, Intensity [rel; NL], and E-field, B-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zation vector &amp; Jones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 Angul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&amp; momentum &amp; mass (pho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934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zation optic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3040" y="153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plates (1/2, 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14400" y="5646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dmundoptics.com/technical-resources-center/optics/understanding-waveplat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480" y="4859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s companies eg. Edmund, New Port, Thorlabs … catalogue/tuto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3600" y="253512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http://t0.gstatic.com/images?q=tbn:ANd9GcQvAgbMJFaiwGnSBchR7NoPLEg_Nd1DLBKUdl4LYQ4nGzRCBA17yg"/>
          <p:cNvPicPr/>
          <p:nvPr/>
        </p:nvPicPr>
        <p:blipFill>
          <a:blip r:embed="rId2"/>
          <a:stretch/>
        </p:blipFill>
        <p:spPr>
          <a:xfrm>
            <a:off x="4038480" y="2563920"/>
            <a:ext cx="2368800" cy="175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t2.gstatic.com/images?q=tbn:ANd9GcSonTaJj-bZGrR6FHqkaeufezUv-kNJE2mO84jN2ZHq1cdeEPxi"/>
          <p:cNvPicPr/>
          <p:nvPr/>
        </p:nvPicPr>
        <p:blipFill>
          <a:blip r:embed="rId3"/>
          <a:stretch/>
        </p:blipFill>
        <p:spPr>
          <a:xfrm>
            <a:off x="6934320" y="5006880"/>
            <a:ext cx="9666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briefly tell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/maj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Group 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earch area (bri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(brief) to help remembe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49840" y="5867280"/>
            <a:ext cx="5165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ease turn in the class survey (HWK#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838080" y="685800"/>
          <a:ext cx="99864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998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70200" y="73980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243320" cy="22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243400" y="2824200"/>
            <a:ext cx="2152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h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nlinear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280" y="1614600"/>
            <a:ext cx="3391200" cy="42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6934320" y="1295280"/>
            <a:ext cx="1958760" cy="3409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39600" y="4495680"/>
            <a:ext cx="4113360" cy="18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6886440" y="4768920"/>
            <a:ext cx="2257560" cy="38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4246560" y="3925800"/>
            <a:ext cx="1855800" cy="2457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74520" y="2514600"/>
            <a:ext cx="362268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7"/>
          <a:stretch/>
        </p:blipFill>
        <p:spPr>
          <a:xfrm>
            <a:off x="152280" y="2043000"/>
            <a:ext cx="200052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8"/>
          <a:stretch/>
        </p:blipFill>
        <p:spPr>
          <a:xfrm>
            <a:off x="6477120" y="5154480"/>
            <a:ext cx="1676160" cy="129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9"/>
          <a:stretch/>
        </p:blipFill>
        <p:spPr>
          <a:xfrm>
            <a:off x="8153280" y="6100920"/>
            <a:ext cx="8478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Lecture (3): Review Quantum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Cha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Web &amp;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ebsite http://www.physics.purdue.edu/academic-programs/courses/course_detail.php?c=phys5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labus, Lecture notes, homework etc (cours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qopticsphotonic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student work: lecture notes, es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interesting seminar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ther links/articles/news of inter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rse Requirement &amp; Grad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920" y="1219320"/>
            <a:ext cx="91440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me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approximately every 1-2 weeks)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sentation/paper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 po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ther 2a)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ap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reviewing either a classic experiment/milestone achievement or a topic not covered in lectures (eg. one from a relevant seminar), or a current frontier area/topic of your interest. You can find suggested topic in lecture slides though you are not limited to them. I encourage you to check with me about your topic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to wait to the last week to upload so you may be selected for presentation. Revision can be made till last cla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2b) a journal club presentation in Quantum Journal Club (organizer: Brian Fields) time: Thurs 2-3pm location: phys 398,  signup here: http://www.signupgenius.com/go/20f0944adad2ba1f94-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 Ex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+20=40 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 Participation/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ts) that can be earned in several ways (extra will be bonu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a) great question/comment/correct a non-trivial mistake in lecture (0.5-1 pt per inciden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b) Attend one of the eligible related seminars (see list under Wiki/Seminars, also including QJC talks) and submit a brief report/summary with either speaker/host sign the paper after the talk to prove your attendance (1 pt for each seminar attend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c) Other service that enhances class learning; eg. offer to give a lab tour to class members of your research lab (1-2 pts; approved of both your lab supervisor &amp; Prof. C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d) extra activities on course wiki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920" y="6143760"/>
            <a:ext cx="91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Final Grade: 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 (&gt;85); B(&gt;70); C(&gt;55); D(&gt;40); </a:t>
            </a:r>
            <a:r>
              <a:rPr b="0" lang="en-US" sz="16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typical sufficient condition, subject to minor chang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0351"/>
          <p:cNvSpPr/>
          <p:nvPr/>
        </p:nvSpPr>
        <p:spPr>
          <a:xfrm>
            <a:off x="178920" y="1066680"/>
            <a:ext cx="808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/ray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ton etc: (classical) particle (“corpuscular”)/ra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raction (Snell’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c optical elements: mirrors, lens, beam splitters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CD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 optical engineering.. OS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Wave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uygens-Young (interference)-Fresnel (diffraction)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urie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 is 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araday effect (magneto-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Maxwell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ertz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290400" y="3228840"/>
            <a:ext cx="60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photonics/Thorlabs-Newport-Edmunds catalogues!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0351"/>
          <p:cNvSpPr/>
          <p:nvPr/>
        </p:nvSpPr>
        <p:spPr>
          <a:xfrm>
            <a:off x="172440" y="1219320"/>
            <a:ext cx="480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Nonlinea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tatist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pe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/wave lo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ee also “random las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Photon statistics  -- part of  Q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18T10:35:53Z</dcterms:modified>
  <cp:revision>431</cp:revision>
  <dc:subject>Physics 272H, Spring 2007</dc:subject>
  <dc:title>Lecture 2</dc:title>
</cp:coreProperties>
</file>