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D1C-FE98-400D-BA4F-BA543CD0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CEA-F37E-4A5E-A9B3-060F51D6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660-C0C6-4F9A-B908-846791E4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875-5C90-493D-B5EB-97FF97B4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813-132E-4842-AF91-29F9B373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622-DDCA-4F40-B874-5C942831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241-E8D6-455B-B176-929BA731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062-0D1B-4696-81A3-203A9F98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323-57E3-4D77-B486-C759B0B9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C26-865D-45B7-8852-79AA46BF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01C-352D-4D35-8195-E21E15F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480-9C9A-4C3D-BAF0-05A60EE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4A3-ADBA-4566-AF50-6CAF05A9A5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BFE-5AAA-4EC4-AE2F-8985F1FE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EC034320-2BDC-40D4-BB3C-5F11E3BBE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18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 result for sapphire"/>
          <p:cNvPicPr/>
          <p:nvPr/>
        </p:nvPicPr>
        <p:blipFill>
          <a:blip r:embed="rId1"/>
          <a:stretch/>
        </p:blipFill>
        <p:spPr>
          <a:xfrm>
            <a:off x="3352680" y="48099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357360" y="6248520"/>
            <a:ext cx="31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l2O3 “sapphire” with different col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perg.phys.ksu.edu/vqm/laserweb/ch-6/6-18.gif"/>
          <p:cNvPicPr/>
          <p:nvPr/>
        </p:nvPicPr>
        <p:blipFill>
          <a:blip r:embed="rId1"/>
          <a:stretch/>
        </p:blipFill>
        <p:spPr>
          <a:xfrm>
            <a:off x="152280" y="1143000"/>
            <a:ext cx="548352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185760" y="39625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rption and Emission Spectrum Bands of F Center in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4360" y="4724280"/>
            <a:ext cx="43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e-vibron/phono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d for widely tunable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5"/>
          <p:cNvSpPr/>
          <p:nvPr/>
        </p:nvSpPr>
        <p:spPr>
          <a:xfrm flipH="1">
            <a:off x="-720" y="5791320"/>
            <a:ext cx="82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re complicated color centers eg. “F2+ center”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imagebank.osa.org/getImage.xqy?img=cCF6ekAubGFyZ2Usb2wtNS01LTE4OC1nMDAx"/>
          <p:cNvPicPr/>
          <p:nvPr/>
        </p:nvPicPr>
        <p:blipFill>
          <a:blip r:embed="rId2"/>
          <a:stretch/>
        </p:blipFill>
        <p:spPr>
          <a:xfrm>
            <a:off x="5029200" y="4276800"/>
            <a:ext cx="360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trogen-Vacancy (NV) centers i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4329000"/>
            <a:ext cx="162252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1080" y="39402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V0, NV- (common)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"/>
          <p:cNvSpPr/>
          <p:nvPr/>
        </p:nvSpPr>
        <p:spPr>
          <a:xfrm>
            <a:off x="4406760" y="48499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4406760" y="462132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483080" y="5764320"/>
            <a:ext cx="144792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759800" y="3021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6756480" y="1725480"/>
            <a:ext cx="115560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6692760" y="309708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92360" y="19540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4635360" y="218232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93960" y="154152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68960" y="518328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606520" y="28684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000840" y="43164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6007320" y="46213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001200" y="55357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406760" y="164952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406760" y="142092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06760" y="218268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994360" y="119232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6000840" y="14968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6001200" y="19540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4483080" y="1649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854680" y="225900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695920" y="1725480"/>
            <a:ext cx="0" cy="3124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1"/>
          <p:cNvGrpSpPr/>
          <p:nvPr/>
        </p:nvGrpSpPr>
        <p:grpSpPr>
          <a:xfrm>
            <a:off x="5931000" y="3325680"/>
            <a:ext cx="838080" cy="228600"/>
            <a:chOff x="5931000" y="3325680"/>
            <a:chExt cx="838080" cy="228600"/>
          </a:xfrm>
        </p:grpSpPr>
        <p:sp>
          <p:nvSpPr>
            <p:cNvPr id="185" name="Freeform 32"/>
            <p:cNvSpPr/>
            <p:nvPr/>
          </p:nvSpPr>
          <p:spPr>
            <a:xfrm>
              <a:off x="5931000" y="3325680"/>
              <a:ext cx="718920" cy="228600"/>
            </a:xfrm>
            <a:custGeom>
              <a:avLst/>
              <a:gdLst/>
              <a:ahLst/>
              <a:rect l="l" t="t" r="r" b="b"/>
              <a:pathLst>
                <a:path w="618" h="97">
                  <a:moveTo>
                    <a:pt x="618" y="46"/>
                  </a:moveTo>
                  <a:cubicBezTo>
                    <a:pt x="609" y="39"/>
                    <a:pt x="590" y="0"/>
                    <a:pt x="565" y="8"/>
                  </a:cubicBezTo>
                  <a:cubicBezTo>
                    <a:pt x="540" y="16"/>
                    <a:pt x="499" y="92"/>
                    <a:pt x="466" y="92"/>
                  </a:cubicBezTo>
                  <a:cubicBezTo>
                    <a:pt x="433" y="92"/>
                    <a:pt x="400" y="8"/>
                    <a:pt x="367" y="8"/>
                  </a:cubicBezTo>
                  <a:cubicBezTo>
                    <a:pt x="335" y="8"/>
                    <a:pt x="302" y="92"/>
                    <a:pt x="269" y="92"/>
                  </a:cubicBezTo>
                  <a:cubicBezTo>
                    <a:pt x="236" y="92"/>
                    <a:pt x="199" y="7"/>
                    <a:pt x="170" y="8"/>
                  </a:cubicBezTo>
                  <a:cubicBezTo>
                    <a:pt x="142" y="9"/>
                    <a:pt x="127" y="97"/>
                    <a:pt x="99" y="97"/>
                  </a:cubicBezTo>
                  <a:cubicBezTo>
                    <a:pt x="70" y="97"/>
                    <a:pt x="21" y="26"/>
                    <a:pt x="0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6657840" y="3441600"/>
              <a:ext cx="11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34"/>
          <p:cNvSpPr/>
          <p:nvPr/>
        </p:nvSpPr>
        <p:spPr>
          <a:xfrm>
            <a:off x="6756480" y="1420920"/>
            <a:ext cx="1536480" cy="1447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736880" y="51832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16840" y="60199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8334360" y="332424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1848240" y="48402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stal field spl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590720" y="1712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.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569120" y="371304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1.9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Z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4338720" y="1066680"/>
            <a:ext cx="1782720" cy="109224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4272120" y="4125960"/>
            <a:ext cx="1780920" cy="1639800"/>
          </a:xfrm>
          <a:prstGeom prst="rect">
            <a:avLst/>
          </a:prstGeom>
          <a:solidFill>
            <a:srgbClr val="bbe0e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Figure caption"/>
          <p:cNvPicPr/>
          <p:nvPr/>
        </p:nvPicPr>
        <p:blipFill>
          <a:blip r:embed="rId2"/>
          <a:stretch/>
        </p:blipFill>
        <p:spPr>
          <a:xfrm>
            <a:off x="1440" y="2449440"/>
            <a:ext cx="2857680" cy="1305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8"/>
          <p:cNvSpPr/>
          <p:nvPr/>
        </p:nvSpPr>
        <p:spPr>
          <a:xfrm>
            <a:off x="97200" y="21826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1434600" y="2205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umping &amp; Rea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2057400" y="48006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2057400" y="4572000"/>
            <a:ext cx="1517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133720" y="5715000"/>
            <a:ext cx="14475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410080" y="29718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4406760" y="1676520"/>
            <a:ext cx="1155960" cy="1143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4343400" y="30481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642640" y="19051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2286000" y="2133720"/>
            <a:ext cx="0" cy="3504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716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51120" y="42670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57960" y="45720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3651480" y="548640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2057400" y="1600200"/>
            <a:ext cx="15177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057400" y="1371600"/>
            <a:ext cx="1511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2057400" y="2133720"/>
            <a:ext cx="151776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45000" y="114300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= 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3651480" y="14479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9900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669900"/>
                </a:solidFill>
                <a:latin typeface="Times New Roman"/>
                <a:ea typeface="MS PGothic"/>
              </a:rPr>
              <a:t> = 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651480" y="1905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imes New Roman"/>
                <a:ea typeface="MS PGothic"/>
              </a:rPr>
              <a:t>m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MS PGothic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133720" y="160020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3505320" y="2209680"/>
            <a:ext cx="0" cy="3505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3346560" y="1676520"/>
            <a:ext cx="0" cy="312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>
            <a:off x="4406760" y="1371600"/>
            <a:ext cx="1536840" cy="1447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1758960" y="5486400"/>
            <a:ext cx="276120" cy="404640"/>
          </a:xfrm>
          <a:custGeom>
            <a:avLst/>
            <a:gdLst>
              <a:gd name="textAreaLeft" fmla="*/ 45360 w 276120"/>
              <a:gd name="textAreaRight" fmla="*/ 233640 w 27612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tebulb"/>
          <p:cNvSpPr/>
          <p:nvPr/>
        </p:nvSpPr>
        <p:spPr>
          <a:xfrm>
            <a:off x="1682640" y="4419720"/>
            <a:ext cx="276480" cy="404640"/>
          </a:xfrm>
          <a:custGeom>
            <a:avLst/>
            <a:gdLst>
              <a:gd name="textAreaLeft" fmla="*/ 45360 w 276480"/>
              <a:gd name="textAreaRight" fmla="*/ 234000 w 276480"/>
              <a:gd name="textAreaTop" fmla="*/ 40680 h 404640"/>
              <a:gd name="textAreaBottom" fmla="*/ 173880 h 404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2514600" y="4876920"/>
            <a:ext cx="228600" cy="7617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8"/>
          <p:cNvSpPr/>
          <p:nvPr/>
        </p:nvSpPr>
        <p:spPr>
          <a:xfrm>
            <a:off x="2743200" y="5257800"/>
            <a:ext cx="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2744280" y="5105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4468320" y="57484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Initialization: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Readout (PL): population of </a:t>
            </a:r>
            <a:r>
              <a:rPr b="0" i="1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m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  <a:ea typeface="MS PGothic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64960" y="158904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9960" y="52322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tate 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4"/>
          <p:cNvSpPr/>
          <p:nvPr/>
        </p:nvSpPr>
        <p:spPr>
          <a:xfrm>
            <a:off x="1682640" y="5502240"/>
            <a:ext cx="2822760" cy="517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30040" y="1676520"/>
            <a:ext cx="5181840" cy="4720680"/>
            <a:chOff x="230040" y="1676520"/>
            <a:chExt cx="5181840" cy="4720680"/>
          </a:xfrm>
        </p:grpSpPr>
        <p:pic>
          <p:nvPicPr>
            <p:cNvPr id="233" name="Picture 4" descr="Bereiche geringer Dosis III"/>
            <p:cNvPicPr/>
            <p:nvPr/>
          </p:nvPicPr>
          <p:blipFill>
            <a:blip r:embed="rId1"/>
            <a:stretch/>
          </p:blipFill>
          <p:spPr>
            <a:xfrm>
              <a:off x="230040" y="2361960"/>
              <a:ext cx="518184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5"/>
            <p:cNvSpPr/>
            <p:nvPr/>
          </p:nvSpPr>
          <p:spPr>
            <a:xfrm>
              <a:off x="33544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3203280" y="16765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 µ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5415840" y="6167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lez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560" y="766800"/>
            <a:ext cx="235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produce N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a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671080" y="1717560"/>
            <a:ext cx="34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ing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um info/photonics/spin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address/control individual N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tically)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gle photo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level system in groun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R (microw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nipulate spin (qu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spin coherence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gt;ms @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 Magne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- no image description is available -"/>
          <p:cNvPicPr/>
          <p:nvPr/>
        </p:nvPicPr>
        <p:blipFill>
          <a:blip r:embed="rId1"/>
          <a:stretch/>
        </p:blipFill>
        <p:spPr>
          <a:xfrm>
            <a:off x="158760" y="2438280"/>
            <a:ext cx="89074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567320" y="59151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adems.eu/page/en/nv-center-properties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upload.wikimedia.org/wikipedia/commons/8/85/NVple.JPG"/>
          <p:cNvPicPr/>
          <p:nvPr/>
        </p:nvPicPr>
        <p:blipFill>
          <a:blip r:embed="rId1"/>
          <a:stretch/>
        </p:blipFill>
        <p:spPr>
          <a:xfrm>
            <a:off x="152280" y="1447920"/>
            <a:ext cx="72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magnetic Impurities” (Dopants/Ions) in Ionic 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7"/>
          <p:cNvPicPr/>
          <p:nvPr/>
        </p:nvPicPr>
        <p:blipFill>
          <a:blip r:embed="rId1"/>
          <a:stretch/>
        </p:blipFill>
        <p:spPr>
          <a:xfrm>
            <a:off x="17640" y="1143000"/>
            <a:ext cx="9188280" cy="556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514600" y="3276720"/>
            <a:ext cx="3962520" cy="5331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971800" y="5486400"/>
            <a:ext cx="5638680" cy="53352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200920" y="247968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360800" y="56498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Rare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81440" y="60199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(small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</a:rPr>
              <a:t>weak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4200120" y="1833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(larger radiu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tronger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986200" y="12193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Times New Roman"/>
              </a:rPr>
              <a:t>crystal field effect   </a:t>
            </a:r>
            <a:r>
              <a:rPr b="0" i="1" lang="en-US" sz="2000" spc="-1" strike="noStrike">
                <a:solidFill>
                  <a:srgbClr val="ffc000"/>
                </a:solidFill>
                <a:latin typeface="Times New Roman"/>
              </a:rPr>
              <a:t>vs.  </a:t>
            </a:r>
            <a:r>
              <a:rPr b="0" i="1" lang="en-US" sz="2000" spc="-1" strike="noStrike">
                <a:solidFill>
                  <a:srgbClr val="0070c0"/>
                </a:solidFill>
                <a:latin typeface="Times New Roman"/>
              </a:rPr>
              <a:t>(screened) SOC~Z</a:t>
            </a:r>
            <a:r>
              <a:rPr b="0" i="1" lang="en-US" sz="2000" spc="-1" strike="noStrike" baseline="30000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re-earth ions: 4f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6829560" cy="4086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37120" y="2106720"/>
            <a:ext cx="18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3+ 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m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b3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89920" y="561168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lso have divalent for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429760" cy="3238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2123640" y="1617840"/>
            <a:ext cx="53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S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ground state term --- Hund’s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+ 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www.photonics.ld-didactic.com/images/Energy%20level%20diagram_1_Z.jpg"/>
          <p:cNvPicPr/>
          <p:nvPr/>
        </p:nvPicPr>
        <p:blipFill>
          <a:blip r:embed="rId1"/>
          <a:stretch/>
        </p:blipFill>
        <p:spPr>
          <a:xfrm>
            <a:off x="3962520" y="2971800"/>
            <a:ext cx="497844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star.le.ac.uk/~zrw/courses/lect4313_fig14.jpg"/>
          <p:cNvPicPr/>
          <p:nvPr/>
        </p:nvPicPr>
        <p:blipFill>
          <a:blip r:embed="rId2"/>
          <a:stretch/>
        </p:blipFill>
        <p:spPr>
          <a:xfrm>
            <a:off x="0" y="2498760"/>
            <a:ext cx="3683160" cy="35812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"/>
          <p:cNvSpPr/>
          <p:nvPr/>
        </p:nvSpPr>
        <p:spPr>
          <a:xfrm>
            <a:off x="2068200" y="608184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3/2, L=6, J=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115080" y="527220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rystal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48560" y="1447920"/>
            <a:ext cx="58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ak effect by host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put in Y3Al3O15 (“YAG”)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onic aborption &amp;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fiel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escence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centers etc. in alkali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 center in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agnetic impurities” in ionic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 earth ion (eg Nd3+ in Y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metal ion (eg. Ti3+ in Al2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state based light generation (laser, LED/phosphor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information &amp; phot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284796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055720" y="835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Image result for NV center"/>
          <p:cNvPicPr/>
          <p:nvPr/>
        </p:nvPicPr>
        <p:blipFill>
          <a:blip r:embed="rId2"/>
          <a:stretch/>
        </p:blipFill>
        <p:spPr>
          <a:xfrm>
            <a:off x="6188040" y="379584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13520" y="3795840"/>
            <a:ext cx="1658880" cy="1438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329160" y="40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3:YAG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imagebank.osa.org/getImage.xqy?img=LmxhcmdlLG9tZS0xLTMtNTE0LWcwMDE"/>
          <p:cNvPicPr/>
          <p:nvPr/>
        </p:nvPicPr>
        <p:blipFill>
          <a:blip r:embed="rId1"/>
          <a:stretch/>
        </p:blipFill>
        <p:spPr>
          <a:xfrm>
            <a:off x="0" y="1752480"/>
            <a:ext cx="7781760" cy="36576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90920" y="5516640"/>
            <a:ext cx="1482480" cy="9237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997200" y="56545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 dou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32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444560" y="5654520"/>
            <a:ext cx="35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ped at ~800nm (diode laser or l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3+ doped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intechopen.com/source/html/48053/media/image19.png"/>
          <p:cNvPicPr/>
          <p:nvPr/>
        </p:nvPicPr>
        <p:blipFill>
          <a:blip r:embed="rId1"/>
          <a:stretch/>
        </p:blipFill>
        <p:spPr>
          <a:xfrm>
            <a:off x="762120" y="1676520"/>
            <a:ext cx="65624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ition-metal ions:  3d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eksmaoptics.com/out/pictures/master/product/2/tisaphire.jpg"/>
          <p:cNvPicPr/>
          <p:nvPr/>
        </p:nvPicPr>
        <p:blipFill>
          <a:blip r:embed="rId2"/>
          <a:stretch/>
        </p:blipFill>
        <p:spPr>
          <a:xfrm>
            <a:off x="0" y="2050920"/>
            <a:ext cx="6705720" cy="4291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6929280" y="205092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3+: Al2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934320" y="3008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:Sapph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tu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6942960" y="4587840"/>
            <a:ext cx="19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linewid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~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fast (fs) pul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sphors and Solid State Ligh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153640" cy="519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209680" y="1143000"/>
            <a:ext cx="5335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9360" y="3586320"/>
            <a:ext cx="1866960" cy="29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om-like (emitter) in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id (host lat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22360" y="3498840"/>
            <a:ext cx="2041560" cy="20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195120" y="2241720"/>
            <a:ext cx="2829240" cy="12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pubs.rsc.org/services/images/RSCpubs.ePlatform.Service.FreeContent.ImageService.svc/ImageService/Articleimage/2015/CS/c4cs00446a/c4cs00446a-f4_hi-res.gif"/>
          <p:cNvPicPr/>
          <p:nvPr/>
        </p:nvPicPr>
        <p:blipFill>
          <a:blip r:embed="rId3"/>
          <a:stretch/>
        </p:blipFill>
        <p:spPr>
          <a:xfrm>
            <a:off x="3657600" y="2112840"/>
            <a:ext cx="5303880" cy="39420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5"/>
          <p:cNvSpPr/>
          <p:nvPr/>
        </p:nvSpPr>
        <p:spPr>
          <a:xfrm>
            <a:off x="6095880" y="2112840"/>
            <a:ext cx="2865600" cy="3942000"/>
          </a:xfrm>
          <a:custGeom>
            <a:avLst/>
            <a:gdLst>
              <a:gd name="textAreaLeft" fmla="*/ 139680 w 2865600"/>
              <a:gd name="textAreaRight" fmla="*/ 2725920 w 2865600"/>
              <a:gd name="textAreaTop" fmla="*/ 139680 h 3942000"/>
              <a:gd name="textAreaBottom" fmla="*/ 3802320 h 3942000"/>
            </a:gdLst>
            <a:ahLst/>
            <a:rect l="textAreaLeft" t="textAreaTop" r="textAreaRight" b="textAreaBottom"/>
            <a:pathLst>
              <a:path w="21600" h="29713">
                <a:moveTo>
                  <a:pt x="3600" y="0"/>
                </a:moveTo>
                <a:arcTo wR="3600" hR="3600" stAng="16200000" swAng="-5400000"/>
                <a:lnTo>
                  <a:pt x="0" y="26113"/>
                </a:lnTo>
                <a:arcTo wR="3600" hR="3600" stAng="10800000" swAng="-5400000"/>
                <a:lnTo>
                  <a:pt x="18000" y="297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657600" y="525780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995760" y="16905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3746160" y="16905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ants (“ion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34320" y="1922400"/>
            <a:ext cx="1904760" cy="9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6954840" y="5083200"/>
            <a:ext cx="1905120" cy="94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164000" y="19810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7202160" y="51418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3"/>
          <p:cNvSpPr/>
          <p:nvPr/>
        </p:nvSpPr>
        <p:spPr>
          <a:xfrm>
            <a:off x="7527960" y="36576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9"/>
          <p:cNvSpPr/>
          <p:nvPr/>
        </p:nvSpPr>
        <p:spPr>
          <a:xfrm>
            <a:off x="7535880" y="4343400"/>
            <a:ext cx="70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7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escence systems/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2440" y="1219320"/>
            <a:ext cx="826596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40" y="626256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redit: T. Ju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632920" y="11383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fects or do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implified) general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274760" y="1863720"/>
            <a:ext cx="1905120" cy="9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58920" y="5499000"/>
            <a:ext cx="1905120" cy="9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05160" y="192240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508040" y="55576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h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7"/>
          <p:cNvSpPr/>
          <p:nvPr/>
        </p:nvSpPr>
        <p:spPr>
          <a:xfrm>
            <a:off x="1870200" y="3598920"/>
            <a:ext cx="69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8"/>
          <p:cNvSpPr/>
          <p:nvPr/>
        </p:nvSpPr>
        <p:spPr>
          <a:xfrm>
            <a:off x="1898640" y="4495680"/>
            <a:ext cx="70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586880" y="41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586520" y="336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870200" y="3368520"/>
            <a:ext cx="699840" cy="23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898640" y="4265640"/>
            <a:ext cx="701640" cy="23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14"/>
          <p:cNvCxnSpPr/>
          <p:nvPr/>
        </p:nvCxnSpPr>
        <p:spPr>
          <a:xfrm flipV="1">
            <a:off x="2057040" y="3367800"/>
            <a:ext cx="1080" cy="11278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1" name="Straight Arrow Connector 21"/>
          <p:cNvCxnSpPr/>
          <p:nvPr/>
        </p:nvCxnSpPr>
        <p:spPr>
          <a:xfrm>
            <a:off x="2219040" y="359856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196200" y="382896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fect/donor lev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863520" y="1736640"/>
            <a:ext cx="57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lattice is an </a:t>
            </a:r>
            <a:r>
              <a:rPr b="0" lang="en-US" sz="1800" spc="-1" strike="noStrike">
                <a:solidFill>
                  <a:srgbClr val="d3ed18"/>
                </a:solidFill>
                <a:latin typeface="Times New Roman"/>
              </a:rPr>
              <a:t>ins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emi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b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n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minescence center (defect/do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-like “emitter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gap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wo/few-leve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ic levels/states coupled to host latt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 (continuum/phonon band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bronic absorption &amp;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asic idea similar to molecules) 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25"/>
          <p:cNvSpPr/>
          <p:nvPr/>
        </p:nvSpPr>
        <p:spPr>
          <a:xfrm>
            <a:off x="6643800" y="2473200"/>
            <a:ext cx="1931760" cy="862200"/>
          </a:xfrm>
          <a:custGeom>
            <a:avLst/>
            <a:gdLst/>
            <a:ahLst/>
            <a:rect l="l" t="t" r="r" b="b"/>
            <a:pathLst>
              <a:path w="1931831" h="862983">
                <a:moveTo>
                  <a:pt x="0" y="38636"/>
                </a:moveTo>
                <a:cubicBezTo>
                  <a:pt x="224654" y="53613"/>
                  <a:pt x="183608" y="58752"/>
                  <a:pt x="425003" y="38636"/>
                </a:cubicBezTo>
                <a:cubicBezTo>
                  <a:pt x="451026" y="36467"/>
                  <a:pt x="476452" y="29631"/>
                  <a:pt x="502276" y="25757"/>
                </a:cubicBezTo>
                <a:lnTo>
                  <a:pt x="682581" y="0"/>
                </a:lnTo>
                <a:lnTo>
                  <a:pt x="1519707" y="12879"/>
                </a:lnTo>
                <a:cubicBezTo>
                  <a:pt x="1538526" y="13424"/>
                  <a:pt x="1644989" y="49177"/>
                  <a:pt x="1648496" y="51515"/>
                </a:cubicBezTo>
                <a:cubicBezTo>
                  <a:pt x="1661375" y="60101"/>
                  <a:pt x="1673289" y="70351"/>
                  <a:pt x="1687133" y="77273"/>
                </a:cubicBezTo>
                <a:cubicBezTo>
                  <a:pt x="1793775" y="130595"/>
                  <a:pt x="1653676" y="42090"/>
                  <a:pt x="1764406" y="115910"/>
                </a:cubicBezTo>
                <a:cubicBezTo>
                  <a:pt x="1856454" y="253979"/>
                  <a:pt x="1713104" y="44431"/>
                  <a:pt x="1828800" y="193183"/>
                </a:cubicBezTo>
                <a:cubicBezTo>
                  <a:pt x="1847806" y="217619"/>
                  <a:pt x="1880316" y="270456"/>
                  <a:pt x="1880316" y="270456"/>
                </a:cubicBezTo>
                <a:cubicBezTo>
                  <a:pt x="1899779" y="348306"/>
                  <a:pt x="1887600" y="305187"/>
                  <a:pt x="1918952" y="399245"/>
                </a:cubicBezTo>
                <a:lnTo>
                  <a:pt x="1931831" y="437881"/>
                </a:lnTo>
                <a:cubicBezTo>
                  <a:pt x="1927538" y="485104"/>
                  <a:pt x="1925658" y="532608"/>
                  <a:pt x="1918952" y="579549"/>
                </a:cubicBezTo>
                <a:cubicBezTo>
                  <a:pt x="1917032" y="592988"/>
                  <a:pt x="1914555" y="607585"/>
                  <a:pt x="1906074" y="618186"/>
                </a:cubicBezTo>
                <a:cubicBezTo>
                  <a:pt x="1896405" y="630273"/>
                  <a:pt x="1880316" y="635357"/>
                  <a:pt x="1867437" y="643943"/>
                </a:cubicBezTo>
                <a:cubicBezTo>
                  <a:pt x="1858851" y="656822"/>
                  <a:pt x="1852624" y="671635"/>
                  <a:pt x="1841679" y="682580"/>
                </a:cubicBezTo>
                <a:cubicBezTo>
                  <a:pt x="1810742" y="713518"/>
                  <a:pt x="1801067" y="705505"/>
                  <a:pt x="1764406" y="721217"/>
                </a:cubicBezTo>
                <a:cubicBezTo>
                  <a:pt x="1746760" y="728780"/>
                  <a:pt x="1729559" y="737449"/>
                  <a:pt x="1712890" y="746974"/>
                </a:cubicBezTo>
                <a:cubicBezTo>
                  <a:pt x="1699451" y="754653"/>
                  <a:pt x="1688938" y="767837"/>
                  <a:pt x="1674254" y="772732"/>
                </a:cubicBezTo>
                <a:cubicBezTo>
                  <a:pt x="1649481" y="780990"/>
                  <a:pt x="1622587" y="780490"/>
                  <a:pt x="1596981" y="785611"/>
                </a:cubicBezTo>
                <a:cubicBezTo>
                  <a:pt x="1579624" y="789082"/>
                  <a:pt x="1562484" y="793627"/>
                  <a:pt x="1545465" y="798490"/>
                </a:cubicBezTo>
                <a:cubicBezTo>
                  <a:pt x="1532412" y="802219"/>
                  <a:pt x="1518696" y="804776"/>
                  <a:pt x="1506829" y="811369"/>
                </a:cubicBezTo>
                <a:cubicBezTo>
                  <a:pt x="1405529" y="867646"/>
                  <a:pt x="1465194" y="862884"/>
                  <a:pt x="1403798" y="862884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3809880" y="481644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amp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71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bronic absorption and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900520" y="1338120"/>
            <a:ext cx="61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-like electronic (optical) exc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ons (vibration) in hos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as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ctronic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b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1400" y="1371600"/>
            <a:ext cx="2828880" cy="125748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5"/>
          <p:cNvSpPr/>
          <p:nvPr/>
        </p:nvSpPr>
        <p:spPr>
          <a:xfrm>
            <a:off x="426960" y="38098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548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45080" y="3652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26960" y="31431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426960" y="5410080"/>
            <a:ext cx="178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26960" y="4743360"/>
            <a:ext cx="1782720" cy="66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Straight Arrow Connector 16"/>
          <p:cNvCxnSpPr/>
          <p:nvPr/>
        </p:nvCxnSpPr>
        <p:spPr>
          <a:xfrm flipV="1">
            <a:off x="599760" y="3475800"/>
            <a:ext cx="1080" cy="19342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17" name="Straight Arrow Connector 19"/>
          <p:cNvCxnSpPr/>
          <p:nvPr/>
        </p:nvCxnSpPr>
        <p:spPr>
          <a:xfrm>
            <a:off x="1455480" y="3809520"/>
            <a:ext cx="1080" cy="126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Straight Connector 24"/>
          <p:cNvSpPr/>
          <p:nvPr/>
        </p:nvSpPr>
        <p:spPr>
          <a:xfrm>
            <a:off x="457200" y="347652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463680" y="5075280"/>
            <a:ext cx="1838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extBox 26" descr=""/>
          <p:cNvPicPr/>
          <p:nvPr/>
        </p:nvPicPr>
        <p:blipFill>
          <a:blip r:embed="rId2"/>
          <a:stretch/>
        </p:blipFill>
        <p:spPr>
          <a:xfrm>
            <a:off x="2279520" y="3425760"/>
            <a:ext cx="847800" cy="4078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0"/>
          <p:cNvCxnSpPr/>
          <p:nvPr/>
        </p:nvCxnSpPr>
        <p:spPr>
          <a:xfrm>
            <a:off x="2303280" y="347652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pic>
        <p:nvPicPr>
          <p:cNvPr id="122" name="TextBox 32" descr=""/>
          <p:cNvPicPr/>
          <p:nvPr/>
        </p:nvPicPr>
        <p:blipFill>
          <a:blip r:embed="rId3"/>
          <a:stretch/>
        </p:blipFill>
        <p:spPr>
          <a:xfrm>
            <a:off x="2266920" y="5010120"/>
            <a:ext cx="903240" cy="40320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33"/>
          <p:cNvCxnSpPr/>
          <p:nvPr/>
        </p:nvCxnSpPr>
        <p:spPr>
          <a:xfrm>
            <a:off x="2287080" y="5065560"/>
            <a:ext cx="1080" cy="362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TextBox 34"/>
          <p:cNvSpPr/>
          <p:nvPr/>
        </p:nvSpPr>
        <p:spPr>
          <a:xfrm>
            <a:off x="4654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ibronic b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4"/>
          <a:stretch/>
        </p:blipFill>
        <p:spPr>
          <a:xfrm>
            <a:off x="3276720" y="2843280"/>
            <a:ext cx="3062160" cy="2622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6"/>
          <p:cNvSpPr/>
          <p:nvPr/>
        </p:nvSpPr>
        <p:spPr>
          <a:xfrm>
            <a:off x="610560" y="564372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kes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phonon line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6629400" y="2868480"/>
            <a:ext cx="2133720" cy="2619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9"/>
          <p:cNvSpPr/>
          <p:nvPr/>
        </p:nvSpPr>
        <p:spPr>
          <a:xfrm>
            <a:off x="5873040" y="5659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 coordina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Straight Arrow Connector 38"/>
          <p:cNvCxnSpPr/>
          <p:nvPr/>
        </p:nvCxnSpPr>
        <p:spPr>
          <a:xfrm>
            <a:off x="599760" y="3476520"/>
            <a:ext cx="856440" cy="33408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cxnSp>
        <p:nvCxnSpPr>
          <p:cNvPr id="131" name="Straight Arrow Connector 43"/>
          <p:cNvCxnSpPr/>
          <p:nvPr/>
        </p:nvCxnSpPr>
        <p:spPr>
          <a:xfrm flipH="1">
            <a:off x="599760" y="5079600"/>
            <a:ext cx="878400" cy="330840"/>
          </a:xfrm>
          <a:prstGeom prst="straightConnector1">
            <a:avLst/>
          </a:prstGeom>
          <a:ln w="9360">
            <a:solidFill>
              <a:srgbClr val="ffc000"/>
            </a:solidFill>
            <a:prstDash val="dash"/>
            <a:miter/>
            <a:tailEnd len="med" type="arrow" w="med"/>
          </a:ln>
        </p:spPr>
      </p:cxnSp>
      <p:sp>
        <p:nvSpPr>
          <p:cNvPr id="132" name="TextBox 45"/>
          <p:cNvSpPr/>
          <p:nvPr/>
        </p:nvSpPr>
        <p:spPr>
          <a:xfrm>
            <a:off x="2819520" y="5643720"/>
            <a:ext cx="360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vib/pho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broad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lor Center/Defect Center:  </a:t>
            </a:r>
            <a:r>
              <a:rPr b="0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F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-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6255000" y="1219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alkali ha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ttps://upload.wikimedia.org/wikipedia/commons/thumb/7/7e/NaCl_-_F-center.jpg/220px-NaCl_-_F-center.jpg"/>
          <p:cNvPicPr/>
          <p:nvPr/>
        </p:nvPicPr>
        <p:blipFill>
          <a:blip r:embed="rId1"/>
          <a:stretch/>
        </p:blipFill>
        <p:spPr>
          <a:xfrm>
            <a:off x="122400" y="1419120"/>
            <a:ext cx="312084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17640" y="6265800"/>
            <a:ext cx="92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ducation.mrsec.wisc.edu/background/F_center/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http://education.mrsec.wisc.edu/background/F_center/images/F-center-spectra.jpg"/>
          <p:cNvPicPr/>
          <p:nvPr/>
        </p:nvPicPr>
        <p:blipFill>
          <a:blip r:embed="rId2"/>
          <a:stretch/>
        </p:blipFill>
        <p:spPr>
          <a:xfrm>
            <a:off x="101520" y="3568680"/>
            <a:ext cx="3022560" cy="27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education.mrsec.wisc.edu/background/F_center/images/NaCl_KCl_KBr.jpg"/>
          <p:cNvPicPr/>
          <p:nvPr/>
        </p:nvPicPr>
        <p:blipFill>
          <a:blip r:embed="rId3"/>
          <a:stretch/>
        </p:blipFill>
        <p:spPr>
          <a:xfrm>
            <a:off x="3425760" y="1424160"/>
            <a:ext cx="2212920" cy="1658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409920" y="1708200"/>
            <a:ext cx="5676840" cy="4659120"/>
            <a:chOff x="3409920" y="1708200"/>
            <a:chExt cx="5676840" cy="4659120"/>
          </a:xfrm>
        </p:grpSpPr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3409920" y="3376080"/>
              <a:ext cx="5676840" cy="29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0" descr=""/>
            <p:cNvPicPr/>
            <p:nvPr/>
          </p:nvPicPr>
          <p:blipFill>
            <a:blip r:embed="rId5"/>
            <a:stretch/>
          </p:blipFill>
          <p:spPr>
            <a:xfrm>
              <a:off x="6025320" y="1708200"/>
              <a:ext cx="3040920" cy="159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3"/>
          <p:cNvSpPr/>
          <p:nvPr/>
        </p:nvSpPr>
        <p:spPr>
          <a:xfrm>
            <a:off x="5838120" y="1708200"/>
            <a:ext cx="142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c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adiation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681160" y="3568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35080" y="1693800"/>
            <a:ext cx="5676840" cy="4657680"/>
            <a:chOff x="235080" y="1693800"/>
            <a:chExt cx="5676840" cy="465768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235080" y="3360960"/>
              <a:ext cx="5676840" cy="29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2"/>
            <a:stretch/>
          </p:blipFill>
          <p:spPr>
            <a:xfrm>
              <a:off x="2850480" y="1693800"/>
              <a:ext cx="3040920" cy="15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6"/>
          <p:cNvSpPr/>
          <p:nvPr/>
        </p:nvSpPr>
        <p:spPr>
          <a:xfrm>
            <a:off x="276480" y="2830680"/>
            <a:ext cx="232344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https://upload.wikimedia.org/wikipedia/commons/thumb/7/7e/NaCl_-_F-center.jpg/220px-NaCl_-_F-center.jpg"/>
          <p:cNvPicPr/>
          <p:nvPr/>
        </p:nvPicPr>
        <p:blipFill>
          <a:blip r:embed="rId3"/>
          <a:stretch/>
        </p:blipFill>
        <p:spPr>
          <a:xfrm>
            <a:off x="122400" y="773280"/>
            <a:ext cx="2757240" cy="1841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3565440" y="912960"/>
            <a:ext cx="40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tron in box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3-24T13:02:31Z</dcterms:modified>
  <cp:revision>625</cp:revision>
  <dc:subject>Physics 272H, Spring 2007</dc:subject>
  <dc:title>Lecture 2</dc:title>
</cp:coreProperties>
</file>