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DBD-28E2-4538-8635-90BFD6D5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313-9F69-4179-872D-23B5F212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AC8-1A63-465D-ABAD-2A91CFA9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D07-FAD5-49C0-9542-C0BE42DE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0F5-2975-4A87-9A96-75A4952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F94-37C9-44F0-AFED-FC765C5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BE1-FA1A-4654-A490-3D88095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A74-3B3B-43B4-BFFF-6DFB364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29-F9D2-4793-A382-712C49D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A43-5FE2-4CA9-97C9-BBB758D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D11-AC66-4A3C-9DAE-CC7CF0D9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DE9-E0C5-4E8E-90EC-61399BC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43D-A84C-4681-8046-F85239E913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DC9-8980-477C-B0DB-145D819B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3900CEEF-EF58-4AC3-B07E-62DC2B60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3:02:31Z</dcterms:modified>
  <cp:revision>625</cp:revision>
  <dc:subject>Physics 272H, Spring 2007</dc:subject>
  <dc:title>Lecture 2</dc:title>
</cp:coreProperties>
</file>