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398-9478-4137-8C4C-A5D7B4BE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5F6-CADE-48BA-B652-765F234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14F-6068-4192-8D36-77B8D81A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22A-2EF5-4385-90AF-40E331FA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C5E-615B-411E-ACBA-9F5F413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B17-B49A-46B4-8A82-910AE74F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5DA-F26D-4639-9E4C-B019B57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F2A-1793-4297-8128-46D96E08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0B3-8D5A-448D-B315-DA702FF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970-2358-40BD-AC8C-3699713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435-84C5-42A9-A0AD-E0E2999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A89-E3BD-4683-A22E-2161B9B3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2B73-498F-407F-9CC5-9F83C919DE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6A3F-12AA-4D34-8668-90B122C3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B5441C19-BF12-49CE-B07A-C02A25DC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centasiathai.com/centasiathai.com/media/images/Products/Cl-200a/pict_002.jpg"/>
          <p:cNvPicPr/>
          <p:nvPr/>
        </p:nvPicPr>
        <p:blipFill>
          <a:blip r:embed="rId1"/>
          <a:stretch/>
        </p:blipFill>
        <p:spPr>
          <a:xfrm>
            <a:off x="685800" y="2438280"/>
            <a:ext cx="52578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8:55:54Z</dcterms:modified>
  <cp:revision>627</cp:revision>
  <dc:subject>Physics 272H, Spring 2007</dc:subject>
  <dc:title>Lecture 2</dc:title>
</cp:coreProperties>
</file>