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20.jpeg" ContentType="image/jpeg"/>
  <Override PartName="/ppt/media/image12.png" ContentType="image/png"/>
  <Override PartName="/ppt/media/image9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FCB-D3FA-496C-BF7E-21B92501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E43-7FB6-425C-8B1F-BC34BCAD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6EC-D805-46C6-A890-A20A082B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EAA-8DDC-4851-BFE6-A965E71E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9F3-09D8-4801-8515-2C976FFB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BE8-A66F-447A-B598-791573C3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D569-E143-438F-B385-C4859646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A21-8115-4AD4-B246-5EB2BC0D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B77-5780-4E57-9E5C-E607EF1D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59A-C252-4B03-8CC4-B53C87D8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251-AC03-4791-8524-332B4BA7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A606-4B3A-426A-AF73-CA814885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6BEA-8374-4C9D-9EB5-25E6936BC6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A923-E381-4DDC-84CB-81CE58540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7C2B47E9-1CE5-4293-996E-C1C0A11FF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64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8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inescence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age result for sapphire"/>
          <p:cNvPicPr/>
          <p:nvPr/>
        </p:nvPicPr>
        <p:blipFill>
          <a:blip r:embed="rId1"/>
          <a:stretch/>
        </p:blipFill>
        <p:spPr>
          <a:xfrm>
            <a:off x="3352680" y="4809960"/>
            <a:ext cx="284796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3357360" y="6248520"/>
            <a:ext cx="31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l2O3 “sapphire” with different colo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s://perg.phys.ksu.edu/vqm/laserweb/ch-6/6-18.gif"/>
          <p:cNvPicPr/>
          <p:nvPr/>
        </p:nvPicPr>
        <p:blipFill>
          <a:blip r:embed="rId1"/>
          <a:stretch/>
        </p:blipFill>
        <p:spPr>
          <a:xfrm>
            <a:off x="152280" y="1143000"/>
            <a:ext cx="548352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185760" y="39625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sorption and Emission Spectrum Bands of F Center in K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34360" y="4724280"/>
            <a:ext cx="430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 e-vibron/phonon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be used for widely tunable la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5"/>
          <p:cNvSpPr/>
          <p:nvPr/>
        </p:nvSpPr>
        <p:spPr>
          <a:xfrm flipH="1">
            <a:off x="-720" y="5791320"/>
            <a:ext cx="82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so more complicated color centers eg. “F2+ center”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http://imagebank.osa.org/getImage.xqy?img=cCF6ekAubGFyZ2Usb2wtNS01LTE4OC1nMDAx"/>
          <p:cNvPicPr/>
          <p:nvPr/>
        </p:nvPicPr>
        <p:blipFill>
          <a:blip r:embed="rId2"/>
          <a:stretch/>
        </p:blipFill>
        <p:spPr>
          <a:xfrm>
            <a:off x="5029200" y="4276800"/>
            <a:ext cx="36021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itrogen-Vacancy (NV) centers in dia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4" descr=""/>
          <p:cNvPicPr/>
          <p:nvPr/>
        </p:nvPicPr>
        <p:blipFill>
          <a:blip r:embed="rId1"/>
          <a:stretch/>
        </p:blipFill>
        <p:spPr>
          <a:xfrm>
            <a:off x="0" y="4329000"/>
            <a:ext cx="1622520" cy="16527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1080" y="394020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V0, NV- (common),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"/>
          <p:cNvSpPr/>
          <p:nvPr/>
        </p:nvSpPr>
        <p:spPr>
          <a:xfrm>
            <a:off x="4406760" y="484992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4406760" y="4621320"/>
            <a:ext cx="1517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4483080" y="5764320"/>
            <a:ext cx="144792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7759800" y="302112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6756480" y="1725480"/>
            <a:ext cx="1155600" cy="1143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7"/>
          <p:cNvSpPr/>
          <p:nvPr/>
        </p:nvSpPr>
        <p:spPr>
          <a:xfrm flipH="1">
            <a:off x="6692760" y="3097080"/>
            <a:ext cx="144792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7992360" y="195408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4635360" y="218232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793960" y="1541520"/>
            <a:ext cx="15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ited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568960" y="518328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tate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8606520" y="28684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6000840" y="43164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6007320" y="46213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6001200" y="553572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4406760" y="164952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4406760" y="1420920"/>
            <a:ext cx="1511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4"/>
          <p:cNvSpPr/>
          <p:nvPr/>
        </p:nvSpPr>
        <p:spPr>
          <a:xfrm>
            <a:off x="4406760" y="2182680"/>
            <a:ext cx="15177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5994360" y="119232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6000840" y="14968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6001200" y="19540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8"/>
          <p:cNvSpPr/>
          <p:nvPr/>
        </p:nvSpPr>
        <p:spPr>
          <a:xfrm flipV="1">
            <a:off x="4483080" y="164952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9"/>
          <p:cNvSpPr/>
          <p:nvPr/>
        </p:nvSpPr>
        <p:spPr>
          <a:xfrm>
            <a:off x="5854680" y="225900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0"/>
          <p:cNvSpPr/>
          <p:nvPr/>
        </p:nvSpPr>
        <p:spPr>
          <a:xfrm>
            <a:off x="5695920" y="1725480"/>
            <a:ext cx="0" cy="31244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31"/>
          <p:cNvGrpSpPr/>
          <p:nvPr/>
        </p:nvGrpSpPr>
        <p:grpSpPr>
          <a:xfrm>
            <a:off x="5931000" y="3325680"/>
            <a:ext cx="838080" cy="228600"/>
            <a:chOff x="5931000" y="3325680"/>
            <a:chExt cx="838080" cy="228600"/>
          </a:xfrm>
        </p:grpSpPr>
        <p:sp>
          <p:nvSpPr>
            <p:cNvPr id="185" name="Freeform 32"/>
            <p:cNvSpPr/>
            <p:nvPr/>
          </p:nvSpPr>
          <p:spPr>
            <a:xfrm>
              <a:off x="5931000" y="3325680"/>
              <a:ext cx="718920" cy="228600"/>
            </a:xfrm>
            <a:custGeom>
              <a:avLst/>
              <a:gdLst/>
              <a:ahLst/>
              <a:rect l="l" t="t" r="r" b="b"/>
              <a:pathLst>
                <a:path w="618" h="97">
                  <a:moveTo>
                    <a:pt x="618" y="46"/>
                  </a:moveTo>
                  <a:cubicBezTo>
                    <a:pt x="609" y="39"/>
                    <a:pt x="590" y="0"/>
                    <a:pt x="565" y="8"/>
                  </a:cubicBezTo>
                  <a:cubicBezTo>
                    <a:pt x="540" y="16"/>
                    <a:pt x="499" y="92"/>
                    <a:pt x="466" y="92"/>
                  </a:cubicBezTo>
                  <a:cubicBezTo>
                    <a:pt x="433" y="92"/>
                    <a:pt x="400" y="8"/>
                    <a:pt x="367" y="8"/>
                  </a:cubicBezTo>
                  <a:cubicBezTo>
                    <a:pt x="335" y="8"/>
                    <a:pt x="302" y="92"/>
                    <a:pt x="269" y="92"/>
                  </a:cubicBezTo>
                  <a:cubicBezTo>
                    <a:pt x="236" y="92"/>
                    <a:pt x="199" y="7"/>
                    <a:pt x="170" y="8"/>
                  </a:cubicBezTo>
                  <a:cubicBezTo>
                    <a:pt x="142" y="9"/>
                    <a:pt x="127" y="97"/>
                    <a:pt x="99" y="97"/>
                  </a:cubicBezTo>
                  <a:cubicBezTo>
                    <a:pt x="70" y="97"/>
                    <a:pt x="21" y="26"/>
                    <a:pt x="0" y="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>
              <a:off x="6657840" y="3441600"/>
              <a:ext cx="111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Line 34"/>
          <p:cNvSpPr/>
          <p:nvPr/>
        </p:nvSpPr>
        <p:spPr>
          <a:xfrm>
            <a:off x="6756480" y="1420920"/>
            <a:ext cx="1536480" cy="1447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4736880" y="51832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.9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41"/>
          <p:cNvSpPr/>
          <p:nvPr/>
        </p:nvSpPr>
        <p:spPr>
          <a:xfrm>
            <a:off x="4416840" y="601992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1 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2"/>
          <p:cNvSpPr/>
          <p:nvPr/>
        </p:nvSpPr>
        <p:spPr>
          <a:xfrm>
            <a:off x="8334360" y="332424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43"/>
          <p:cNvSpPr/>
          <p:nvPr/>
        </p:nvSpPr>
        <p:spPr>
          <a:xfrm>
            <a:off x="1848240" y="48402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ystal field spli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9"/>
          <p:cNvSpPr/>
          <p:nvPr/>
        </p:nvSpPr>
        <p:spPr>
          <a:xfrm>
            <a:off x="4590720" y="17128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.4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9"/>
          <p:cNvSpPr/>
          <p:nvPr/>
        </p:nvSpPr>
        <p:spPr>
          <a:xfrm>
            <a:off x="4569120" y="3713040"/>
            <a:ext cx="99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1.9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ZP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6"/>
          <p:cNvSpPr/>
          <p:nvPr/>
        </p:nvSpPr>
        <p:spPr>
          <a:xfrm>
            <a:off x="4338720" y="1066680"/>
            <a:ext cx="1782720" cy="1092240"/>
          </a:xfrm>
          <a:prstGeom prst="rect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7"/>
          <p:cNvSpPr/>
          <p:nvPr/>
        </p:nvSpPr>
        <p:spPr>
          <a:xfrm>
            <a:off x="4272120" y="4125960"/>
            <a:ext cx="1780920" cy="1639800"/>
          </a:xfrm>
          <a:prstGeom prst="rect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Figure caption"/>
          <p:cNvPicPr/>
          <p:nvPr/>
        </p:nvPicPr>
        <p:blipFill>
          <a:blip r:embed="rId2"/>
          <a:stretch/>
        </p:blipFill>
        <p:spPr>
          <a:xfrm>
            <a:off x="1440" y="2449440"/>
            <a:ext cx="2857680" cy="1305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8"/>
          <p:cNvSpPr/>
          <p:nvPr/>
        </p:nvSpPr>
        <p:spPr>
          <a:xfrm>
            <a:off x="97200" y="21826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50"/>
          <p:cNvSpPr/>
          <p:nvPr/>
        </p:nvSpPr>
        <p:spPr>
          <a:xfrm>
            <a:off x="1434600" y="2205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Pumping &amp; Read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"/>
          <p:cNvSpPr/>
          <p:nvPr/>
        </p:nvSpPr>
        <p:spPr>
          <a:xfrm>
            <a:off x="2057400" y="480060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2057400" y="4572000"/>
            <a:ext cx="1517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2133720" y="5715000"/>
            <a:ext cx="14475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5410080" y="2971800"/>
            <a:ext cx="838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4406760" y="1676520"/>
            <a:ext cx="1155960" cy="1143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 flipH="1">
            <a:off x="4343400" y="3048120"/>
            <a:ext cx="144792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642640" y="190512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"/>
          <p:cNvSpPr/>
          <p:nvPr/>
        </p:nvSpPr>
        <p:spPr>
          <a:xfrm flipV="1">
            <a:off x="2286000" y="2133720"/>
            <a:ext cx="0" cy="35049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6257160" y="28195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3651120" y="42670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3657960" y="45720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3651480" y="548640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2057400" y="160020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2057400" y="1371600"/>
            <a:ext cx="1511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2057400" y="2133720"/>
            <a:ext cx="15177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3645000" y="11430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3651480" y="14479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3651480" y="190512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133720" y="160020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3505320" y="220968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3346560" y="167652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4"/>
          <p:cNvSpPr/>
          <p:nvPr/>
        </p:nvSpPr>
        <p:spPr>
          <a:xfrm>
            <a:off x="4406760" y="1371600"/>
            <a:ext cx="1536840" cy="1447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tebulb"/>
          <p:cNvSpPr/>
          <p:nvPr/>
        </p:nvSpPr>
        <p:spPr>
          <a:xfrm>
            <a:off x="1758960" y="5486400"/>
            <a:ext cx="276120" cy="404640"/>
          </a:xfrm>
          <a:custGeom>
            <a:avLst/>
            <a:gdLst>
              <a:gd name="textAreaLeft" fmla="*/ 45360 w 276120"/>
              <a:gd name="textAreaRight" fmla="*/ 233640 w 276120"/>
              <a:gd name="textAreaTop" fmla="*/ 40680 h 404640"/>
              <a:gd name="textAreaBottom" fmla="*/ 173880 h 40464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tebulb"/>
          <p:cNvSpPr/>
          <p:nvPr/>
        </p:nvSpPr>
        <p:spPr>
          <a:xfrm>
            <a:off x="1682640" y="4419720"/>
            <a:ext cx="276480" cy="404640"/>
          </a:xfrm>
          <a:custGeom>
            <a:avLst/>
            <a:gdLst>
              <a:gd name="textAreaLeft" fmla="*/ 45360 w 276480"/>
              <a:gd name="textAreaRight" fmla="*/ 234000 w 276480"/>
              <a:gd name="textAreaTop" fmla="*/ 40680 h 404640"/>
              <a:gd name="textAreaBottom" fmla="*/ 173880 h 40464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37"/>
          <p:cNvSpPr/>
          <p:nvPr/>
        </p:nvSpPr>
        <p:spPr>
          <a:xfrm>
            <a:off x="2514600" y="4876920"/>
            <a:ext cx="22860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8"/>
          <p:cNvSpPr/>
          <p:nvPr/>
        </p:nvSpPr>
        <p:spPr>
          <a:xfrm>
            <a:off x="2743200" y="525780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9"/>
          <p:cNvSpPr/>
          <p:nvPr/>
        </p:nvSpPr>
        <p:spPr>
          <a:xfrm>
            <a:off x="2744280" y="51055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1"/>
          <p:cNvSpPr/>
          <p:nvPr/>
        </p:nvSpPr>
        <p:spPr>
          <a:xfrm>
            <a:off x="4468320" y="5748480"/>
            <a:ext cx="440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Initialization: </a:t>
            </a:r>
            <a:r>
              <a:rPr b="0" i="1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m 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= 0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Readout (PL): population of </a:t>
            </a:r>
            <a:r>
              <a:rPr b="0" i="1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m 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264960" y="1589040"/>
            <a:ext cx="15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ited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39960" y="523224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tate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44"/>
          <p:cNvSpPr/>
          <p:nvPr/>
        </p:nvSpPr>
        <p:spPr>
          <a:xfrm>
            <a:off x="1682640" y="5502240"/>
            <a:ext cx="2822760" cy="517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"/>
          <p:cNvGrpSpPr/>
          <p:nvPr/>
        </p:nvGrpSpPr>
        <p:grpSpPr>
          <a:xfrm>
            <a:off x="230040" y="1676520"/>
            <a:ext cx="5181840" cy="4720680"/>
            <a:chOff x="230040" y="1676520"/>
            <a:chExt cx="5181840" cy="4720680"/>
          </a:xfrm>
        </p:grpSpPr>
        <p:pic>
          <p:nvPicPr>
            <p:cNvPr id="233" name="Picture 4" descr="Bereiche geringer Dosis III"/>
            <p:cNvPicPr/>
            <p:nvPr/>
          </p:nvPicPr>
          <p:blipFill>
            <a:blip r:embed="rId1"/>
            <a:stretch/>
          </p:blipFill>
          <p:spPr>
            <a:xfrm>
              <a:off x="230040" y="2361960"/>
              <a:ext cx="5181840" cy="40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Line 5"/>
            <p:cNvSpPr/>
            <p:nvPr/>
          </p:nvSpPr>
          <p:spPr>
            <a:xfrm>
              <a:off x="335448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6"/>
            <p:cNvSpPr/>
            <p:nvPr/>
          </p:nvSpPr>
          <p:spPr>
            <a:xfrm>
              <a:off x="3203280" y="16765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 µ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TextBox 7"/>
          <p:cNvSpPr/>
          <p:nvPr/>
        </p:nvSpPr>
        <p:spPr>
          <a:xfrm>
            <a:off x="5415840" y="61675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lez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7560" y="766800"/>
            <a:ext cx="235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produce N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a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5671080" y="1717560"/>
            <a:ext cx="3481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ing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ntum info/photonics/spin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address/control individual N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ptically)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ingle photon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level system in groun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qu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R (microwa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anipulate spin (qu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 spin coherence 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&gt;ms @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tive Magnet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- no image description is available -"/>
          <p:cNvPicPr/>
          <p:nvPr/>
        </p:nvPicPr>
        <p:blipFill>
          <a:blip r:embed="rId1"/>
          <a:stretch/>
        </p:blipFill>
        <p:spPr>
          <a:xfrm>
            <a:off x="158760" y="2438280"/>
            <a:ext cx="8907480" cy="32004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4567320" y="59151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iadems.eu/page/en/nv-center-properties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http://upload.wikimedia.org/wikipedia/commons/8/85/NVple.JPG"/>
          <p:cNvPicPr/>
          <p:nvPr/>
        </p:nvPicPr>
        <p:blipFill>
          <a:blip r:embed="rId1"/>
          <a:stretch/>
        </p:blipFill>
        <p:spPr>
          <a:xfrm>
            <a:off x="152280" y="1447920"/>
            <a:ext cx="722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amagnetic Impurities” (Dopants/Ions) in Ionic Cry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Picture 7"/>
          <p:cNvPicPr/>
          <p:nvPr/>
        </p:nvPicPr>
        <p:blipFill>
          <a:blip r:embed="rId1"/>
          <a:stretch/>
        </p:blipFill>
        <p:spPr>
          <a:xfrm>
            <a:off x="17640" y="1143000"/>
            <a:ext cx="9188280" cy="55627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2514600" y="3276720"/>
            <a:ext cx="3962520" cy="5331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971800" y="5486400"/>
            <a:ext cx="5638680" cy="53352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5200920" y="2479680"/>
            <a:ext cx="11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Tran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1360800" y="56498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Rare-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181440" y="601992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(smaller radiu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weaker coup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4200120" y="183348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(larger radiu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stronger coup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2986200" y="121932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Times New Roman"/>
              </a:rPr>
              <a:t>crystal field effect   </a:t>
            </a:r>
            <a:r>
              <a:rPr b="0" i="1" lang="en-US" sz="2000" spc="-1" strike="noStrike">
                <a:solidFill>
                  <a:srgbClr val="ffc000"/>
                </a:solidFill>
                <a:latin typeface="Times New Roman"/>
              </a:rPr>
              <a:t>vs.  </a:t>
            </a:r>
            <a:r>
              <a:rPr b="0" i="1" lang="en-US" sz="2000" spc="-1" strike="noStrike">
                <a:solidFill>
                  <a:srgbClr val="0070c0"/>
                </a:solidFill>
                <a:latin typeface="Times New Roman"/>
              </a:rPr>
              <a:t>(screened) SOC~Z</a:t>
            </a:r>
            <a:r>
              <a:rPr b="0" i="1" lang="en-US" sz="2000" spc="-1" strike="noStrike" baseline="30000">
                <a:solidFill>
                  <a:srgbClr val="0070c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are-earth ions: 4f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1357200"/>
            <a:ext cx="6829560" cy="4086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6837120" y="2106720"/>
            <a:ext cx="183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 3+ 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d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b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b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3589920" y="561168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lso have divalent for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429760" cy="32385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"/>
          <p:cNvSpPr/>
          <p:nvPr/>
        </p:nvSpPr>
        <p:spPr>
          <a:xfrm>
            <a:off x="2123640" y="1617840"/>
            <a:ext cx="53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S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ground state term --- Hund’s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3+ 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www.photonics.ld-didactic.com/images/Energy%20level%20diagram_1_Z.jpg"/>
          <p:cNvPicPr/>
          <p:nvPr/>
        </p:nvPicPr>
        <p:blipFill>
          <a:blip r:embed="rId1"/>
          <a:stretch/>
        </p:blipFill>
        <p:spPr>
          <a:xfrm>
            <a:off x="3962520" y="2971800"/>
            <a:ext cx="4978440" cy="3238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http://www.star.le.ac.uk/~zrw/courses/lect4313_fig14.jpg"/>
          <p:cNvPicPr/>
          <p:nvPr/>
        </p:nvPicPr>
        <p:blipFill>
          <a:blip r:embed="rId2"/>
          <a:stretch/>
        </p:blipFill>
        <p:spPr>
          <a:xfrm>
            <a:off x="0" y="2498760"/>
            <a:ext cx="3683160" cy="35812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"/>
          <p:cNvSpPr/>
          <p:nvPr/>
        </p:nvSpPr>
        <p:spPr>
          <a:xfrm>
            <a:off x="2068200" y="608184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3/2, L=6, J=9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3115080" y="5272200"/>
            <a:ext cx="99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rystal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48560" y="1447920"/>
            <a:ext cx="58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weak effect by host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put in Y3Al3O15 (“YAG”)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1920" y="12193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hys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bronic aborption &amp; e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stal field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inescence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-centers etc. in alkali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 center in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agnetic impurities” in ionic 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re earth ion (eg Nd3+ in Y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metal ion (eg. Ti3+ in Al2O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d state based light generation (laser, LED/phosphor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um information &amp; phot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095880" y="838080"/>
            <a:ext cx="2847960" cy="2438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8055720" y="835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u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Image result for NV center"/>
          <p:cNvPicPr/>
          <p:nvPr/>
        </p:nvPicPr>
        <p:blipFill>
          <a:blip r:embed="rId2"/>
          <a:stretch/>
        </p:blipFill>
        <p:spPr>
          <a:xfrm>
            <a:off x="6188040" y="3795840"/>
            <a:ext cx="2886120" cy="158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6113520" y="3795840"/>
            <a:ext cx="1658880" cy="1438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329160" y="405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3:YAG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http://imagebank.osa.org/getImage.xqy?img=LmxhcmdlLG9tZS0xLTMtNTE0LWcwMDE"/>
          <p:cNvPicPr/>
          <p:nvPr/>
        </p:nvPicPr>
        <p:blipFill>
          <a:blip r:embed="rId1"/>
          <a:stretch/>
        </p:blipFill>
        <p:spPr>
          <a:xfrm>
            <a:off x="0" y="1752480"/>
            <a:ext cx="7781760" cy="365760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2590920" y="5516640"/>
            <a:ext cx="1482480" cy="9237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997200" y="565452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. doub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32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4444560" y="565452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mped at ~800nm (diode laser or lam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3+ doped fi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http://www.intechopen.com/source/html/48053/media/image19.png"/>
          <p:cNvPicPr/>
          <p:nvPr/>
        </p:nvPicPr>
        <p:blipFill>
          <a:blip r:embed="rId1"/>
          <a:stretch/>
        </p:blipFill>
        <p:spPr>
          <a:xfrm>
            <a:off x="762120" y="1676520"/>
            <a:ext cx="65624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nsition-metal ions:  3d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eksmaoptics.com/out/pictures/master/product/2/tisaphire.jpg"/>
          <p:cNvPicPr/>
          <p:nvPr/>
        </p:nvPicPr>
        <p:blipFill>
          <a:blip r:embed="rId2"/>
          <a:stretch/>
        </p:blipFill>
        <p:spPr>
          <a:xfrm>
            <a:off x="0" y="2050920"/>
            <a:ext cx="6705720" cy="4291200"/>
          </a:xfrm>
          <a:prstGeom prst="rect">
            <a:avLst/>
          </a:prstGeom>
          <a:ln w="0">
            <a:noFill/>
          </a:ln>
        </p:spPr>
      </p:pic>
      <p:sp>
        <p:nvSpPr>
          <p:cNvPr id="277" name="TextBox 3"/>
          <p:cNvSpPr/>
          <p:nvPr/>
        </p:nvSpPr>
        <p:spPr>
          <a:xfrm>
            <a:off x="6929280" y="2050920"/>
            <a:ext cx="17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3+: Al2O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6934320" y="3008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:Sapph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ly tu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6942960" y="4587840"/>
            <a:ext cx="196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-linewid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~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gene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ltrafast (fs) pul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osphors and Solid State Ligh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http://www.centasiathai.com/centasiathai.com/media/images/Products/Cl-200a/pict_002.jpg"/>
          <p:cNvPicPr/>
          <p:nvPr/>
        </p:nvPicPr>
        <p:blipFill>
          <a:blip r:embed="rId1"/>
          <a:stretch/>
        </p:blipFill>
        <p:spPr>
          <a:xfrm>
            <a:off x="685800" y="2438280"/>
            <a:ext cx="525780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8153640" cy="5192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2209680" y="1143000"/>
            <a:ext cx="5335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240" y="626256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credit: T. Ju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549360" y="3586320"/>
            <a:ext cx="1866960" cy="299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om-like (emitter) in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id (host latt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22360" y="3498840"/>
            <a:ext cx="2041560" cy="209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195120" y="2241720"/>
            <a:ext cx="2829240" cy="1257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pubs.rsc.org/services/images/RSCpubs.ePlatform.Service.FreeContent.ImageService.svc/ImageService/Articleimage/2015/CS/c4cs00446a/c4cs00446a-f4_hi-res.gif"/>
          <p:cNvPicPr/>
          <p:nvPr/>
        </p:nvPicPr>
        <p:blipFill>
          <a:blip r:embed="rId3"/>
          <a:stretch/>
        </p:blipFill>
        <p:spPr>
          <a:xfrm>
            <a:off x="3657600" y="2112840"/>
            <a:ext cx="5303880" cy="3942000"/>
          </a:xfrm>
          <a:prstGeom prst="rect">
            <a:avLst/>
          </a:prstGeom>
          <a:ln w="0">
            <a:noFill/>
          </a:ln>
        </p:spPr>
      </p:pic>
      <p:sp>
        <p:nvSpPr>
          <p:cNvPr id="75" name="Rounded Rectangle 5"/>
          <p:cNvSpPr/>
          <p:nvPr/>
        </p:nvSpPr>
        <p:spPr>
          <a:xfrm>
            <a:off x="6095880" y="2112840"/>
            <a:ext cx="2865600" cy="3942000"/>
          </a:xfrm>
          <a:custGeom>
            <a:avLst/>
            <a:gdLst>
              <a:gd name="textAreaLeft" fmla="*/ 139680 w 2865600"/>
              <a:gd name="textAreaRight" fmla="*/ 2725920 w 2865600"/>
              <a:gd name="textAreaTop" fmla="*/ 139680 h 3942000"/>
              <a:gd name="textAreaBottom" fmla="*/ 3802320 h 3942000"/>
            </a:gdLst>
            <a:ahLst/>
            <a:rect l="textAreaLeft" t="textAreaTop" r="textAreaRight" b="textAreaBottom"/>
            <a:pathLst>
              <a:path w="21600" h="29713">
                <a:moveTo>
                  <a:pt x="3600" y="0"/>
                </a:moveTo>
                <a:arcTo wR="3600" hR="3600" stAng="16200000" swAng="-5400000"/>
                <a:lnTo>
                  <a:pt x="0" y="26113"/>
                </a:lnTo>
                <a:arcTo wR="3600" hR="3600" stAng="10800000" swAng="-5400000"/>
                <a:lnTo>
                  <a:pt x="18000" y="297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3657600" y="5257800"/>
            <a:ext cx="243828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995760" y="16905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3746160" y="169056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pants (“i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34320" y="1922400"/>
            <a:ext cx="1904760" cy="947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6954840" y="5083200"/>
            <a:ext cx="1905120" cy="949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7164000" y="1981080"/>
            <a:ext cx="16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7202160" y="51418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traight Connector 13"/>
          <p:cNvSpPr/>
          <p:nvPr/>
        </p:nvSpPr>
        <p:spPr>
          <a:xfrm>
            <a:off x="7527960" y="3657600"/>
            <a:ext cx="70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traight Connector 19"/>
          <p:cNvSpPr/>
          <p:nvPr/>
        </p:nvSpPr>
        <p:spPr>
          <a:xfrm>
            <a:off x="7535880" y="4343400"/>
            <a:ext cx="70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760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escence systems/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52440" y="1219320"/>
            <a:ext cx="8265960" cy="5029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3240" y="626256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credit: T. Ju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632920" y="1138320"/>
            <a:ext cx="260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fects or do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simplified) general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274760" y="1863720"/>
            <a:ext cx="1905120" cy="947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258920" y="5499000"/>
            <a:ext cx="1905120" cy="94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505160" y="1922400"/>
            <a:ext cx="16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1508040" y="55576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7"/>
          <p:cNvSpPr/>
          <p:nvPr/>
        </p:nvSpPr>
        <p:spPr>
          <a:xfrm>
            <a:off x="1870200" y="3598920"/>
            <a:ext cx="69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8"/>
          <p:cNvSpPr/>
          <p:nvPr/>
        </p:nvSpPr>
        <p:spPr>
          <a:xfrm>
            <a:off x="1898640" y="4495680"/>
            <a:ext cx="70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1586880" y="41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1586520" y="3368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870200" y="3368520"/>
            <a:ext cx="699840" cy="230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898640" y="4265640"/>
            <a:ext cx="701640" cy="23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Straight Arrow Connector 14"/>
          <p:cNvCxnSpPr/>
          <p:nvPr/>
        </p:nvCxnSpPr>
        <p:spPr>
          <a:xfrm flipV="1">
            <a:off x="2057040" y="3367800"/>
            <a:ext cx="1080" cy="11278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01" name="Straight Arrow Connector 21"/>
          <p:cNvCxnSpPr/>
          <p:nvPr/>
        </p:nvCxnSpPr>
        <p:spPr>
          <a:xfrm>
            <a:off x="2219040" y="3598560"/>
            <a:ext cx="1080" cy="762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2" name="TextBox 22"/>
          <p:cNvSpPr/>
          <p:nvPr/>
        </p:nvSpPr>
        <p:spPr>
          <a:xfrm>
            <a:off x="196200" y="382896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efect/donor leve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3863520" y="1736640"/>
            <a:ext cx="579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lattice is an </a:t>
            </a:r>
            <a:r>
              <a:rPr b="0" lang="en-US" sz="1800" spc="-1" strike="noStrike">
                <a:solidFill>
                  <a:srgbClr val="d3ed18"/>
                </a:solidFill>
                <a:latin typeface="Times New Roman"/>
              </a:rPr>
              <a:t>insul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semicondu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tronic band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n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ba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minescence center (defect/dop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tom-like “emitter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-gap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wo/few-leve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tronic levels/states coupled to host latt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ibration (continuum/phonon band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bronic absorption &amp; e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asic idea similar to molecules) bu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25"/>
          <p:cNvSpPr/>
          <p:nvPr/>
        </p:nvSpPr>
        <p:spPr>
          <a:xfrm>
            <a:off x="6643800" y="2473200"/>
            <a:ext cx="1931760" cy="862200"/>
          </a:xfrm>
          <a:custGeom>
            <a:avLst/>
            <a:gdLst/>
            <a:ahLst/>
            <a:rect l="l" t="t" r="r" b="b"/>
            <a:pathLst>
              <a:path w="1931831" h="862983">
                <a:moveTo>
                  <a:pt x="0" y="38636"/>
                </a:moveTo>
                <a:cubicBezTo>
                  <a:pt x="224654" y="53613"/>
                  <a:pt x="183608" y="58752"/>
                  <a:pt x="425003" y="38636"/>
                </a:cubicBezTo>
                <a:cubicBezTo>
                  <a:pt x="451026" y="36467"/>
                  <a:pt x="476452" y="29631"/>
                  <a:pt x="502276" y="25757"/>
                </a:cubicBezTo>
                <a:lnTo>
                  <a:pt x="682581" y="0"/>
                </a:lnTo>
                <a:lnTo>
                  <a:pt x="1519707" y="12879"/>
                </a:lnTo>
                <a:cubicBezTo>
                  <a:pt x="1538526" y="13424"/>
                  <a:pt x="1644989" y="49177"/>
                  <a:pt x="1648496" y="51515"/>
                </a:cubicBezTo>
                <a:cubicBezTo>
                  <a:pt x="1661375" y="60101"/>
                  <a:pt x="1673289" y="70351"/>
                  <a:pt x="1687133" y="77273"/>
                </a:cubicBezTo>
                <a:cubicBezTo>
                  <a:pt x="1793775" y="130595"/>
                  <a:pt x="1653676" y="42090"/>
                  <a:pt x="1764406" y="115910"/>
                </a:cubicBezTo>
                <a:cubicBezTo>
                  <a:pt x="1856454" y="253979"/>
                  <a:pt x="1713104" y="44431"/>
                  <a:pt x="1828800" y="193183"/>
                </a:cubicBezTo>
                <a:cubicBezTo>
                  <a:pt x="1847806" y="217619"/>
                  <a:pt x="1880316" y="270456"/>
                  <a:pt x="1880316" y="270456"/>
                </a:cubicBezTo>
                <a:cubicBezTo>
                  <a:pt x="1899779" y="348306"/>
                  <a:pt x="1887600" y="305187"/>
                  <a:pt x="1918952" y="399245"/>
                </a:cubicBezTo>
                <a:lnTo>
                  <a:pt x="1931831" y="437881"/>
                </a:lnTo>
                <a:cubicBezTo>
                  <a:pt x="1927538" y="485104"/>
                  <a:pt x="1925658" y="532608"/>
                  <a:pt x="1918952" y="579549"/>
                </a:cubicBezTo>
                <a:cubicBezTo>
                  <a:pt x="1917032" y="592988"/>
                  <a:pt x="1914555" y="607585"/>
                  <a:pt x="1906074" y="618186"/>
                </a:cubicBezTo>
                <a:cubicBezTo>
                  <a:pt x="1896405" y="630273"/>
                  <a:pt x="1880316" y="635357"/>
                  <a:pt x="1867437" y="643943"/>
                </a:cubicBezTo>
                <a:cubicBezTo>
                  <a:pt x="1858851" y="656822"/>
                  <a:pt x="1852624" y="671635"/>
                  <a:pt x="1841679" y="682580"/>
                </a:cubicBezTo>
                <a:cubicBezTo>
                  <a:pt x="1810742" y="713518"/>
                  <a:pt x="1801067" y="705505"/>
                  <a:pt x="1764406" y="721217"/>
                </a:cubicBezTo>
                <a:cubicBezTo>
                  <a:pt x="1746760" y="728780"/>
                  <a:pt x="1729559" y="737449"/>
                  <a:pt x="1712890" y="746974"/>
                </a:cubicBezTo>
                <a:cubicBezTo>
                  <a:pt x="1699451" y="754653"/>
                  <a:pt x="1688938" y="767837"/>
                  <a:pt x="1674254" y="772732"/>
                </a:cubicBezTo>
                <a:cubicBezTo>
                  <a:pt x="1649481" y="780990"/>
                  <a:pt x="1622587" y="780490"/>
                  <a:pt x="1596981" y="785611"/>
                </a:cubicBezTo>
                <a:cubicBezTo>
                  <a:pt x="1579624" y="789082"/>
                  <a:pt x="1562484" y="793627"/>
                  <a:pt x="1545465" y="798490"/>
                </a:cubicBezTo>
                <a:cubicBezTo>
                  <a:pt x="1532412" y="802219"/>
                  <a:pt x="1518696" y="804776"/>
                  <a:pt x="1506829" y="811369"/>
                </a:cubicBezTo>
                <a:cubicBezTo>
                  <a:pt x="1405529" y="867646"/>
                  <a:pt x="1465194" y="862884"/>
                  <a:pt x="1403798" y="862884"/>
                </a:cubicBezTo>
              </a:path>
            </a:pathLst>
          </a:custGeom>
          <a:noFill/>
          <a:ln w="25560">
            <a:solidFill>
              <a:srgbClr val="89a4a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26"/>
          <p:cNvSpPr/>
          <p:nvPr/>
        </p:nvSpPr>
        <p:spPr>
          <a:xfrm>
            <a:off x="3809880" y="4816440"/>
            <a:ext cx="525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-like electronic (optical) exci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extende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ons (vibration) in host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ras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ctronic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&amp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br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6718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Vibronic absorption and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900520" y="1338120"/>
            <a:ext cx="61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-like electronic (optical) exci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extende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ons (vibration) in host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ras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ctronic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br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41400" y="1371600"/>
            <a:ext cx="2828880" cy="1257480"/>
          </a:xfrm>
          <a:prstGeom prst="rect">
            <a:avLst/>
          </a:prstGeom>
          <a:ln w="0">
            <a:noFill/>
          </a:ln>
        </p:spPr>
      </p:pic>
      <p:sp>
        <p:nvSpPr>
          <p:cNvPr id="110" name="Straight Connector 5"/>
          <p:cNvSpPr/>
          <p:nvPr/>
        </p:nvSpPr>
        <p:spPr>
          <a:xfrm>
            <a:off x="426960" y="3809880"/>
            <a:ext cx="178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1548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145080" y="3652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26960" y="3143160"/>
            <a:ext cx="1782720" cy="66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14"/>
          <p:cNvSpPr/>
          <p:nvPr/>
        </p:nvSpPr>
        <p:spPr>
          <a:xfrm>
            <a:off x="426960" y="5410080"/>
            <a:ext cx="178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426960" y="4743360"/>
            <a:ext cx="1782720" cy="66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Straight Arrow Connector 16"/>
          <p:cNvCxnSpPr/>
          <p:nvPr/>
        </p:nvCxnSpPr>
        <p:spPr>
          <a:xfrm flipV="1">
            <a:off x="599760" y="3475800"/>
            <a:ext cx="1080" cy="19342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17" name="Straight Arrow Connector 19"/>
          <p:cNvCxnSpPr/>
          <p:nvPr/>
        </p:nvCxnSpPr>
        <p:spPr>
          <a:xfrm>
            <a:off x="1455480" y="3809520"/>
            <a:ext cx="1080" cy="1267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8" name="Straight Connector 24"/>
          <p:cNvSpPr/>
          <p:nvPr/>
        </p:nvSpPr>
        <p:spPr>
          <a:xfrm>
            <a:off x="457200" y="3476520"/>
            <a:ext cx="18381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25"/>
          <p:cNvSpPr/>
          <p:nvPr/>
        </p:nvSpPr>
        <p:spPr>
          <a:xfrm>
            <a:off x="463680" y="5075280"/>
            <a:ext cx="18381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TextBox 26" descr=""/>
          <p:cNvPicPr/>
          <p:nvPr/>
        </p:nvPicPr>
        <p:blipFill>
          <a:blip r:embed="rId2"/>
          <a:stretch/>
        </p:blipFill>
        <p:spPr>
          <a:xfrm>
            <a:off x="2279520" y="3425760"/>
            <a:ext cx="847800" cy="407880"/>
          </a:xfrm>
          <a:prstGeom prst="rect">
            <a:avLst/>
          </a:prstGeom>
          <a:ln w="0">
            <a:noFill/>
          </a:ln>
        </p:spPr>
      </p:pic>
      <p:cxnSp>
        <p:nvCxnSpPr>
          <p:cNvPr id="121" name="Straight Arrow Connector 30"/>
          <p:cNvCxnSpPr/>
          <p:nvPr/>
        </p:nvCxnSpPr>
        <p:spPr>
          <a:xfrm>
            <a:off x="2303280" y="3476520"/>
            <a:ext cx="1080" cy="362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arrow" w="med"/>
            <a:tailEnd len="med" type="arrow" w="med"/>
          </a:ln>
        </p:spPr>
      </p:cxnSp>
      <p:pic>
        <p:nvPicPr>
          <p:cNvPr id="122" name="TextBox 32" descr=""/>
          <p:cNvPicPr/>
          <p:nvPr/>
        </p:nvPicPr>
        <p:blipFill>
          <a:blip r:embed="rId3"/>
          <a:stretch/>
        </p:blipFill>
        <p:spPr>
          <a:xfrm>
            <a:off x="2266920" y="5010120"/>
            <a:ext cx="903240" cy="403200"/>
          </a:xfrm>
          <a:prstGeom prst="rect">
            <a:avLst/>
          </a:prstGeom>
          <a:ln w="0">
            <a:noFill/>
          </a:ln>
        </p:spPr>
      </p:pic>
      <p:cxnSp>
        <p:nvCxnSpPr>
          <p:cNvPr id="123" name="Straight Arrow Connector 33"/>
          <p:cNvCxnSpPr/>
          <p:nvPr/>
        </p:nvCxnSpPr>
        <p:spPr>
          <a:xfrm>
            <a:off x="2287080" y="5065560"/>
            <a:ext cx="1080" cy="362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arrow" w="med"/>
            <a:tailEnd len="med" type="arrow" w="med"/>
          </a:ln>
        </p:spPr>
      </p:cxnSp>
      <p:sp>
        <p:nvSpPr>
          <p:cNvPr id="124" name="TextBox 34"/>
          <p:cNvSpPr/>
          <p:nvPr/>
        </p:nvSpPr>
        <p:spPr>
          <a:xfrm>
            <a:off x="465480" y="3054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vibronic ba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4"/>
          <a:stretch/>
        </p:blipFill>
        <p:spPr>
          <a:xfrm>
            <a:off x="3276720" y="2843280"/>
            <a:ext cx="3062160" cy="26226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6"/>
          <p:cNvSpPr/>
          <p:nvPr/>
        </p:nvSpPr>
        <p:spPr>
          <a:xfrm>
            <a:off x="610560" y="5643720"/>
            <a:ext cx="247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kes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 phonon line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5"/>
          <a:stretch/>
        </p:blipFill>
        <p:spPr>
          <a:xfrm>
            <a:off x="6629400" y="2868480"/>
            <a:ext cx="2133720" cy="2619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9"/>
          <p:cNvSpPr/>
          <p:nvPr/>
        </p:nvSpPr>
        <p:spPr>
          <a:xfrm>
            <a:off x="5873040" y="5659560"/>
            <a:ext cx="360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ing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guration coordinat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Straight Arrow Connector 38"/>
          <p:cNvCxnSpPr/>
          <p:nvPr/>
        </p:nvCxnSpPr>
        <p:spPr>
          <a:xfrm>
            <a:off x="599760" y="3476520"/>
            <a:ext cx="856440" cy="334080"/>
          </a:xfrm>
          <a:prstGeom prst="straightConnector1">
            <a:avLst/>
          </a:prstGeom>
          <a:ln w="9360">
            <a:solidFill>
              <a:srgbClr val="ffc000"/>
            </a:solidFill>
            <a:prstDash val="dash"/>
            <a:miter/>
            <a:tailEnd len="med" type="arrow" w="med"/>
          </a:ln>
        </p:spPr>
      </p:cxnSp>
      <p:cxnSp>
        <p:nvCxnSpPr>
          <p:cNvPr id="131" name="Straight Arrow Connector 43"/>
          <p:cNvCxnSpPr/>
          <p:nvPr/>
        </p:nvCxnSpPr>
        <p:spPr>
          <a:xfrm flipH="1">
            <a:off x="599760" y="5079600"/>
            <a:ext cx="878400" cy="330840"/>
          </a:xfrm>
          <a:prstGeom prst="straightConnector1">
            <a:avLst/>
          </a:prstGeom>
          <a:ln w="9360">
            <a:solidFill>
              <a:srgbClr val="ffc000"/>
            </a:solidFill>
            <a:prstDash val="dash"/>
            <a:miter/>
            <a:tailEnd len="med" type="arrow" w="med"/>
          </a:ln>
        </p:spPr>
      </p:cxnSp>
      <p:sp>
        <p:nvSpPr>
          <p:cNvPr id="132" name="TextBox 45"/>
          <p:cNvSpPr/>
          <p:nvPr/>
        </p:nvSpPr>
        <p:spPr>
          <a:xfrm>
            <a:off x="2819520" y="5643720"/>
            <a:ext cx="360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ib/pho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pling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broad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lor Center/Defect Center:  </a:t>
            </a:r>
            <a:r>
              <a:rPr b="0" lang="en-US" sz="3600" spc="-1" strike="noStrike" u="sng">
                <a:solidFill>
                  <a:srgbClr val="c00000"/>
                </a:solidFill>
                <a:uFillTx/>
                <a:latin typeface="Arial"/>
              </a:rPr>
              <a:t>F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-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6255000" y="12193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 alkali hal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https://upload.wikimedia.org/wikipedia/commons/thumb/7/7e/NaCl_-_F-center.jpg/220px-NaCl_-_F-center.jpg"/>
          <p:cNvPicPr/>
          <p:nvPr/>
        </p:nvPicPr>
        <p:blipFill>
          <a:blip r:embed="rId1"/>
          <a:stretch/>
        </p:blipFill>
        <p:spPr>
          <a:xfrm>
            <a:off x="122400" y="1419120"/>
            <a:ext cx="3120840" cy="20862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-17640" y="6265800"/>
            <a:ext cx="92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education.mrsec.wisc.edu/background/F_center/index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http://education.mrsec.wisc.edu/background/F_center/images/F-center-spectra.jpg"/>
          <p:cNvPicPr/>
          <p:nvPr/>
        </p:nvPicPr>
        <p:blipFill>
          <a:blip r:embed="rId2"/>
          <a:stretch/>
        </p:blipFill>
        <p:spPr>
          <a:xfrm>
            <a:off x="101520" y="3568680"/>
            <a:ext cx="3022560" cy="2709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ttp://education.mrsec.wisc.edu/background/F_center/images/NaCl_KCl_KBr.jpg"/>
          <p:cNvPicPr/>
          <p:nvPr/>
        </p:nvPicPr>
        <p:blipFill>
          <a:blip r:embed="rId3"/>
          <a:stretch/>
        </p:blipFill>
        <p:spPr>
          <a:xfrm>
            <a:off x="3425760" y="1424160"/>
            <a:ext cx="2212920" cy="16588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9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8"/>
          <p:cNvGrpSpPr/>
          <p:nvPr/>
        </p:nvGrpSpPr>
        <p:grpSpPr>
          <a:xfrm>
            <a:off x="3409920" y="1708200"/>
            <a:ext cx="5676840" cy="4659120"/>
            <a:chOff x="3409920" y="1708200"/>
            <a:chExt cx="5676840" cy="4659120"/>
          </a:xfrm>
        </p:grpSpPr>
        <p:pic>
          <p:nvPicPr>
            <p:cNvPr id="141" name="Picture 5" descr=""/>
            <p:cNvPicPr/>
            <p:nvPr/>
          </p:nvPicPr>
          <p:blipFill>
            <a:blip r:embed="rId4"/>
            <a:stretch/>
          </p:blipFill>
          <p:spPr>
            <a:xfrm>
              <a:off x="3409920" y="3376080"/>
              <a:ext cx="5676840" cy="29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0" descr=""/>
            <p:cNvPicPr/>
            <p:nvPr/>
          </p:nvPicPr>
          <p:blipFill>
            <a:blip r:embed="rId5"/>
            <a:stretch/>
          </p:blipFill>
          <p:spPr>
            <a:xfrm>
              <a:off x="6025320" y="1708200"/>
              <a:ext cx="3040920" cy="159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TextBox 13"/>
          <p:cNvSpPr/>
          <p:nvPr/>
        </p:nvSpPr>
        <p:spPr>
          <a:xfrm>
            <a:off x="5838120" y="1708200"/>
            <a:ext cx="142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ed 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ess cation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radiation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5681160" y="3568680"/>
            <a:ext cx="2323440" cy="459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235080" y="1693800"/>
            <a:ext cx="5676840" cy="4657680"/>
            <a:chOff x="235080" y="1693800"/>
            <a:chExt cx="5676840" cy="4657680"/>
          </a:xfrm>
        </p:grpSpPr>
        <p:pic>
          <p:nvPicPr>
            <p:cNvPr id="147" name="Picture 5" descr=""/>
            <p:cNvPicPr/>
            <p:nvPr/>
          </p:nvPicPr>
          <p:blipFill>
            <a:blip r:embed="rId1"/>
            <a:stretch/>
          </p:blipFill>
          <p:spPr>
            <a:xfrm>
              <a:off x="235080" y="3360960"/>
              <a:ext cx="5676840" cy="29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0" descr=""/>
            <p:cNvPicPr/>
            <p:nvPr/>
          </p:nvPicPr>
          <p:blipFill>
            <a:blip r:embed="rId2"/>
            <a:stretch/>
          </p:blipFill>
          <p:spPr>
            <a:xfrm>
              <a:off x="2850480" y="1693800"/>
              <a:ext cx="3040920" cy="159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TextBox 6"/>
          <p:cNvSpPr/>
          <p:nvPr/>
        </p:nvSpPr>
        <p:spPr>
          <a:xfrm>
            <a:off x="276480" y="2830680"/>
            <a:ext cx="2323440" cy="459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https://upload.wikimedia.org/wikipedia/commons/thumb/7/7e/NaCl_-_F-center.jpg/220px-NaCl_-_F-center.jpg"/>
          <p:cNvPicPr/>
          <p:nvPr/>
        </p:nvPicPr>
        <p:blipFill>
          <a:blip r:embed="rId3"/>
          <a:stretch/>
        </p:blipFill>
        <p:spPr>
          <a:xfrm>
            <a:off x="122400" y="773280"/>
            <a:ext cx="2757240" cy="1841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8"/>
          <p:cNvSpPr/>
          <p:nvPr/>
        </p:nvSpPr>
        <p:spPr>
          <a:xfrm>
            <a:off x="3565440" y="912960"/>
            <a:ext cx="40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tron in box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3-24T18:55:54Z</dcterms:modified>
  <cp:revision>627</cp:revision>
  <dc:subject>Physics 272H, Spring 2007</dc:subject>
  <dc:title>Lecture 2</dc:title>
</cp:coreProperties>
</file>