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30B-B49E-4722-9DD1-AABEF425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B44-5AE2-467B-9CEE-7558FA8E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359-6502-4A31-B9BB-CEE999E0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D84-4CA1-4214-B8D6-CA39C74E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B50-AA51-4E2A-9082-0235CB8B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B3BF-561F-45DA-8457-BFA6E5FA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CA23-B13C-4CAF-B45C-13025747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DB11-8E09-4E10-80DF-15ED483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BE73-84AD-4C05-9080-7229651C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DEB1-42EC-4C8A-B270-A5CB7E53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834-B679-4F84-B25D-27DFF4CA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8735-AEAF-401A-A20C-A1801AD4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2F10-5711-4E13-A496-ECEE8ADF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0587-FBC3-4228-991A-0589A044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5213-27D9-490F-9624-0C885131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E8F2-65BD-492C-9658-47F2B2DD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E418-1FEE-4F48-BA8F-E54E6B3C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CF5B-FC47-46E5-A4A9-4AC60FF1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106-0469-40F5-9343-C15B48DD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4C7-7E58-46A4-A8F7-FB8445A7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9B2-EFBC-4F3C-8A80-039B40BF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DA7-E7FE-4C15-A2A6-1853D613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6C7-C1B0-4C85-BC46-D9F54D3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4A4-8C53-40FD-BC2A-81F1D39A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A1F8-B282-49D5-99E8-A455BF2845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36D3-722F-43F7-8E29-C8A301A31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DA66F130-2F65-4DE4-BF6E-DBD011094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43EB403B-D4E6-4318-A652-95B6BB7A3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FA0F2168-A3F5-4468-9C67-8443EE96C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8726-A7BB-4588-8056-41FA37AAD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6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and (Organic) Molecular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G09_036"/>
          <p:cNvPicPr/>
          <p:nvPr/>
        </p:nvPicPr>
        <p:blipFill>
          <a:blip r:embed="rId1"/>
          <a:stretch/>
        </p:blipFill>
        <p:spPr>
          <a:xfrm>
            <a:off x="685800" y="1066680"/>
            <a:ext cx="6553080" cy="43704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0" y="547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Os from 2p atomic orb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53053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1 sigma bo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overlap of orbitals along the internuclear 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2 pi bon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overlap of orbitals above and below (or to the sides) of the internuclear 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30760" y="1270080"/>
            <a:ext cx="59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915840" y="335268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914400" y="180324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1523880" y="3124080"/>
            <a:ext cx="9907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1523880" y="4114800"/>
            <a:ext cx="10670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43400" cy="4017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2618280" y="68580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states and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997560" y="59436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 (S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3441600" y="59436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 (S1, S2, …) or Triplet (T1,T2,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5166720" y="1809720"/>
            <a:ext cx="396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ity (2S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=0 sing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1 tripl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dipole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cross S and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hoton does not flip sp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orescence vs phosph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7"/>
          <p:cNvCxnSpPr/>
          <p:nvPr/>
        </p:nvCxnSpPr>
        <p:spPr>
          <a:xfrm flipH="1">
            <a:off x="4495320" y="4647960"/>
            <a:ext cx="1905840" cy="1526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99" name="Straight Arrow Connector 10"/>
          <p:cNvCxnSpPr/>
          <p:nvPr/>
        </p:nvCxnSpPr>
        <p:spPr>
          <a:xfrm flipH="1">
            <a:off x="7771680" y="4738320"/>
            <a:ext cx="229320" cy="12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5118120" cy="42544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6639120" y="220968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S allow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-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-vibron c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6536160" y="4876920"/>
            <a:ext cx="23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add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s to en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My Picture"/>
          <p:cNvPicPr/>
          <p:nvPr/>
        </p:nvPicPr>
        <p:blipFill>
          <a:blip r:embed="rId1"/>
          <a:stretch/>
        </p:blipFill>
        <p:spPr>
          <a:xfrm>
            <a:off x="304920" y="838080"/>
            <a:ext cx="7116480" cy="56390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7474680" y="36432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s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olympus.magnet.fsu.edu/primer/techniques/confocal/images/fluorescenceintrofigure1.jpg"/>
          <p:cNvPicPr/>
          <p:nvPr/>
        </p:nvPicPr>
        <p:blipFill>
          <a:blip r:embed="rId1"/>
          <a:stretch/>
        </p:blipFill>
        <p:spPr>
          <a:xfrm>
            <a:off x="1143000" y="914400"/>
            <a:ext cx="58672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204040" cy="2710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4120560" y="121932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 of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689040" y="49197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6328080" y="49910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3511800" y="506880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881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2745720" y="685800"/>
            <a:ext cx="33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bronic cou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4038480" cy="498960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3" descr=""/>
          <p:cNvPicPr/>
          <p:nvPr/>
        </p:nvPicPr>
        <p:blipFill>
          <a:blip r:embed="rId2"/>
          <a:stretch/>
        </p:blipFill>
        <p:spPr>
          <a:xfrm>
            <a:off x="2779560" y="4876920"/>
            <a:ext cx="3402000" cy="5364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7" descr=""/>
          <p:cNvPicPr/>
          <p:nvPr/>
        </p:nvPicPr>
        <p:blipFill>
          <a:blip r:embed="rId3"/>
          <a:stretch/>
        </p:blipFill>
        <p:spPr>
          <a:xfrm>
            <a:off x="3352680" y="2517840"/>
            <a:ext cx="3382920" cy="5065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6561720" y="3505320"/>
            <a:ext cx="18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60516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2819520" y="1600200"/>
            <a:ext cx="9144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www.soft-matter.uni-tuebingen.de/images/vibronic-progression.pn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2274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4968000" y="2286000"/>
            <a:ext cx="402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diagram (coor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-Oppenhe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-Cond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ang-Rhys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c Materials – basic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4343400"/>
            <a:ext cx="3996000" cy="1866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267080" y="4079880"/>
            <a:ext cx="4819680" cy="1960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1314000" y="6189840"/>
            <a:ext cx="148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ylene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5931720" y="6189840"/>
            <a:ext cx="146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zene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163800" y="1333440"/>
            <a:ext cx="7547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: 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 hybri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nd (orb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ing and antibonding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ic and linear conjug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ocalized” among bonds  vs among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onfinement effect”  (size of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ly coupled “molecule” identity in molecular soli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www.single-molecule.nl/wp-content/uploads/2013/12/spectrum.gif"/>
          <p:cNvPicPr/>
          <p:nvPr/>
        </p:nvPicPr>
        <p:blipFill>
          <a:blip r:embed="rId1"/>
          <a:stretch/>
        </p:blipFill>
        <p:spPr>
          <a:xfrm>
            <a:off x="6286680" y="685800"/>
            <a:ext cx="2857320" cy="2438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76320" y="1600200"/>
            <a:ext cx="6298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371760" cy="52261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9840" y="6019920"/>
            <a:ext cx="45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. 8.11  absorption polyyne:  H-(CC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https://encrypted-tbn0.gstatic.com/images?q=tbn:ANd9GcTgiZ4_XtzgPGVdILu-0H8uBIJBJnlmfb9-tuihQYPX-LCl41Yw8Q"/>
          <p:cNvPicPr/>
          <p:nvPr/>
        </p:nvPicPr>
        <p:blipFill>
          <a:blip r:embed="rId2"/>
          <a:stretch/>
        </p:blipFill>
        <p:spPr>
          <a:xfrm>
            <a:off x="4724280" y="2125800"/>
            <a:ext cx="3998880" cy="2805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7319520" y="21258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735440" y="114300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onfinement/siz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98360" y="2575080"/>
            <a:ext cx="2992680" cy="1447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Image result for anthracene"/>
          <p:cNvPicPr/>
          <p:nvPr/>
        </p:nvPicPr>
        <p:blipFill>
          <a:blip r:embed="rId2"/>
          <a:stretch/>
        </p:blipFill>
        <p:spPr>
          <a:xfrm>
            <a:off x="228600" y="762120"/>
            <a:ext cx="2800440" cy="1628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blog.reseapro.com/wp-content/uploads/2013/09/Anthracene-abs-and-emission1.png"/>
          <p:cNvPicPr/>
          <p:nvPr/>
        </p:nvPicPr>
        <p:blipFill>
          <a:blip r:embed="rId3"/>
          <a:stretch/>
        </p:blipFill>
        <p:spPr>
          <a:xfrm>
            <a:off x="3525840" y="720720"/>
            <a:ext cx="4600440" cy="3305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depts.washington.edu/cmditr/modules/oled/400px-Oled1_19_jablonski_ratio.png"/>
          <p:cNvPicPr/>
          <p:nvPr/>
        </p:nvPicPr>
        <p:blipFill>
          <a:blip r:embed="rId4"/>
          <a:stretch/>
        </p:blipFill>
        <p:spPr>
          <a:xfrm>
            <a:off x="219240" y="4032360"/>
            <a:ext cx="3089160" cy="2324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s://www2.chemistry.msu.edu/faculty/reusch/VirtTxtJml/Spectrpy/Images/polyarom.gif"/>
          <p:cNvPicPr/>
          <p:nvPr/>
        </p:nvPicPr>
        <p:blipFill>
          <a:blip r:embed="rId5"/>
          <a:stretch/>
        </p:blipFill>
        <p:spPr>
          <a:xfrm>
            <a:off x="4191120" y="403236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234" name="Oval 4"/>
          <p:cNvSpPr/>
          <p:nvPr/>
        </p:nvSpPr>
        <p:spPr>
          <a:xfrm>
            <a:off x="6477120" y="914400"/>
            <a:ext cx="1828800" cy="662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5520" y="48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Principle Branche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c opto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ght-Emitting Polymer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olymer Light Emitting Diode  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L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latively larg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 :Conjugated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Small Molecule Organic Light   Emitting Diod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MOL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lativel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(even monom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Metal ch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OLED_Materials"/>
          <p:cNvPicPr/>
          <p:nvPr/>
        </p:nvPicPr>
        <p:blipFill>
          <a:blip r:embed="rId1"/>
          <a:stretch/>
        </p:blipFill>
        <p:spPr>
          <a:xfrm>
            <a:off x="228600" y="1128600"/>
            <a:ext cx="84582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thin film organic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1"/>
          <a:stretch/>
        </p:blipFill>
        <p:spPr>
          <a:xfrm>
            <a:off x="952560" y="1979640"/>
            <a:ext cx="3162240" cy="1601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952520" y="3200400"/>
            <a:ext cx="4038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High voltage (80-100 V) - Inject charge into organic crys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work function alloy-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layers, cathode were vacuum depos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2"/>
          <a:stretch/>
        </p:blipFill>
        <p:spPr>
          <a:xfrm>
            <a:off x="228600" y="3927600"/>
            <a:ext cx="2514600" cy="1806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5105520" y="19177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:Ag – 10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inescent film - 600A</a:t>
            </a:r>
            <a:r>
              <a:rPr b="0" lang="en-US" sz="1600" spc="-1" strike="noStrike">
                <a:solidFill>
                  <a:srgbClr val="000000"/>
                </a:solidFill>
                <a:latin typeface="SymbolPS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amine – 750A</a:t>
            </a:r>
            <a:r>
              <a:rPr b="0" lang="en-US" sz="1600" spc="-1" strike="noStrike">
                <a:solidFill>
                  <a:srgbClr val="000000"/>
                </a:solidFill>
                <a:latin typeface="SymbolPS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3733920" y="617220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W. Tang &amp; S.A. VanSlyke, Kodak  Research Labor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3"/>
          <a:stretch/>
        </p:blipFill>
        <p:spPr>
          <a:xfrm>
            <a:off x="3000240" y="4010040"/>
            <a:ext cx="1724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607680"/>
            <a:ext cx="7809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79320"/>
                <a:tab algn="l" pos="1360440"/>
                <a:tab algn="l" pos="2041560"/>
                <a:tab algn="l" pos="2722680"/>
                <a:tab algn="l" pos="3403440"/>
                <a:tab algn="l" pos="4084560"/>
                <a:tab algn="l" pos="4765680"/>
                <a:tab algn="l" pos="5446800"/>
                <a:tab algn="l" pos="6127920"/>
                <a:tab algn="l" pos="6808680"/>
                <a:tab algn="l" pos="74898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OLE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40400" y="2149560"/>
            <a:ext cx="3840120" cy="3601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69960" y="2158920"/>
            <a:ext cx="387828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8600" y="685800"/>
            <a:ext cx="8381880" cy="5638680"/>
            <a:chOff x="228600" y="685800"/>
            <a:chExt cx="8381880" cy="5638680"/>
          </a:xfrm>
        </p:grpSpPr>
        <p:pic>
          <p:nvPicPr>
            <p:cNvPr id="250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556272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4"/>
            <p:cNvSpPr/>
            <p:nvPr/>
          </p:nvSpPr>
          <p:spPr>
            <a:xfrm>
              <a:off x="6172200" y="1447560"/>
              <a:ext cx="243828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LED is a display device that sandwiches carbon based films between the two electrodes and when voltage is applied creates l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8"/>
          <p:cNvSpPr/>
          <p:nvPr/>
        </p:nvSpPr>
        <p:spPr>
          <a:xfrm>
            <a:off x="7086600" y="6277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ol-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Layer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461880" y="2381400"/>
            <a:ext cx="4029120" cy="3562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5562720" y="2736720"/>
            <a:ext cx="2666880" cy="2521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3"/>
          <p:cNvSpPr/>
          <p:nvPr/>
        </p:nvSpPr>
        <p:spPr>
          <a:xfrm>
            <a:off x="779760" y="141588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c electroluminescene (EL) is the electrically dri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of light from non-crystalline organic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 level diagram of a two-layer 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, LUMO of the HTL is slightly above that of the E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"/>
          <p:cNvSpPr/>
          <p:nvPr/>
        </p:nvSpPr>
        <p:spPr>
          <a:xfrm>
            <a:off x="4173120" y="6248520"/>
            <a:ext cx="442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Hung et al.,Materials Science and Engineering R 39, 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 1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74564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464832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new orbitals are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cess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this means is that both the s and one p orbital are involved in bonding to the connectin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-27000" y="533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ation of sp hybrid orbital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bination of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 orbital and a p orbital produces 2 new orbitals called sp 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rcRect l="0" t="26022" r="0" b="25994"/>
          <a:stretch/>
        </p:blipFill>
        <p:spPr>
          <a:xfrm>
            <a:off x="0" y="2027160"/>
            <a:ext cx="9144000" cy="2925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8308800" y="6289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U c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400" y="607680"/>
            <a:ext cx="7809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79320"/>
                <a:tab algn="l" pos="1360440"/>
                <a:tab algn="l" pos="2041560"/>
                <a:tab algn="l" pos="2722680"/>
                <a:tab algn="l" pos="3403440"/>
                <a:tab algn="l" pos="4084560"/>
                <a:tab algn="l" pos="4765680"/>
                <a:tab algn="l" pos="5446800"/>
                <a:tab algn="l" pos="6127920"/>
                <a:tab algn="l" pos="6808680"/>
                <a:tab algn="l" pos="74898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71400" y="2554200"/>
            <a:ext cx="3882960" cy="277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610160" y="2540160"/>
            <a:ext cx="1712880" cy="2135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6362640" y="2540160"/>
            <a:ext cx="2121120" cy="1823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4"/>
          <a:stretch/>
        </p:blipFill>
        <p:spPr>
          <a:xfrm>
            <a:off x="6383160" y="4392720"/>
            <a:ext cx="20908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773280" y="1523880"/>
            <a:ext cx="525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E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morph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ganic electrical laser still challeng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G09_016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76320" y="533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ation of 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FG09_017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944280" y="45720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ation of sp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14480" y="1295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gma bo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ond where the line of electron density is concentrated symmetrically along the line connecting the two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FG09_012"/>
          <p:cNvPicPr/>
          <p:nvPr/>
        </p:nvPicPr>
        <p:blipFill>
          <a:blip r:embed="rId1"/>
          <a:srcRect l="0" t="31505" r="0" b="31505"/>
          <a:stretch/>
        </p:blipFill>
        <p:spPr>
          <a:xfrm>
            <a:off x="228600" y="3657600"/>
            <a:ext cx="891540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G09_020"/>
          <p:cNvPicPr/>
          <p:nvPr/>
        </p:nvPicPr>
        <p:blipFill>
          <a:blip r:embed="rId1"/>
          <a:srcRect l="24003" t="0" r="24003" b="0"/>
          <a:stretch/>
        </p:blipFill>
        <p:spPr>
          <a:xfrm>
            <a:off x="4495680" y="990720"/>
            <a:ext cx="4456080" cy="5715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52280" y="91440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 bo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ond where the overlapping regions exist above and below the internuclear axis (with a nodal plane along the internuclear ax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G09_030"/>
          <p:cNvPicPr/>
          <p:nvPr/>
        </p:nvPicPr>
        <p:blipFill>
          <a:blip r:embed="rId1"/>
          <a:srcRect l="0" t="22503" r="0" b="22503"/>
          <a:stretch/>
        </p:blipFill>
        <p:spPr>
          <a:xfrm>
            <a:off x="0" y="19051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-20520" y="525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 delocaliz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nding is present in all molecules where we can draw resonance structures with the multiple bonds located in different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5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 is an excellent example.  For benzene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bitals all overlap leading to a very delocalized electr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-152280" y="56844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xample: 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benzene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8274600" y="63072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U c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G09_032"/>
          <p:cNvPicPr/>
          <p:nvPr/>
        </p:nvPicPr>
        <p:blipFill>
          <a:blip r:embed="rId1"/>
          <a:srcRect l="0" t="4501" r="0" b="13502"/>
          <a:stretch/>
        </p:blipFill>
        <p:spPr>
          <a:xfrm>
            <a:off x="0" y="66996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0" y="567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ne that is lower in energy is called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onding orbi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ne higher in energy is called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bonding orbi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1981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wo new orbitals have different energie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060160" y="4800600"/>
            <a:ext cx="163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680720" y="1600200"/>
            <a:ext cx="22777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T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-1600200" y="64944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eculuar Orbital (MO)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3-08T13:43:01Z</dcterms:modified>
  <cp:revision>548</cp:revision>
  <dc:subject>Physics 272H, Spring 2007</dc:subject>
  <dc:title>Lecture 2</dc:title>
</cp:coreProperties>
</file>