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934-AA41-4E77-BDFA-55DEFD50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D51-F5A4-452E-95C2-DC296FC2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766-0F41-4CBF-B648-4BA1AD92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61B-0304-4024-B452-EF7CB3FE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EB2-6935-445C-80E5-4E04B4B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2733-10C9-4B1E-915F-9F4F8F5B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B91-1AF7-4545-8BFF-2AFD9B9A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D550-1ADE-4A96-9069-80EA182B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9AAF-3044-4302-A447-4ECE40A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B82C-B12D-42F4-A11B-14D05C6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7A4-3739-4925-95BA-64A50763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E440-0E60-472F-87E6-C688914B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AAA-8997-4FA6-A4EE-0072B82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8D9-9CCE-4E37-8E19-C90D839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3C11-50ED-499F-B901-BF7AB13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75ED-9619-48E7-B54A-C5BA113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A2A8-B65B-4EB2-BE48-B3056E1D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082E-D62D-42EE-B228-6D6B2BA7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3FB-44DD-4944-BA89-62A956E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7A9-E68D-4F4F-AE8D-EB970A23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EE0-956F-4D8F-AD7D-B249943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6D2-B433-4EB0-BC47-36FE56C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52A-D478-4C2C-A9EA-7ED1939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073-0919-4467-A93E-58E26A8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3DD-FA7C-40FF-9437-3940828865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9D71-9D19-46D0-B426-06B5A4C66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9B2DB4FB-F1B0-4543-A93B-D216838B2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F7B33FAC-3281-42AD-A055-82F18BC9C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7373E6D9-B8B4-4EAE-A9FF-F7070A318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1065-C3FB-4F43-BC38-A647DE98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6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and (Organic) Molecular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G09_036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370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547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Os from 2p atomic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53053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 sigma bo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long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2 pi bon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bove and below (or to the sides) of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30760" y="1270080"/>
            <a:ext cx="5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15840" y="33526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914400" y="180324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1523880" y="3124080"/>
            <a:ext cx="9907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523880" y="4114800"/>
            <a:ext cx="10670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17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2618280" y="6858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states and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997560" y="5943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441600" y="59436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1, S2, …) or Triplet (T1,T2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5166720" y="1809720"/>
            <a:ext cx="396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ty (2S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=0 sing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1 trip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dipole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ross S and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oton does not flip sp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orescence vs phosph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7"/>
          <p:cNvCxnSpPr/>
          <p:nvPr/>
        </p:nvCxnSpPr>
        <p:spPr>
          <a:xfrm flipH="1">
            <a:off x="4495320" y="4647960"/>
            <a:ext cx="1905840" cy="1526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99" name="Straight Arrow Connector 10"/>
          <p:cNvCxnSpPr/>
          <p:nvPr/>
        </p:nvCxnSpPr>
        <p:spPr>
          <a:xfrm flipH="1">
            <a:off x="7771680" y="4738320"/>
            <a:ext cx="229320" cy="12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118120" cy="42544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6639120" y="220968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S allow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vibron c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536160" y="4876920"/>
            <a:ext cx="23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add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s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y Picture"/>
          <p:cNvPicPr/>
          <p:nvPr/>
        </p:nvPicPr>
        <p:blipFill>
          <a:blip r:embed="rId1"/>
          <a:stretch/>
        </p:blipFill>
        <p:spPr>
          <a:xfrm>
            <a:off x="304920" y="838080"/>
            <a:ext cx="7116480" cy="56390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7474680" y="36432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olympus.magnet.fsu.edu/primer/techniques/confocal/images/fluorescenceintrofigure1.jpg"/>
          <p:cNvPicPr/>
          <p:nvPr/>
        </p:nvPicPr>
        <p:blipFill>
          <a:blip r:embed="rId1"/>
          <a:stretch/>
        </p:blipFill>
        <p:spPr>
          <a:xfrm>
            <a:off x="1143000" y="914400"/>
            <a:ext cx="58672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04040" cy="2710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4120560" y="12193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 of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689040" y="4919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328080" y="49910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3511800" y="506880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881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745720" y="685800"/>
            <a:ext cx="33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bronic 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4038480" cy="49896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3" descr=""/>
          <p:cNvPicPr/>
          <p:nvPr/>
        </p:nvPicPr>
        <p:blipFill>
          <a:blip r:embed="rId2"/>
          <a:stretch/>
        </p:blipFill>
        <p:spPr>
          <a:xfrm>
            <a:off x="2779560" y="4876920"/>
            <a:ext cx="3402000" cy="5364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7" descr=""/>
          <p:cNvPicPr/>
          <p:nvPr/>
        </p:nvPicPr>
        <p:blipFill>
          <a:blip r:embed="rId3"/>
          <a:stretch/>
        </p:blipFill>
        <p:spPr>
          <a:xfrm>
            <a:off x="3352680" y="2517840"/>
            <a:ext cx="3382920" cy="506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6561720" y="3505320"/>
            <a:ext cx="18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0516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819520" y="1600200"/>
            <a:ext cx="914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www.soft-matter.uni-tuebingen.de/images/vibronic-progression.pn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227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4968000" y="2286000"/>
            <a:ext cx="402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diagram (coor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-Oppenhe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-Cond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ang-Rhys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c Materials – basic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399600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267080" y="4079880"/>
            <a:ext cx="4819680" cy="1960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1314000" y="6189840"/>
            <a:ext cx="14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yl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931720" y="6189840"/>
            <a:ext cx="146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z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63800" y="1333440"/>
            <a:ext cx="754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: 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 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nd (orb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ing and antibonding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 and linear conju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calized” among bonds  vs amo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 effect”  (size of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ly coupled “molecule” identity in molecular soli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www.single-molecule.nl/wp-content/uploads/2013/12/spectrum.gif"/>
          <p:cNvPicPr/>
          <p:nvPr/>
        </p:nvPicPr>
        <p:blipFill>
          <a:blip r:embed="rId1"/>
          <a:stretch/>
        </p:blipFill>
        <p:spPr>
          <a:xfrm>
            <a:off x="6286680" y="685800"/>
            <a:ext cx="2857320" cy="243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76320" y="1600200"/>
            <a:ext cx="6298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371760" cy="5226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9840" y="6019920"/>
            <a:ext cx="45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. 8.11  absorption polyyne:  H-(CC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https://encrypted-tbn0.gstatic.com/images?q=tbn:ANd9GcTgiZ4_XtzgPGVdILu-0H8uBIJBJnlmfb9-tuihQYPX-LCl41Yw8Q"/>
          <p:cNvPicPr/>
          <p:nvPr/>
        </p:nvPicPr>
        <p:blipFill>
          <a:blip r:embed="rId2"/>
          <a:stretch/>
        </p:blipFill>
        <p:spPr>
          <a:xfrm>
            <a:off x="4724280" y="2125800"/>
            <a:ext cx="3998880" cy="2805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319520" y="2125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735440" y="114300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/siz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98360" y="2575080"/>
            <a:ext cx="2992680" cy="1447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Image result for anthracene"/>
          <p:cNvPicPr/>
          <p:nvPr/>
        </p:nvPicPr>
        <p:blipFill>
          <a:blip r:embed="rId2"/>
          <a:stretch/>
        </p:blipFill>
        <p:spPr>
          <a:xfrm>
            <a:off x="228600" y="762120"/>
            <a:ext cx="2800440" cy="1628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blog.reseapro.com/wp-content/uploads/2013/09/Anthracene-abs-and-emission1.png"/>
          <p:cNvPicPr/>
          <p:nvPr/>
        </p:nvPicPr>
        <p:blipFill>
          <a:blip r:embed="rId3"/>
          <a:stretch/>
        </p:blipFill>
        <p:spPr>
          <a:xfrm>
            <a:off x="3525840" y="720720"/>
            <a:ext cx="460044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depts.washington.edu/cmditr/modules/oled/400px-Oled1_19_jablonski_ratio.png"/>
          <p:cNvPicPr/>
          <p:nvPr/>
        </p:nvPicPr>
        <p:blipFill>
          <a:blip r:embed="rId4"/>
          <a:stretch/>
        </p:blipFill>
        <p:spPr>
          <a:xfrm>
            <a:off x="219240" y="4032360"/>
            <a:ext cx="3089160" cy="232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s://www2.chemistry.msu.edu/faculty/reusch/VirtTxtJml/Spectrpy/Images/polyarom.gif"/>
          <p:cNvPicPr/>
          <p:nvPr/>
        </p:nvPicPr>
        <p:blipFill>
          <a:blip r:embed="rId5"/>
          <a:stretch/>
        </p:blipFill>
        <p:spPr>
          <a:xfrm>
            <a:off x="4191120" y="403236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234" name="Oval 4"/>
          <p:cNvSpPr/>
          <p:nvPr/>
        </p:nvSpPr>
        <p:spPr>
          <a:xfrm>
            <a:off x="6477120" y="914400"/>
            <a:ext cx="1828800" cy="662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48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rinciple Branch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opt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ght-Emitting Polymer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olymer Light Emitting Diode  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larg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 :Conjugated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Small Molecule Organic Light   Emitting Diod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MO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(even monom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Metal ch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OLED_Materials"/>
          <p:cNvPicPr/>
          <p:nvPr/>
        </p:nvPicPr>
        <p:blipFill>
          <a:blip r:embed="rId1"/>
          <a:stretch/>
        </p:blipFill>
        <p:spPr>
          <a:xfrm>
            <a:off x="228600" y="1128600"/>
            <a:ext cx="845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thin film organic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952560" y="1979640"/>
            <a:ext cx="3162240" cy="160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952520" y="3200400"/>
            <a:ext cx="4038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voltage (80-100 V) - Inject charge into organic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work function alloy-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layers, cathode were vacuum depos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2"/>
          <a:stretch/>
        </p:blipFill>
        <p:spPr>
          <a:xfrm>
            <a:off x="228600" y="3927600"/>
            <a:ext cx="2514600" cy="1806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5105520" y="19177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:Ag – 10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inescent film - 60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mine – 75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3733920" y="61722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W. Tang &amp; S.A. VanSlyke, Kodak  Research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3"/>
          <a:stretch/>
        </p:blipFill>
        <p:spPr>
          <a:xfrm>
            <a:off x="3000240" y="4010040"/>
            <a:ext cx="1724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OLE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40400" y="2149560"/>
            <a:ext cx="3840120" cy="3601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69960" y="2158920"/>
            <a:ext cx="387828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8600" y="685800"/>
            <a:ext cx="8381880" cy="5638680"/>
            <a:chOff x="228600" y="685800"/>
            <a:chExt cx="8381880" cy="5638680"/>
          </a:xfrm>
        </p:grpSpPr>
        <p:pic>
          <p:nvPicPr>
            <p:cNvPr id="250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556272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4"/>
            <p:cNvSpPr/>
            <p:nvPr/>
          </p:nvSpPr>
          <p:spPr>
            <a:xfrm>
              <a:off x="6172200" y="1447560"/>
              <a:ext cx="243828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LED is a display device that sandwiches carbon based films between the two electrodes and when voltage is applied creates l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8"/>
          <p:cNvSpPr/>
          <p:nvPr/>
        </p:nvSpPr>
        <p:spPr>
          <a:xfrm>
            <a:off x="7086600" y="6277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ol-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Laye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461880" y="2381400"/>
            <a:ext cx="4029120" cy="3562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562720" y="2736720"/>
            <a:ext cx="2666880" cy="2521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779760" y="141588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c electroluminescene (EL) is the electrically 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of light from non-crystalline organ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level diagram of a two-layer 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, LUMO of the HTL is slightly above that of the 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4173120" y="6248520"/>
            <a:ext cx="442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Hung et al.,Materials Science and Engineering R 39, 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456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46483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new orbitals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cess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this means is that both the s and one p orbital are involved in bonding to the connectin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-2700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 hybrid orbital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bina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orbital and a p orbital produces 2 new orbitals called sp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26022" r="0" b="25994"/>
          <a:stretch/>
        </p:blipFill>
        <p:spPr>
          <a:xfrm>
            <a:off x="0" y="202716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8308800" y="6289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71400" y="2554200"/>
            <a:ext cx="3882960" cy="27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610160" y="2540160"/>
            <a:ext cx="1712880" cy="2135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6362640" y="2540160"/>
            <a:ext cx="2121120" cy="1823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6383160" y="4392720"/>
            <a:ext cx="20908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73280" y="1523880"/>
            <a:ext cx="525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morph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ganic electrical laser still challen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G09_01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76320" y="533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G09_017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944280" y="45720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ation of sp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4480" y="1295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gma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line of electron density is concentrated symmetrically along the line connecting the two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FG09_012"/>
          <p:cNvPicPr/>
          <p:nvPr/>
        </p:nvPicPr>
        <p:blipFill>
          <a:blip r:embed="rId1"/>
          <a:srcRect l="0" t="31505" r="0" b="31505"/>
          <a:stretch/>
        </p:blipFill>
        <p:spPr>
          <a:xfrm>
            <a:off x="228600" y="3657600"/>
            <a:ext cx="89154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G09_020"/>
          <p:cNvPicPr/>
          <p:nvPr/>
        </p:nvPicPr>
        <p:blipFill>
          <a:blip r:embed="rId1"/>
          <a:srcRect l="24003" t="0" r="24003" b="0"/>
          <a:stretch/>
        </p:blipFill>
        <p:spPr>
          <a:xfrm>
            <a:off x="4495680" y="990720"/>
            <a:ext cx="445608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280" y="9144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overlapping regions exist above and below the internuclear axis (with a nodal plane along the internuclear ax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G09_030"/>
          <p:cNvPicPr/>
          <p:nvPr/>
        </p:nvPicPr>
        <p:blipFill>
          <a:blip r:embed="rId1"/>
          <a:srcRect l="0" t="22503" r="0" b="22503"/>
          <a:stretch/>
        </p:blipFill>
        <p:spPr>
          <a:xfrm>
            <a:off x="0" y="19051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-2052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 delocaliz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nding is present in all molecules where we can draw resonance structures with the multiple bonds located in different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5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 is an excellent example.  For benzene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bitals all overlap leading to a very delocalized electr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152280" y="56844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xample: 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benzene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8274600" y="63072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G09_032"/>
          <p:cNvPicPr/>
          <p:nvPr/>
        </p:nvPicPr>
        <p:blipFill>
          <a:blip r:embed="rId1"/>
          <a:srcRect l="0" t="4501" r="0" b="13502"/>
          <a:stretch/>
        </p:blipFill>
        <p:spPr>
          <a:xfrm>
            <a:off x="0" y="66996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567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that is lower in energy is called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higher in energy is called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981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new orbitals have different energi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60160" y="4800600"/>
            <a:ext cx="163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80720" y="1600200"/>
            <a:ext cx="22777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T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-1600200" y="6494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eculuar Orbital (MO)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8T13:43:01Z</dcterms:modified>
  <cp:revision>548</cp:revision>
  <dc:subject>Physics 272H, Spring 2007</dc:subject>
  <dc:title>Lecture 2</dc:title>
</cp:coreProperties>
</file>