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8.jpeg" ContentType="image/jpeg"/>
  <Override PartName="/ppt/media/image41.wmf" ContentType="image/x-wmf"/>
  <Override PartName="/ppt/media/image48.jpeg" ContentType="image/jpeg"/>
  <Override PartName="/ppt/media/image38.wmf" ContentType="image/x-wmf"/>
  <Override PartName="/ppt/media/image37.png" ContentType="image/png"/>
  <Override PartName="/ppt/media/image40.wmf" ContentType="image/x-wmf"/>
  <Override PartName="/ppt/media/image44.png" ContentType="image/png"/>
  <Override PartName="/ppt/media/image45.jpeg" ContentType="image/jpeg"/>
  <Override PartName="/ppt/media/image46.png" ContentType="image/png"/>
  <Override PartName="/ppt/media/image43.wmf" ContentType="image/x-wmf"/>
  <Override PartName="/ppt/media/image53.jpeg" ContentType="image/jpeg"/>
  <Override PartName="/ppt/media/image50.jpeg" ContentType="image/jpeg"/>
  <Override PartName="/ppt/media/image13.png" ContentType="image/png"/>
  <Override PartName="/ppt/media/image39.wmf" ContentType="image/x-wmf"/>
  <Override PartName="/ppt/media/image51.png" ContentType="image/png"/>
  <Override PartName="/ppt/media/image52.jpeg" ContentType="image/jpeg"/>
  <Override PartName="/ppt/media/image36.png" ContentType="image/png"/>
  <Override PartName="/ppt/media/image35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42.wmf" ContentType="image/x-wmf"/>
  <Override PartName="/ppt/media/image9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4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0BA89-6141-4FF9-80B9-E764D1E6B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A0B06-29A8-4F66-83FF-A732A9480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30D-2073-486D-AFC2-5BA4FD1D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97F-99F5-448E-9865-E2F966A4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564-2CAF-48FF-B35B-A2822A05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5DF-E852-417F-A364-8E9C1FB5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47CB-DBBB-47E9-BDA0-4324929B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7F16-5876-4843-96F5-C2EEC08F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6EF0-42C8-4BBD-A76C-04203D87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C1DF-D281-44D3-A89D-ED5905C8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7217-286A-4628-B2EF-B801D4B8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F819-6372-43CE-A75D-62E7AF05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2886-E6E2-4856-8125-3E44B4E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9CE-958C-49BD-9C7C-104302C7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04CA-CCCF-448F-A618-12BA024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0EDF-D83E-4DF6-9773-B34D4DFD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82BB-FB36-4BD0-BE31-F126F430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6B8C-8128-4A44-9D69-F631DF96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A0AE-1168-49A3-8397-2C04CF45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5C7-CD66-429A-A62F-73E9DD24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F2A-DCB1-4EBE-A2A3-BFCCEA47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6F3-C457-4C98-AA4F-D73EDC12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CC7-CD53-4F72-B714-44C56F4E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9C7-DA42-4892-8500-7E077A1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EAF-E507-4A67-82EF-299413A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BA9-BC76-4C7E-93DB-5692EE6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702-7EDA-4ED9-A7DE-A9A0088B26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DE4D-98A8-43C6-B13A-C96FD583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B8A5A4CF-51F2-493C-BC61-621EAE6FD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4F66197-BD3E-48A4-8166-09C9B85B9504}" type="datetime">
              <a:rPr b="0" lang="en-US" sz="9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4E14BC8-0428-4E2B-A6B0-8F8A796F864C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image" Target="../media/image50.jpe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5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nd doped semicondu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ree” electron gas (cont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ns and “plasmon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25520" y="1066680"/>
            <a:ext cx="84819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74840" y="878040"/>
            <a:ext cx="790704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614520" y="1295280"/>
            <a:ext cx="79149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77720" y="752400"/>
            <a:ext cx="798048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374760" y="852480"/>
            <a:ext cx="7931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-109440" y="366840"/>
            <a:ext cx="936288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8568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Optical &amp; plasmonic interconnect and computing – low loss  needed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038400" y="1819440"/>
            <a:ext cx="3546720" cy="2203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919920" y="2602080"/>
            <a:ext cx="2143080" cy="1199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7889760" y="895320"/>
            <a:ext cx="1109880" cy="1389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7899840" y="2044800"/>
            <a:ext cx="464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C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144360" y="2128680"/>
            <a:ext cx="27432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urdue (Boltasseva/Shalaev) developing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low-los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non-metal based) metameterials/plasmo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sed 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itrid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micondu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raphene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0" descr=""/>
          <p:cNvPicPr/>
          <p:nvPr/>
        </p:nvPicPr>
        <p:blipFill>
          <a:blip r:embed="rId4"/>
          <a:stretch/>
        </p:blipFill>
        <p:spPr>
          <a:xfrm>
            <a:off x="806400" y="3859200"/>
            <a:ext cx="1498680" cy="2141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5"/>
          <a:stretch/>
        </p:blipFill>
        <p:spPr>
          <a:xfrm>
            <a:off x="2617920" y="4181400"/>
            <a:ext cx="1893600" cy="181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"/>
          <p:cNvPicPr/>
          <p:nvPr/>
        </p:nvPicPr>
        <p:blipFill>
          <a:blip r:embed="rId6"/>
          <a:stretch/>
        </p:blipFill>
        <p:spPr>
          <a:xfrm>
            <a:off x="5597640" y="4773600"/>
            <a:ext cx="3546360" cy="125748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7" descr="TOC_Graphic_small_size.bmp"/>
          <p:cNvPicPr/>
          <p:nvPr/>
        </p:nvPicPr>
        <p:blipFill>
          <a:blip r:embed="rId7"/>
          <a:stretch/>
        </p:blipFill>
        <p:spPr>
          <a:xfrm>
            <a:off x="4638600" y="452124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Quantum Plasmon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124080" cy="2540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118120" cy="2540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04920" y="47498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plasmonics”, M. S. Tame, K. R. McEnery, Ş. K. Özdemir, J. Lee, S. A. Maier &amp; M. S. Kim , Nature Physics  9, 329–340 (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71816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properties of light and its interaction with matter at the nano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4510080" cy="2810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273560" cy="2581200"/>
          </a:xfrm>
          <a:prstGeom prst="rect">
            <a:avLst/>
          </a:prstGeom>
          <a:ln w="0">
            <a:noFill/>
          </a:ln>
        </p:spPr>
      </p:pic>
      <p:sp>
        <p:nvSpPr>
          <p:cNvPr id="107" name="Oval 4"/>
          <p:cNvSpPr/>
          <p:nvPr/>
        </p:nvSpPr>
        <p:spPr>
          <a:xfrm>
            <a:off x="-685800" y="3616200"/>
            <a:ext cx="5195880" cy="133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5791320" y="26668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6095880" y="3009960"/>
            <a:ext cx="838440" cy="16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7758000" y="1008000"/>
            <a:ext cx="1297080" cy="10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510080" y="4348080"/>
            <a:ext cx="3033720" cy="215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6"/>
          <a:stretch/>
        </p:blipFill>
        <p:spPr>
          <a:xfrm>
            <a:off x="6891480" y="5056200"/>
            <a:ext cx="19810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153280" cy="583236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4" descr=""/>
          <p:cNvPicPr/>
          <p:nvPr/>
        </p:nvPicPr>
        <p:blipFill>
          <a:blip r:embed="rId2"/>
          <a:stretch/>
        </p:blipFill>
        <p:spPr>
          <a:xfrm>
            <a:off x="6145200" y="4876920"/>
            <a:ext cx="2859120" cy="37152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6"/>
          <p:cNvCxnSpPr/>
          <p:nvPr/>
        </p:nvCxnSpPr>
        <p:spPr>
          <a:xfrm flipV="1">
            <a:off x="4190760" y="4606560"/>
            <a:ext cx="1080" cy="524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6755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41360" y="617400"/>
            <a:ext cx="79405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132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  <p:sp>
        <p:nvSpPr>
          <p:cNvPr id="137" name="Straight Connector 2"/>
          <p:cNvSpPr/>
          <p:nvPr/>
        </p:nvSpPr>
        <p:spPr>
          <a:xfrm flipH="1">
            <a:off x="2361960" y="1523880"/>
            <a:ext cx="6094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9"/>
          <p:cNvSpPr/>
          <p:nvPr/>
        </p:nvSpPr>
        <p:spPr>
          <a:xfrm flipH="1">
            <a:off x="1395000" y="5732640"/>
            <a:ext cx="609480" cy="533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48520" cy="532440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 flipV="1">
            <a:off x="2361960" y="2437560"/>
            <a:ext cx="7668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42" name="TextBox 6" descr=""/>
          <p:cNvPicPr/>
          <p:nvPr/>
        </p:nvPicPr>
        <p:blipFill>
          <a:blip r:embed="rId2"/>
          <a:stretch/>
        </p:blipFill>
        <p:spPr>
          <a:xfrm>
            <a:off x="1785960" y="2743200"/>
            <a:ext cx="804960" cy="341280"/>
          </a:xfrm>
          <a:prstGeom prst="rect">
            <a:avLst/>
          </a:prstGeom>
          <a:ln w="0">
            <a:noFill/>
          </a:ln>
        </p:spPr>
      </p:pic>
      <p:cxnSp>
        <p:nvCxnSpPr>
          <p:cNvPr id="143" name="Straight Arrow Connector 8"/>
          <p:cNvCxnSpPr/>
          <p:nvPr/>
        </p:nvCxnSpPr>
        <p:spPr>
          <a:xfrm flipH="1">
            <a:off x="5257080" y="3661920"/>
            <a:ext cx="153000" cy="219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4" name="TextBox 10"/>
          <p:cNvSpPr/>
          <p:nvPr/>
        </p:nvSpPr>
        <p:spPr>
          <a:xfrm>
            <a:off x="5508720" y="3438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16-03-21T20:53:55Z</cp:lastPrinted>
  <dcterms:modified xsi:type="dcterms:W3CDTF">2016-03-22T15:05:48Z</dcterms:modified>
  <cp:revision>521</cp:revision>
  <dc:subject>Physics 272H, Spring 2007</dc:subject>
  <dc:title>Lecture 2</dc:title>
</cp:coreProperties>
</file>