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41.wmf" ContentType="image/x-wmf"/>
  <Override PartName="/ppt/media/image48.jpeg" ContentType="image/jpeg"/>
  <Override PartName="/ppt/media/image38.wmf" ContentType="image/x-wmf"/>
  <Override PartName="/ppt/media/image37.png" ContentType="image/png"/>
  <Override PartName="/ppt/media/image40.wmf" ContentType="image/x-wmf"/>
  <Override PartName="/ppt/media/image44.png" ContentType="image/png"/>
  <Override PartName="/ppt/media/image45.jpeg" ContentType="image/jpeg"/>
  <Override PartName="/ppt/media/image46.png" ContentType="image/png"/>
  <Override PartName="/ppt/media/image43.wmf" ContentType="image/x-wmf"/>
  <Override PartName="/ppt/media/image53.jpeg" ContentType="image/jpeg"/>
  <Override PartName="/ppt/media/image50.jpeg" ContentType="image/jpeg"/>
  <Override PartName="/ppt/media/image13.png" ContentType="image/png"/>
  <Override PartName="/ppt/media/image39.wmf" ContentType="image/x-wmf"/>
  <Override PartName="/ppt/media/image51.png" ContentType="image/png"/>
  <Override PartName="/ppt/media/image52.jpeg" ContentType="image/jpeg"/>
  <Override PartName="/ppt/media/image36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42.wmf" ContentType="image/x-wmf"/>
  <Override PartName="/ppt/media/image9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95C33-751B-4508-BF7B-63867180C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9990F-A921-4A8C-AFC2-DED33E870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AE7-9D01-45CE-83AF-3BF46067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90A-44E0-4F47-A8F0-F4FE8CB1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681-F210-475B-85A2-8C0B0220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6E4-916C-4258-B263-6239B5FD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B20-9FCB-486C-BDF3-B0025372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72A-1116-4283-8673-14DF362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1FCB-3C50-46DA-B92B-397B4DDC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E3F-6B24-402C-A237-24A1B90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7789-8666-4E8B-B1B4-12A64316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F17-3D56-441D-9409-AB2E001F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BFE4-CA9C-4742-AE95-D9BD47A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725-8291-496B-BF59-94339D28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F53D-BE56-41AF-BFCD-F573E6E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51D-448E-4A1D-BFCE-7C7478A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E7C5-4517-4A35-9F46-147658EA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CEEE-D2A6-460B-BAFB-96E2BC16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1116-4312-4B47-8E98-8DA2DCA9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FEB-4E18-405B-922B-8B28845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8FB-421A-46DC-B4B5-3EE7C4AF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BDE-E088-45AE-8E47-ADB7694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CBC-6133-4176-9F1E-91F1BB2F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987-4370-498A-8542-EB6491F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CCB-0977-4F4F-9527-AF9CC0C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8BD-90E2-4398-99F0-276C9259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4A3-15C5-4CC9-9FBD-D8587C112A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0E04-00E4-4A88-AC9D-172A3ACE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DC71600D-CC5E-4BE1-9DB5-B451A0DD3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CE09C33-8932-4DD1-A19C-C803ED853128}" type="datetime">
              <a:rPr b="0" lang="en-US" sz="9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2935C16-E501-4FCB-BFE8-5EFE68637C49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5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and doped semicondu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ree” electron gas (cont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ons and “plasmon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25520" y="1066680"/>
            <a:ext cx="84819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74840" y="878040"/>
            <a:ext cx="79070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614520" y="1295280"/>
            <a:ext cx="79149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77720" y="752400"/>
            <a:ext cx="798048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374760" y="852480"/>
            <a:ext cx="793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-109440" y="366840"/>
            <a:ext cx="936288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Optical &amp; plasmonic interconnect and computing – low loss  needed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038400" y="1819440"/>
            <a:ext cx="3546720" cy="2203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919920" y="2602080"/>
            <a:ext cx="2143080" cy="119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7889760" y="895320"/>
            <a:ext cx="1109880" cy="1389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7899840" y="2044800"/>
            <a:ext cx="46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C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144360" y="2128680"/>
            <a:ext cx="27432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urdue (Boltasseva/Shalaev) developing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low-los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non-metal based) metameterials/plasmo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sed 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itri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micondu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raphene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4"/>
          <a:stretch/>
        </p:blipFill>
        <p:spPr>
          <a:xfrm>
            <a:off x="806400" y="3859200"/>
            <a:ext cx="1498680" cy="214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5"/>
          <a:stretch/>
        </p:blipFill>
        <p:spPr>
          <a:xfrm>
            <a:off x="2617920" y="4181400"/>
            <a:ext cx="1893600" cy="181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6"/>
          <a:stretch/>
        </p:blipFill>
        <p:spPr>
          <a:xfrm>
            <a:off x="5597640" y="4773600"/>
            <a:ext cx="3546360" cy="125748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7" descr="TOC_Graphic_small_size.bmp"/>
          <p:cNvPicPr/>
          <p:nvPr/>
        </p:nvPicPr>
        <p:blipFill>
          <a:blip r:embed="rId7"/>
          <a:stretch/>
        </p:blipFill>
        <p:spPr>
          <a:xfrm>
            <a:off x="4638600" y="452124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Quantum Plasmon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24080" cy="2540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118120" cy="2540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04920" y="4749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lasmonics”, M. S. Tame, K. R. McEnery, Ş. K. Özdemir, J. Lee, S. A. Maier &amp; M. S. Kim , Nature Physics  9, 329–340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1816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properties of light and its interaction with matter at the nano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/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417320"/>
            <a:ext cx="830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hav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of FS for HWK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Exam 1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2, Tuesday 9-10:2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book, calculator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FS (optical properties of solids) up to Chap 8;   FQ (Quantum Optics) Chap 1-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basics (review summary at end of chapters,  examples,  HWK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2209680"/>
            <a:ext cx="4510080" cy="2810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273560" cy="25812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-685800" y="3616200"/>
            <a:ext cx="5195880" cy="133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5791320" y="26668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6095880" y="3009960"/>
            <a:ext cx="838440" cy="1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7758000" y="1008000"/>
            <a:ext cx="129708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510080" y="4348080"/>
            <a:ext cx="3033720" cy="215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6"/>
          <a:stretch/>
        </p:blipFill>
        <p:spPr>
          <a:xfrm>
            <a:off x="6891480" y="5056200"/>
            <a:ext cx="198108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153280" cy="583236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" descr=""/>
          <p:cNvPicPr/>
          <p:nvPr/>
        </p:nvPicPr>
        <p:blipFill>
          <a:blip r:embed="rId2"/>
          <a:stretch/>
        </p:blipFill>
        <p:spPr>
          <a:xfrm>
            <a:off x="6145200" y="4876920"/>
            <a:ext cx="2859120" cy="37152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6"/>
          <p:cNvCxnSpPr/>
          <p:nvPr/>
        </p:nvCxnSpPr>
        <p:spPr>
          <a:xfrm flipV="1">
            <a:off x="4190760" y="4606560"/>
            <a:ext cx="1080" cy="524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6755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41360" y="617400"/>
            <a:ext cx="79405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2"/>
          <p:cNvSpPr/>
          <p:nvPr/>
        </p:nvSpPr>
        <p:spPr>
          <a:xfrm flipH="1">
            <a:off x="2361960" y="1523880"/>
            <a:ext cx="60948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9"/>
          <p:cNvSpPr/>
          <p:nvPr/>
        </p:nvSpPr>
        <p:spPr>
          <a:xfrm flipH="1">
            <a:off x="1395000" y="5732640"/>
            <a:ext cx="609480" cy="533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42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4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16-03-21T20:53:55Z</cp:lastPrinted>
  <dcterms:modified xsi:type="dcterms:W3CDTF">2016-03-22T15:05:48Z</dcterms:modified>
  <cp:revision>521</cp:revision>
  <dc:subject>Physics 272H, Spring 2007</dc:subject>
  <dc:title>Lecture 2</dc:title>
</cp:coreProperties>
</file>