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41.wmf" ContentType="image/x-wmf"/>
  <Override PartName="/ppt/media/image48.jpeg" ContentType="image/jpeg"/>
  <Override PartName="/ppt/media/image38.wmf" ContentType="image/x-wmf"/>
  <Override PartName="/ppt/media/image37.png" ContentType="image/png"/>
  <Override PartName="/ppt/media/image40.wmf" ContentType="image/x-wmf"/>
  <Override PartName="/ppt/media/image44.png" ContentType="image/png"/>
  <Override PartName="/ppt/media/image45.jpeg" ContentType="image/jpeg"/>
  <Override PartName="/ppt/media/image46.png" ContentType="image/png"/>
  <Override PartName="/ppt/media/image43.wmf" ContentType="image/x-wmf"/>
  <Override PartName="/ppt/media/image53.jpeg" ContentType="image/jpeg"/>
  <Override PartName="/ppt/media/image50.jpeg" ContentType="image/jpeg"/>
  <Override PartName="/ppt/media/image13.png" ContentType="image/png"/>
  <Override PartName="/ppt/media/image39.wmf" ContentType="image/x-wmf"/>
  <Override PartName="/ppt/media/image51.png" ContentType="image/png"/>
  <Override PartName="/ppt/media/image52.jpeg" ContentType="image/jpeg"/>
  <Override PartName="/ppt/media/image36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42.wmf" ContentType="image/x-wmf"/>
  <Override PartName="/ppt/media/image9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769D2-76A1-4F91-BECE-C2C6F91C6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E690D-E615-4082-B7E3-318FDDF4E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F4C-D490-40B6-87A3-EA60C28A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E57-F3A2-43D2-96BA-FF6CB77F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401-D96D-4F42-85F6-CFD033A8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A81-E0CE-4711-83A9-0D49F381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91E-87D2-4E01-8288-4A24D1FB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6F81-C02F-4E58-8046-E5DFD170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E696-2DE1-4B2F-974D-C96CE8E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D5B-8EB8-42CF-9E12-1FF1106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A526-2D37-4E9A-A3EA-E158D79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047-F919-4B14-9FE6-049F7434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653-BFA4-4697-A411-54274DD7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8F3-7BDC-430C-A906-251C5F4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74C-068D-47FC-B58E-605C750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6143-AF1E-4D26-9C5B-8347E50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07E-ECBF-4932-8E82-31FC4A94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C49-E82E-4858-A7A7-E74D3444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1717-959B-426B-8BF0-604C3618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FFA-F192-4180-BBF5-D32BADD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305-A417-43E5-99F2-07B19322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810-197C-4450-80F9-140930D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F0E-911A-4EA8-8F09-0B6A86C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93D-03ED-4B54-BE7F-AFFD5E0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4DF-D552-439F-A93F-41FEDA26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875-CB03-41E3-9E73-3BCDABE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5D5-8B2F-47CD-8A22-DA87101765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CC57-706A-494E-B20B-C4BDCE0DD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2FBAE90D-D9A6-4AE4-B380-AF796DAF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ACB63D3-CD25-46B3-A1C7-6F89B2F14EF9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9F1C887-ED8B-43B3-9CB6-9F3EA2C958BE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5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 (cont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ns and “plasmon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25520" y="1066680"/>
            <a:ext cx="8481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74840" y="878040"/>
            <a:ext cx="79070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14520" y="1295280"/>
            <a:ext cx="79149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77720" y="752400"/>
            <a:ext cx="798048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74760" y="852480"/>
            <a:ext cx="79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-109440" y="366840"/>
            <a:ext cx="936288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Optical &amp; plasmonic interconnect and computing – low loss  needed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038400" y="1819440"/>
            <a:ext cx="3546720" cy="2203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919920" y="2602080"/>
            <a:ext cx="2143080" cy="119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7889760" y="895320"/>
            <a:ext cx="1109880" cy="1389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7899840" y="2044800"/>
            <a:ext cx="46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C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44360" y="2128680"/>
            <a:ext cx="27432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urdue (Boltasseva/Shalaev) developing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low-los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non-metal based) metameterials/plasmo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sed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itri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micondu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raphene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4"/>
          <a:stretch/>
        </p:blipFill>
        <p:spPr>
          <a:xfrm>
            <a:off x="806400" y="3859200"/>
            <a:ext cx="1498680" cy="214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5"/>
          <a:stretch/>
        </p:blipFill>
        <p:spPr>
          <a:xfrm>
            <a:off x="2617920" y="4181400"/>
            <a:ext cx="1893600" cy="181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6"/>
          <a:stretch/>
        </p:blipFill>
        <p:spPr>
          <a:xfrm>
            <a:off x="5597640" y="4773600"/>
            <a:ext cx="3546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TOC_Graphic_small_size.bmp"/>
          <p:cNvPicPr/>
          <p:nvPr/>
        </p:nvPicPr>
        <p:blipFill>
          <a:blip r:embed="rId7"/>
          <a:stretch/>
        </p:blipFill>
        <p:spPr>
          <a:xfrm>
            <a:off x="4638600" y="452124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Quantum Plasmon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24080" cy="254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118120" cy="2540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04920" y="4749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lasmonics”, M. S. Tame, K. R. McEnery, Ş. K. Özdemir, J. Lee, S. A. Maier &amp; M. S. Kim , Nature Physics  9, 329–340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81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roperties of light and its interaction with matter at the nano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-685800" y="3616200"/>
            <a:ext cx="5195880" cy="133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" descr=""/>
          <p:cNvPicPr/>
          <p:nvPr/>
        </p:nvPicPr>
        <p:blipFill>
          <a:blip r:embed="rId2"/>
          <a:stretch/>
        </p:blipFill>
        <p:spPr>
          <a:xfrm>
            <a:off x="6145200" y="4876920"/>
            <a:ext cx="285912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42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4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3-21T20:53:55Z</cp:lastPrinted>
  <dcterms:modified xsi:type="dcterms:W3CDTF">2016-03-22T15:05:48Z</dcterms:modified>
  <cp:revision>521</cp:revision>
  <dc:subject>Physics 272H, Spring 2007</dc:subject>
  <dc:title>Lecture 2</dc:title>
</cp:coreProperties>
</file>