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8.jpeg" ContentType="image/jpeg"/>
  <Override PartName="/ppt/media/image41.wmf" ContentType="image/x-wmf"/>
  <Override PartName="/ppt/media/image48.jpeg" ContentType="image/jpeg"/>
  <Override PartName="/ppt/media/image38.wmf" ContentType="image/x-wmf"/>
  <Override PartName="/ppt/media/image37.png" ContentType="image/png"/>
  <Override PartName="/ppt/media/image40.wmf" ContentType="image/x-wmf"/>
  <Override PartName="/ppt/media/image44.png" ContentType="image/png"/>
  <Override PartName="/ppt/media/image45.jpeg" ContentType="image/jpeg"/>
  <Override PartName="/ppt/media/image46.png" ContentType="image/png"/>
  <Override PartName="/ppt/media/image43.wmf" ContentType="image/x-wmf"/>
  <Override PartName="/ppt/media/image53.jpeg" ContentType="image/jpeg"/>
  <Override PartName="/ppt/media/image50.jpeg" ContentType="image/jpeg"/>
  <Override PartName="/ppt/media/image13.png" ContentType="image/png"/>
  <Override PartName="/ppt/media/image39.wmf" ContentType="image/x-wmf"/>
  <Override PartName="/ppt/media/image51.png" ContentType="image/png"/>
  <Override PartName="/ppt/media/image52.jpeg" ContentType="image/jpeg"/>
  <Override PartName="/ppt/media/image36.png" ContentType="image/png"/>
  <Override PartName="/ppt/media/image35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42.wmf" ContentType="image/x-wmf"/>
  <Override PartName="/ppt/media/image9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4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A5C78-3E70-41FF-8A5C-7982A50FE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89163-43B2-4A05-A690-D93BA0568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1F9-9B99-4607-ABAE-2C9B6AA5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E66-5D8D-4861-9654-75EFC310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C64-2E17-4170-B494-A38EE340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4DF-F016-43C8-8BD4-73B5C04F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7672-B14E-4814-A2DA-CF8991C4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21C9-AA9A-4800-89EC-9869F1E3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D4F5-CFAA-43DD-B5C9-288E7451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A7D3-654C-43FF-8D8E-DC7A8AFB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1074-9534-4FE8-89DF-64781432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9938-B0BD-496A-BF53-17083CDB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E95-6C26-4814-A09A-AA9E1DE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832-F474-4BF8-A0C3-A8220D9B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BABA-FD66-48EA-A2D0-8DBFE86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7341-B8B1-41C0-A60E-4DFEB38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81D2-A014-4355-8A87-88613BFC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41DB-BC08-40E9-B51B-C3681727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47EA-D13D-4677-884E-12055648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AAD-9641-4D2A-8BB3-BFD353ED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7E7-EA91-4355-9ABE-39A38C36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A6B-8F57-4163-B131-A31A5526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9CC-ED50-4C2B-BD6A-FF30A499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55F-3663-4C80-A3EB-DAB7A60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E9D-3597-41EA-9CDF-A1AC1EC7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A4B-CB0D-4955-B71B-6DC79F4A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953E-F796-4D13-AF9D-9432BD9434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B252-35C4-42A6-84B6-289C7123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FD8F2AB5-5AF4-4516-8192-2F6D0752D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B596EE5-7F53-482C-90F8-821ACB697D8D}" type="datetime">
              <a:rPr b="0" lang="en-US" sz="9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DF6705F-7803-4D11-AB23-E83CACCE36E0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image" Target="../media/image50.jpe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5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nd doped semicondu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ree” electron gas (cont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ns and “plasmon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25520" y="1066680"/>
            <a:ext cx="84819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74840" y="878040"/>
            <a:ext cx="790704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614520" y="1295280"/>
            <a:ext cx="79149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77720" y="752400"/>
            <a:ext cx="798048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374760" y="852480"/>
            <a:ext cx="7931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-109440" y="366840"/>
            <a:ext cx="936288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8568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Optical &amp; plasmonic interconnect and computing – low loss  needed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038400" y="1819440"/>
            <a:ext cx="3546720" cy="2203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919920" y="2602080"/>
            <a:ext cx="2143080" cy="1199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7889760" y="895320"/>
            <a:ext cx="1109880" cy="1389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7899840" y="2044800"/>
            <a:ext cx="464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C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144360" y="2128680"/>
            <a:ext cx="27432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urdue (Boltasseva/Shalaev) developing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low-los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non-metal based) metameterials/plasmo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sed 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itrid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micondu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raphene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0" descr=""/>
          <p:cNvPicPr/>
          <p:nvPr/>
        </p:nvPicPr>
        <p:blipFill>
          <a:blip r:embed="rId4"/>
          <a:stretch/>
        </p:blipFill>
        <p:spPr>
          <a:xfrm>
            <a:off x="806400" y="3859200"/>
            <a:ext cx="1498680" cy="2141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5"/>
          <a:stretch/>
        </p:blipFill>
        <p:spPr>
          <a:xfrm>
            <a:off x="2617920" y="4181400"/>
            <a:ext cx="1893600" cy="181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"/>
          <p:cNvPicPr/>
          <p:nvPr/>
        </p:nvPicPr>
        <p:blipFill>
          <a:blip r:embed="rId6"/>
          <a:stretch/>
        </p:blipFill>
        <p:spPr>
          <a:xfrm>
            <a:off x="5597640" y="4773600"/>
            <a:ext cx="3546360" cy="125748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7" descr="TOC_Graphic_small_size.bmp"/>
          <p:cNvPicPr/>
          <p:nvPr/>
        </p:nvPicPr>
        <p:blipFill>
          <a:blip r:embed="rId7"/>
          <a:stretch/>
        </p:blipFill>
        <p:spPr>
          <a:xfrm>
            <a:off x="4638600" y="452124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Quantum Plasmon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124080" cy="2540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118120" cy="2540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04920" y="47498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plasmonics”, M. S. Tame, K. R. McEnery, Ş. K. Özdemir, J. Lee, S. A. Maier &amp; M. S. Kim , Nature Physics  9, 329–340 (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71816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properties of light and its interaction with matter at the nano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4510080" cy="2810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273560" cy="2581200"/>
          </a:xfrm>
          <a:prstGeom prst="rect">
            <a:avLst/>
          </a:prstGeom>
          <a:ln w="0">
            <a:noFill/>
          </a:ln>
        </p:spPr>
      </p:pic>
      <p:sp>
        <p:nvSpPr>
          <p:cNvPr id="107" name="Oval 4"/>
          <p:cNvSpPr/>
          <p:nvPr/>
        </p:nvSpPr>
        <p:spPr>
          <a:xfrm>
            <a:off x="-685800" y="3616200"/>
            <a:ext cx="5195880" cy="133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5791320" y="26668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6095880" y="3009960"/>
            <a:ext cx="838440" cy="16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7758000" y="1008000"/>
            <a:ext cx="1297080" cy="10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510080" y="4348080"/>
            <a:ext cx="3033720" cy="215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6"/>
          <a:stretch/>
        </p:blipFill>
        <p:spPr>
          <a:xfrm>
            <a:off x="6891480" y="5056200"/>
            <a:ext cx="19810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153280" cy="583236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4" descr=""/>
          <p:cNvPicPr/>
          <p:nvPr/>
        </p:nvPicPr>
        <p:blipFill>
          <a:blip r:embed="rId2"/>
          <a:stretch/>
        </p:blipFill>
        <p:spPr>
          <a:xfrm>
            <a:off x="6145200" y="4876920"/>
            <a:ext cx="2859120" cy="37152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6"/>
          <p:cNvCxnSpPr/>
          <p:nvPr/>
        </p:nvCxnSpPr>
        <p:spPr>
          <a:xfrm flipV="1">
            <a:off x="4190760" y="4606560"/>
            <a:ext cx="1080" cy="524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6755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41360" y="617400"/>
            <a:ext cx="79405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132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  <p:sp>
        <p:nvSpPr>
          <p:cNvPr id="137" name="Straight Connector 2"/>
          <p:cNvSpPr/>
          <p:nvPr/>
        </p:nvSpPr>
        <p:spPr>
          <a:xfrm flipH="1">
            <a:off x="2361960" y="1523880"/>
            <a:ext cx="6094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9"/>
          <p:cNvSpPr/>
          <p:nvPr/>
        </p:nvSpPr>
        <p:spPr>
          <a:xfrm flipH="1">
            <a:off x="1395000" y="5732640"/>
            <a:ext cx="609480" cy="533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48520" cy="532440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 flipV="1">
            <a:off x="2361960" y="2437560"/>
            <a:ext cx="7668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42" name="TextBox 6" descr=""/>
          <p:cNvPicPr/>
          <p:nvPr/>
        </p:nvPicPr>
        <p:blipFill>
          <a:blip r:embed="rId2"/>
          <a:stretch/>
        </p:blipFill>
        <p:spPr>
          <a:xfrm>
            <a:off x="1785960" y="2743200"/>
            <a:ext cx="804960" cy="341280"/>
          </a:xfrm>
          <a:prstGeom prst="rect">
            <a:avLst/>
          </a:prstGeom>
          <a:ln w="0">
            <a:noFill/>
          </a:ln>
        </p:spPr>
      </p:pic>
      <p:cxnSp>
        <p:nvCxnSpPr>
          <p:cNvPr id="143" name="Straight Arrow Connector 8"/>
          <p:cNvCxnSpPr/>
          <p:nvPr/>
        </p:nvCxnSpPr>
        <p:spPr>
          <a:xfrm flipH="1">
            <a:off x="5257080" y="3661920"/>
            <a:ext cx="153000" cy="219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4" name="TextBox 10"/>
          <p:cNvSpPr/>
          <p:nvPr/>
        </p:nvSpPr>
        <p:spPr>
          <a:xfrm>
            <a:off x="5508720" y="3438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16-03-21T20:53:55Z</cp:lastPrinted>
  <dcterms:modified xsi:type="dcterms:W3CDTF">2016-03-22T15:05:48Z</dcterms:modified>
  <cp:revision>521</cp:revision>
  <dc:subject>Physics 272H, Spring 2007</dc:subject>
  <dc:title>Lecture 2</dc:title>
</cp:coreProperties>
</file>