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11.png" ContentType="image/png"/>
  <Override PartName="/ppt/media/image36.png" ContentType="image/png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28.png" ContentType="image/png"/>
  <Override PartName="/ppt/media/image49.wmf" ContentType="image/x-wmf"/>
  <Override PartName="/ppt/media/image33.wmf" ContentType="image/x-wmf"/>
  <Override PartName="/ppt/media/image13.png" ContentType="image/png"/>
  <Override PartName="/ppt/media/image42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D8418-954D-4F2A-8972-D8FE7B753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3A829-E10A-49E4-8B7C-485760B12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4D9-51DA-4BA3-B10D-16A0BD1D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CFE-59ED-48AA-BB10-7373844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DC9-6448-4C54-B5C1-3637A869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BD6-1C71-4ECB-9447-E35CAF76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F4A-5BE8-416C-8118-CAA7938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7C2-965C-4762-8604-BE0EE91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F11-098E-49EE-A3A0-E36AD3D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B0F-B6A2-488F-8BCD-0A116316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BAC-5AC0-4334-B04D-564DC43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2FE-ECCC-4618-9EE2-21BBB25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6CC-4607-48C8-8EFF-5BDC450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390-7AED-46B5-BD1C-2A0CDC6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42F-0853-48EC-95B4-DC6CAF040D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E3F-53B7-4470-9BF6-66F3347DF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3E84922D-094C-4A4E-8D44-8B1D35D8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4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200" y="839880"/>
            <a:ext cx="8531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-182520" y="809640"/>
            <a:ext cx="894564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62040" y="1828800"/>
            <a:ext cx="6019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" y="70344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2"/>
          <a:stretch/>
        </p:blipFill>
        <p:spPr>
          <a:xfrm>
            <a:off x="6095880" y="4846680"/>
            <a:ext cx="29084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34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4" descr=""/>
          <p:cNvPicPr/>
          <p:nvPr/>
        </p:nvPicPr>
        <p:blipFill>
          <a:blip r:embed="rId2"/>
          <a:stretch/>
        </p:blipFill>
        <p:spPr>
          <a:xfrm>
            <a:off x="1189080" y="3870360"/>
            <a:ext cx="4614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03280" y="1523880"/>
            <a:ext cx="8183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58760" y="828720"/>
            <a:ext cx="8375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-685800" y="2209680"/>
            <a:ext cx="5195880" cy="16002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377200" cy="43671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2"/>
          <a:stretch/>
        </p:blipFill>
        <p:spPr>
          <a:xfrm>
            <a:off x="5870520" y="920880"/>
            <a:ext cx="3060720" cy="834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034240" y="575316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or Al (Exp1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tals (Tab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arrier condu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2" descr=""/>
          <p:cNvPicPr/>
          <p:nvPr/>
        </p:nvPicPr>
        <p:blipFill>
          <a:blip r:embed="rId1"/>
          <a:stretch/>
        </p:blipFill>
        <p:spPr>
          <a:xfrm>
            <a:off x="328680" y="1523880"/>
            <a:ext cx="8907480" cy="460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87360" y="60199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 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562440" y="167652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few fs i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1T23:52:10Z</dcterms:modified>
  <cp:revision>511</cp:revision>
  <dc:subject>Physics 272H, Spring 2007</dc:subject>
  <dc:title>Lecture 2</dc:title>
</cp:coreProperties>
</file>