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10.png" ContentType="image/png"/>
  <Override PartName="/ppt/media/image5.wmf" ContentType="image/x-wmf"/>
  <Override PartName="/ppt/media/image46.png" ContentType="image/png"/>
  <Override PartName="/ppt/media/image6.wmf" ContentType="image/x-wmf"/>
  <Override PartName="/ppt/media/image11.png" ContentType="image/png"/>
  <Override PartName="/ppt/media/image36.png" ContentType="image/png"/>
  <Override PartName="/ppt/media/image47.wmf" ContentType="image/x-wmf"/>
  <Override PartName="/ppt/media/image37.png" ContentType="image/png"/>
  <Override PartName="/ppt/media/image48.wmf" ContentType="image/x-wmf"/>
  <Override PartName="/ppt/media/image30.png" ContentType="image/png"/>
  <Override PartName="/ppt/media/image41.wmf" ContentType="image/x-wmf"/>
  <Override PartName="/ppt/media/image8.jpeg" ContentType="image/jpeg"/>
  <Override PartName="/ppt/media/image28.png" ContentType="image/png"/>
  <Override PartName="/ppt/media/image49.wmf" ContentType="image/x-wmf"/>
  <Override PartName="/ppt/media/image33.wmf" ContentType="image/x-wmf"/>
  <Override PartName="/ppt/media/image13.png" ContentType="image/png"/>
  <Override PartName="/ppt/media/image42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914A7-FE7F-4754-A237-00B00709A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42BB2-1836-4DCE-AB53-C39A0486A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6A5-3F52-472B-88B3-FA7BA6C6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698-42F6-4D6B-ACC2-0CF6C5F4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085-17CF-4D39-831E-B61E477D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E60-20A2-4200-A27A-943C4F0D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8B1-6961-4278-92E8-FF37845E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49A-0EA5-474C-B344-986BB52D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051-0A12-4D9E-B3CF-6A2C4AF7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AC2-322E-4233-AFC1-0BA39E70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A0D-F093-4293-AA51-445A3AE2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077-2F7A-49D5-97A7-8B1E1EF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F0C-6CE5-4687-BDF4-E05E3D0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170-57D0-4A8C-90CE-19D48A1E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0546-0801-4C82-964B-F14812C6E7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6AD4-2D45-45E9-80C3-89C1B6610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DC78F55A-FF07-41EF-9BD3-BADC49353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4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nd doped semicondu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ree” electron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79200" y="839880"/>
            <a:ext cx="8531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642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-182520" y="809640"/>
            <a:ext cx="894564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41360" y="617400"/>
            <a:ext cx="794052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562040" y="1828800"/>
            <a:ext cx="6019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28600" y="703440"/>
            <a:ext cx="8153280" cy="58323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4" descr=""/>
          <p:cNvPicPr/>
          <p:nvPr/>
        </p:nvPicPr>
        <p:blipFill>
          <a:blip r:embed="rId2"/>
          <a:stretch/>
        </p:blipFill>
        <p:spPr>
          <a:xfrm>
            <a:off x="6095880" y="4846680"/>
            <a:ext cx="2908440" cy="500040"/>
          </a:xfrm>
          <a:prstGeom prst="rect">
            <a:avLst/>
          </a:prstGeom>
          <a:ln w="0">
            <a:noFill/>
          </a:ln>
        </p:spPr>
      </p:pic>
      <p:cxnSp>
        <p:nvCxnSpPr>
          <p:cNvPr id="134" name="Straight Arrow Connector 6"/>
          <p:cNvCxnSpPr/>
          <p:nvPr/>
        </p:nvCxnSpPr>
        <p:spPr>
          <a:xfrm flipV="1">
            <a:off x="4190760" y="4606560"/>
            <a:ext cx="1080" cy="524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675560" cy="2547720"/>
          </a:xfrm>
          <a:prstGeom prst="rect">
            <a:avLst/>
          </a:prstGeom>
          <a:ln w="0">
            <a:noFill/>
          </a:ln>
        </p:spPr>
      </p:pic>
      <p:pic>
        <p:nvPicPr>
          <p:cNvPr id="137" name="TextBox 4" descr=""/>
          <p:cNvPicPr/>
          <p:nvPr/>
        </p:nvPicPr>
        <p:blipFill>
          <a:blip r:embed="rId2"/>
          <a:stretch/>
        </p:blipFill>
        <p:spPr>
          <a:xfrm>
            <a:off x="1189080" y="3870360"/>
            <a:ext cx="46148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03280" y="1523880"/>
            <a:ext cx="81835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54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58760" y="828720"/>
            <a:ext cx="83757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2209680"/>
            <a:ext cx="4510080" cy="281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273560" cy="2581200"/>
          </a:xfrm>
          <a:prstGeom prst="rect">
            <a:avLst/>
          </a:prstGeom>
          <a:ln w="0">
            <a:noFill/>
          </a:ln>
        </p:spPr>
      </p:pic>
      <p:sp>
        <p:nvSpPr>
          <p:cNvPr id="66" name="Oval 4"/>
          <p:cNvSpPr/>
          <p:nvPr/>
        </p:nvSpPr>
        <p:spPr>
          <a:xfrm>
            <a:off x="-685800" y="2209680"/>
            <a:ext cx="5195880" cy="16002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ounded Rectangle 5"/>
          <p:cNvSpPr/>
          <p:nvPr/>
        </p:nvSpPr>
        <p:spPr>
          <a:xfrm>
            <a:off x="5791320" y="26668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6095880" y="3009960"/>
            <a:ext cx="838440" cy="16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7758000" y="1008000"/>
            <a:ext cx="1297080" cy="10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4510080" y="4348080"/>
            <a:ext cx="3033720" cy="215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6"/>
          <a:stretch/>
        </p:blipFill>
        <p:spPr>
          <a:xfrm>
            <a:off x="6891480" y="5056200"/>
            <a:ext cx="198108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99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  <p:sp>
        <p:nvSpPr>
          <p:cNvPr id="104" name="Straight Connector 2"/>
          <p:cNvSpPr/>
          <p:nvPr/>
        </p:nvSpPr>
        <p:spPr>
          <a:xfrm flipH="1">
            <a:off x="2361960" y="1523880"/>
            <a:ext cx="60948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19"/>
          <p:cNvSpPr/>
          <p:nvPr/>
        </p:nvSpPr>
        <p:spPr>
          <a:xfrm flipH="1">
            <a:off x="1395000" y="5732640"/>
            <a:ext cx="609480" cy="533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377200" cy="436716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4" descr=""/>
          <p:cNvPicPr/>
          <p:nvPr/>
        </p:nvPicPr>
        <p:blipFill>
          <a:blip r:embed="rId2"/>
          <a:stretch/>
        </p:blipFill>
        <p:spPr>
          <a:xfrm>
            <a:off x="5870520" y="920880"/>
            <a:ext cx="3060720" cy="8348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5034240" y="5753160"/>
            <a:ext cx="35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for Al (Exp1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metals (Tabl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arrier condu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2" descr=""/>
          <p:cNvPicPr/>
          <p:nvPr/>
        </p:nvPicPr>
        <p:blipFill>
          <a:blip r:embed="rId1"/>
          <a:stretch/>
        </p:blipFill>
        <p:spPr>
          <a:xfrm>
            <a:off x="328680" y="1523880"/>
            <a:ext cx="8907480" cy="4602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87360" y="60199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 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46022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6562440" y="1676520"/>
            <a:ext cx="24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few fs in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9152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3-01T23:52:10Z</dcterms:modified>
  <cp:revision>511</cp:revision>
  <dc:subject>Physics 272H, Spring 2007</dc:subject>
  <dc:title>Lecture 2</dc:title>
</cp:coreProperties>
</file>