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5.png" ContentType="image/png"/>
  <Override PartName="/ppt/media/image38.wmf" ContentType="image/x-wmf"/>
  <Override PartName="/ppt/media/image29.jpeg" ContentType="image/jpeg"/>
  <Override PartName="/ppt/media/image3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37.wmf" ContentType="image/x-wmf"/>
  <Override PartName="/ppt/media/image3.png" ContentType="image/png"/>
  <Override PartName="/ppt/media/image1.png" ContentType="image/png"/>
  <Override PartName="/ppt/media/image14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8D6-2445-4A81-B54F-8433BC60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221-0EBF-4262-B425-40FD81C9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8AA-F095-4EF4-901A-B1EBEDB0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089-A667-4A64-9951-DCD1ECFB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61B-C657-488D-B5F9-BBC44981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0C-5D05-4D12-B415-3ED85C7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13F-7734-4FE2-AE7F-03F9A13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0F0-CD0F-4A8D-92A0-673A3E61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574-3472-4D1A-B575-B40500C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278-A1CF-4093-9297-A47A749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DFC-A2FE-4E37-819F-A8528A09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B2E-4FC9-4B75-810F-51630C7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F7C2-CFC8-41B2-9691-401C287901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17FE-A244-480B-92A3-D67A8AB9A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3     (2/25/2016)       Slide </a:t>
            </a:r>
            <a:fld id="{57C4B62B-28AB-45AF-8F91-1DACE0C9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3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, 2D semiconductors &amp; quantum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828800" y="4648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ically thin MoS 2: a new direct-gap semiconductor KF Mak, C Lee, J Hone, J Shan, TF Heinz Physical Review Letters 105 (13), 1368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8381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33520" y="588960"/>
            <a:ext cx="8153280" cy="5734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 flipH="1">
            <a:off x="121860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gap:  1.85eV (CdSe)   1.5eV (C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57200" y="620640"/>
            <a:ext cx="8381880" cy="57214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6341040" y="487692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d lens”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70920" y="274320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-129600" y="11872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nski-Krastanow” growth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57200" y="614520"/>
            <a:ext cx="8237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6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eneral trend when lowing to lower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2133360"/>
            <a:ext cx="846792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mission (Stronger e-h wavefunction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xcit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emperatur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ependence (quantum confinement), smaller si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ift of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un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degeneracy (lower symmetry)  [different mass no longer degenerat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"/>
          <p:cNvCxnSpPr/>
          <p:nvPr/>
        </p:nvCxnSpPr>
        <p:spPr>
          <a:xfrm>
            <a:off x="5791320" y="3580920"/>
            <a:ext cx="30528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43" name="Straight Arrow Connector 4"/>
          <p:cNvCxnSpPr/>
          <p:nvPr/>
        </p:nvCxnSpPr>
        <p:spPr>
          <a:xfrm flipH="1" flipV="1">
            <a:off x="6171480" y="3428640"/>
            <a:ext cx="305640" cy="457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44" name="TextBox 5"/>
          <p:cNvSpPr/>
          <p:nvPr/>
        </p:nvSpPr>
        <p:spPr>
          <a:xfrm>
            <a:off x="5337000" y="23893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They do evolve b/t each other with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Quantum Photonics ---- single photon sources/quantum emitter (quantum d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-3240" y="1403280"/>
            <a:ext cx="6902640" cy="1770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3998880"/>
            <a:ext cx="890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est triggered single-photon sources to date have been demonstrated using epitaxially grown semiconductor quantum dots (QD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be convenient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 optical microca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cent advanc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D technology, including demonstrations of high temperature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avelength single-photon emission, have made QD single-photon sources more practical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23360" y="25462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opto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71400" y="292428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lectrical &amp; optical control &amp; rea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8052480" y="4286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9140760" cy="290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28600" y="3695760"/>
            <a:ext cx="8221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ire (nanow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66560" y="39625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anyth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WIP (quantum well infrared photodet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813200" cy="2419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093640" y="1905120"/>
            <a:ext cx="39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bound (tunne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054520" cy="2914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52560" y="480060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(discuss la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ene/2D materials based photo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/different mechanism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-76320" y="1004760"/>
            <a:ext cx="8987040" cy="5015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951600" y="228600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led inc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 on su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ven normal incid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7607160" cy="247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-1440" y="3262320"/>
            <a:ext cx="3351240" cy="25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902040" y="3138480"/>
            <a:ext cx="3705120" cy="280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22868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806000" y="4876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8360" y="5710320"/>
            <a:ext cx="81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emiconductors…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also to discuss superconductor NW single-photon detectors (different mechan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557440" cy="162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191120" y="2700360"/>
            <a:ext cx="2822400" cy="14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152280" y="1531800"/>
            <a:ext cx="474048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04920" y="1206360"/>
            <a:ext cx="2938320" cy="2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0" y="4660920"/>
            <a:ext cx="4657680" cy="190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4584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antum Casca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1753920" y="1417680"/>
            <a:ext cx="6286320" cy="4805640"/>
            <a:chOff x="1753920" y="1417680"/>
            <a:chExt cx="6286320" cy="4805640"/>
          </a:xfrm>
        </p:grpSpPr>
        <p:sp>
          <p:nvSpPr>
            <p:cNvPr id="61" name="AutoShape 3"/>
            <p:cNvSpPr/>
            <p:nvPr/>
          </p:nvSpPr>
          <p:spPr>
            <a:xfrm>
              <a:off x="5219640" y="3845160"/>
              <a:ext cx="309600" cy="677520"/>
            </a:xfrm>
            <a:prstGeom prst="downArrow">
              <a:avLst>
                <a:gd name="adj1" fmla="val 50000"/>
                <a:gd name="adj2" fmla="val 54709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3119400" y="2838600"/>
              <a:ext cx="309600" cy="677880"/>
            </a:xfrm>
            <a:prstGeom prst="downArrow">
              <a:avLst>
                <a:gd name="adj1" fmla="val 50000"/>
                <a:gd name="adj2" fmla="val 54738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Object 5"/>
            <p:cNvGraphicFramePr/>
            <p:nvPr/>
          </p:nvGraphicFramePr>
          <p:xfrm>
            <a:off x="2360520" y="1417680"/>
            <a:ext cx="4832280" cy="44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0520" y="1417680"/>
                      <a:ext cx="4832280" cy="44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6"/>
            <p:cNvSpPr/>
            <p:nvPr/>
          </p:nvSpPr>
          <p:spPr>
            <a:xfrm>
              <a:off x="4916880" y="5824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0 n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 rot="16200000">
              <a:off x="6816960" y="44694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5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4001760" y="256860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658960" y="328932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5129640" y="197496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861520" y="266400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3840840" y="16765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1801800" y="269712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6218280" y="461808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3960720" y="353844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1753920" y="240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MS PGothic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918160" y="417060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"/>
          <p:cNvSpPr/>
          <p:nvPr/>
        </p:nvSpPr>
        <p:spPr>
          <a:xfrm>
            <a:off x="0" y="61516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. Faist, F. Capasso,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ci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64, 553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-39600" y="53276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om IR/MIR/FIT to TH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: MBE or MOCV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/ SE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0" y="2238480"/>
            <a:ext cx="5874840" cy="4065480"/>
            <a:chOff x="0" y="2238480"/>
            <a:chExt cx="5874840" cy="4065480"/>
          </a:xfrm>
        </p:grpSpPr>
        <p:pic>
          <p:nvPicPr>
            <p:cNvPr id="81" name="Picture 4" descr="tem rot2"/>
            <p:cNvPicPr/>
            <p:nvPr/>
          </p:nvPicPr>
          <p:blipFill>
            <a:blip r:embed="rId1"/>
            <a:stretch/>
          </p:blipFill>
          <p:spPr>
            <a:xfrm>
              <a:off x="220320" y="2238480"/>
              <a:ext cx="5654520" cy="40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0" y="4295880"/>
              <a:ext cx="530280" cy="959040"/>
              <a:chOff x="0" y="4295880"/>
              <a:chExt cx="530280" cy="959040"/>
            </a:xfrm>
          </p:grpSpPr>
          <p:sp>
            <p:nvSpPr>
              <p:cNvPr id="83" name="Text Box 6"/>
              <p:cNvSpPr/>
              <p:nvPr/>
            </p:nvSpPr>
            <p:spPr>
              <a:xfrm rot="16200000">
                <a:off x="-140400" y="4573800"/>
                <a:ext cx="9428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E_TERMINAL"/>
                    <a:ea typeface="MS PGothic"/>
                  </a:rPr>
                  <a:t>55 n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>
                <a:off x="0" y="4295880"/>
                <a:ext cx="0" cy="959040"/>
              </a:xfrm>
              <a:prstGeom prst="line">
                <a:avLst/>
              </a:prstGeom>
              <a:ln w="28440">
                <a:solidFill>
                  <a:srgbClr val="2608be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Picture 8" descr="sem rot"/>
          <p:cNvPicPr/>
          <p:nvPr/>
        </p:nvPicPr>
        <p:blipFill>
          <a:blip r:embed="rId2"/>
          <a:stretch/>
        </p:blipFill>
        <p:spPr>
          <a:xfrm>
            <a:off x="6213600" y="3768840"/>
            <a:ext cx="293040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Line 9"/>
          <p:cNvSpPr/>
          <p:nvPr/>
        </p:nvSpPr>
        <p:spPr>
          <a:xfrm>
            <a:off x="5967360" y="2301840"/>
            <a:ext cx="1603440" cy="2543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6027480" y="4884840"/>
            <a:ext cx="1562040" cy="98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849640" y="368280"/>
            <a:ext cx="3151440" cy="3254400"/>
            <a:chOff x="5849640" y="368280"/>
            <a:chExt cx="3151440" cy="3254400"/>
          </a:xfrm>
        </p:grpSpPr>
        <p:sp>
          <p:nvSpPr>
            <p:cNvPr id="89" name="Rectangle 12"/>
            <p:cNvSpPr/>
            <p:nvPr/>
          </p:nvSpPr>
          <p:spPr>
            <a:xfrm>
              <a:off x="6127920" y="368280"/>
              <a:ext cx="2873160" cy="32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3"/>
            <p:cNvGrpSpPr/>
            <p:nvPr/>
          </p:nvGrpSpPr>
          <p:grpSpPr>
            <a:xfrm>
              <a:off x="5849640" y="517680"/>
              <a:ext cx="3139920" cy="3051000"/>
              <a:chOff x="5849640" y="517680"/>
              <a:chExt cx="3139920" cy="3051000"/>
            </a:xfrm>
          </p:grpSpPr>
          <p:graphicFrame>
            <p:nvGraphicFramePr>
              <p:cNvPr id="91" name="Object 14"/>
              <p:cNvGraphicFramePr/>
              <p:nvPr/>
            </p:nvGraphicFramePr>
            <p:xfrm>
              <a:off x="6341760" y="517680"/>
              <a:ext cx="2647800" cy="3051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41760" y="517680"/>
                        <a:ext cx="2647800" cy="305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Rectangle 15"/>
              <p:cNvSpPr/>
              <p:nvPr/>
            </p:nvSpPr>
            <p:spPr>
              <a:xfrm>
                <a:off x="5849640" y="2636640"/>
                <a:ext cx="12254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0.9 nm thi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well and barr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"/>
              <p:cNvSpPr/>
              <p:nvPr/>
            </p:nvSpPr>
            <p:spPr>
              <a:xfrm flipV="1">
                <a:off x="6295680" y="2421000"/>
                <a:ext cx="128160" cy="2296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Freeform 17"/>
          <p:cNvSpPr/>
          <p:nvPr/>
        </p:nvSpPr>
        <p:spPr>
          <a:xfrm>
            <a:off x="0" y="1523880"/>
            <a:ext cx="5867280" cy="1152720"/>
          </a:xfrm>
          <a:custGeom>
            <a:avLst/>
            <a:gdLst>
              <a:gd name="textAreaLeft" fmla="*/ 0 w 5867280"/>
              <a:gd name="textAreaRight" fmla="*/ 5867280 w 5867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701" h="1">
                <a:moveTo>
                  <a:pt x="0" y="0"/>
                </a:moveTo>
                <a:lnTo>
                  <a:pt x="570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8"/>
          <p:cNvGraphicFramePr/>
          <p:nvPr/>
        </p:nvGraphicFramePr>
        <p:xfrm>
          <a:off x="6934320" y="6172200"/>
          <a:ext cx="1776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6172200"/>
                    <a:ext cx="1776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52360" y="1143000"/>
            <a:ext cx="8742240" cy="433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95440" y="609480"/>
            <a:ext cx="84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semiconductor material (eg. Transition Metal DiChalcogen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-17640" y="543096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reviews: Q.H. Wang et al. Electronics and optoelectronics of two-dimensional transition metal dichalcogenides, Nature Nanotechnology  7, 699–712 (2012); X Xu, W Yao, D Xiao, TF Heinz, Spin and pseudospins in layered transition metal dichalcogenides, Nature Physics 10 (5), 343-350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10040" y="-10430064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62320" y="-10414836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414960" y="-10399572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876920" y="57992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1143000" y="4419720"/>
            <a:ext cx="449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405320" y="5052960"/>
            <a:ext cx="480960" cy="482760"/>
          </a:xfrm>
          <a:custGeom>
            <a:avLst/>
            <a:gdLst/>
            <a:ahLst/>
            <a:rect l="l" t="t" r="r" b="b"/>
            <a:pathLst>
              <a:path w="481780" h="481989">
                <a:moveTo>
                  <a:pt x="78658" y="373834"/>
                </a:moveTo>
                <a:cubicBezTo>
                  <a:pt x="73742" y="359086"/>
                  <a:pt x="43009" y="357851"/>
                  <a:pt x="29496" y="344338"/>
                </a:cubicBezTo>
                <a:cubicBezTo>
                  <a:pt x="22167" y="337009"/>
                  <a:pt x="22511" y="324806"/>
                  <a:pt x="19664" y="314841"/>
                </a:cubicBezTo>
                <a:cubicBezTo>
                  <a:pt x="6419" y="268482"/>
                  <a:pt x="7957" y="262388"/>
                  <a:pt x="0" y="206686"/>
                </a:cubicBezTo>
                <a:cubicBezTo>
                  <a:pt x="3277" y="177189"/>
                  <a:pt x="-310" y="146087"/>
                  <a:pt x="9832" y="118196"/>
                </a:cubicBezTo>
                <a:cubicBezTo>
                  <a:pt x="13870" y="107090"/>
                  <a:pt x="30973" y="106887"/>
                  <a:pt x="39329" y="98531"/>
                </a:cubicBezTo>
                <a:cubicBezTo>
                  <a:pt x="47685" y="90175"/>
                  <a:pt x="50637" y="77390"/>
                  <a:pt x="58993" y="69034"/>
                </a:cubicBezTo>
                <a:cubicBezTo>
                  <a:pt x="84310" y="43717"/>
                  <a:pt x="102479" y="46572"/>
                  <a:pt x="137651" y="39538"/>
                </a:cubicBezTo>
                <a:cubicBezTo>
                  <a:pt x="201598" y="-8422"/>
                  <a:pt x="185592" y="-9929"/>
                  <a:pt x="304800" y="19873"/>
                </a:cubicBezTo>
                <a:cubicBezTo>
                  <a:pt x="318290" y="23245"/>
                  <a:pt x="322727" y="41657"/>
                  <a:pt x="334296" y="49370"/>
                </a:cubicBezTo>
                <a:cubicBezTo>
                  <a:pt x="342919" y="55119"/>
                  <a:pt x="353961" y="55925"/>
                  <a:pt x="363793" y="59202"/>
                </a:cubicBezTo>
                <a:cubicBezTo>
                  <a:pt x="375812" y="83240"/>
                  <a:pt x="385753" y="107185"/>
                  <a:pt x="403122" y="128028"/>
                </a:cubicBezTo>
                <a:cubicBezTo>
                  <a:pt x="412024" y="138710"/>
                  <a:pt x="424082" y="146549"/>
                  <a:pt x="432619" y="157525"/>
                </a:cubicBezTo>
                <a:cubicBezTo>
                  <a:pt x="447129" y="176180"/>
                  <a:pt x="471948" y="216518"/>
                  <a:pt x="471948" y="216518"/>
                </a:cubicBezTo>
                <a:cubicBezTo>
                  <a:pt x="475225" y="226350"/>
                  <a:pt x="481780" y="235651"/>
                  <a:pt x="481780" y="246015"/>
                </a:cubicBezTo>
                <a:cubicBezTo>
                  <a:pt x="481780" y="275693"/>
                  <a:pt x="481333" y="306350"/>
                  <a:pt x="471948" y="334505"/>
                </a:cubicBezTo>
                <a:cubicBezTo>
                  <a:pt x="450934" y="397549"/>
                  <a:pt x="437358" y="387982"/>
                  <a:pt x="393290" y="413163"/>
                </a:cubicBezTo>
                <a:cubicBezTo>
                  <a:pt x="383030" y="419026"/>
                  <a:pt x="374592" y="428029"/>
                  <a:pt x="363793" y="432828"/>
                </a:cubicBezTo>
                <a:cubicBezTo>
                  <a:pt x="327518" y="448951"/>
                  <a:pt x="261859" y="463228"/>
                  <a:pt x="226142" y="472157"/>
                </a:cubicBezTo>
                <a:lnTo>
                  <a:pt x="186813" y="481989"/>
                </a:lnTo>
                <a:cubicBezTo>
                  <a:pt x="160593" y="478712"/>
                  <a:pt x="132688" y="481970"/>
                  <a:pt x="108154" y="472157"/>
                </a:cubicBezTo>
                <a:cubicBezTo>
                  <a:pt x="97182" y="467768"/>
                  <a:pt x="97717" y="450042"/>
                  <a:pt x="88490" y="442660"/>
                </a:cubicBezTo>
                <a:cubicBezTo>
                  <a:pt x="80397" y="436186"/>
                  <a:pt x="68825" y="436105"/>
                  <a:pt x="58993" y="432828"/>
                </a:cubicBezTo>
                <a:cubicBezTo>
                  <a:pt x="37863" y="390568"/>
                  <a:pt x="83574" y="388582"/>
                  <a:pt x="78658" y="373834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8072640" y="2592360"/>
            <a:ext cx="113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3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.9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98360" y="2563920"/>
            <a:ext cx="521172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064200" y="4402080"/>
            <a:ext cx="2979720" cy="2001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560" y="455436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s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-27000" y="6094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6239520" y="262728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01480" y="3841920"/>
            <a:ext cx="509760" cy="501480"/>
          </a:xfrm>
          <a:custGeom>
            <a:avLst/>
            <a:gdLst/>
            <a:ahLst/>
            <a:rect l="l" t="t" r="r" b="b"/>
            <a:pathLst>
              <a:path w="509407" h="501445">
                <a:moveTo>
                  <a:pt x="344129" y="137652"/>
                </a:moveTo>
                <a:cubicBezTo>
                  <a:pt x="337574" y="121265"/>
                  <a:pt x="329537" y="105396"/>
                  <a:pt x="324465" y="88491"/>
                </a:cubicBezTo>
                <a:cubicBezTo>
                  <a:pt x="319663" y="72484"/>
                  <a:pt x="323902" y="53234"/>
                  <a:pt x="314632" y="39329"/>
                </a:cubicBezTo>
                <a:cubicBezTo>
                  <a:pt x="308883" y="30706"/>
                  <a:pt x="295101" y="32344"/>
                  <a:pt x="285136" y="29497"/>
                </a:cubicBezTo>
                <a:cubicBezTo>
                  <a:pt x="272143" y="25785"/>
                  <a:pt x="258917" y="22942"/>
                  <a:pt x="245807" y="19665"/>
                </a:cubicBezTo>
                <a:cubicBezTo>
                  <a:pt x="213033" y="22942"/>
                  <a:pt x="179578" y="22091"/>
                  <a:pt x="147484" y="29497"/>
                </a:cubicBezTo>
                <a:cubicBezTo>
                  <a:pt x="106029" y="39063"/>
                  <a:pt x="126668" y="55982"/>
                  <a:pt x="98323" y="78658"/>
                </a:cubicBezTo>
                <a:cubicBezTo>
                  <a:pt x="90230" y="85133"/>
                  <a:pt x="78658" y="85213"/>
                  <a:pt x="68826" y="88491"/>
                </a:cubicBezTo>
                <a:cubicBezTo>
                  <a:pt x="19998" y="161729"/>
                  <a:pt x="82757" y="71773"/>
                  <a:pt x="19665" y="147484"/>
                </a:cubicBezTo>
                <a:cubicBezTo>
                  <a:pt x="12100" y="156562"/>
                  <a:pt x="6555" y="167149"/>
                  <a:pt x="0" y="176981"/>
                </a:cubicBezTo>
                <a:cubicBezTo>
                  <a:pt x="3277" y="239252"/>
                  <a:pt x="1407" y="302009"/>
                  <a:pt x="9832" y="363794"/>
                </a:cubicBezTo>
                <a:cubicBezTo>
                  <a:pt x="11429" y="375503"/>
                  <a:pt x="24212" y="382722"/>
                  <a:pt x="29497" y="393291"/>
                </a:cubicBezTo>
                <a:cubicBezTo>
                  <a:pt x="34132" y="402561"/>
                  <a:pt x="33580" y="414164"/>
                  <a:pt x="39329" y="422787"/>
                </a:cubicBezTo>
                <a:cubicBezTo>
                  <a:pt x="47042" y="434357"/>
                  <a:pt x="58144" y="443382"/>
                  <a:pt x="68826" y="452284"/>
                </a:cubicBezTo>
                <a:cubicBezTo>
                  <a:pt x="77904" y="459849"/>
                  <a:pt x="87754" y="466664"/>
                  <a:pt x="98323" y="471949"/>
                </a:cubicBezTo>
                <a:cubicBezTo>
                  <a:pt x="119405" y="482490"/>
                  <a:pt x="156789" y="487126"/>
                  <a:pt x="176981" y="491613"/>
                </a:cubicBezTo>
                <a:cubicBezTo>
                  <a:pt x="190172" y="494544"/>
                  <a:pt x="203200" y="498168"/>
                  <a:pt x="216310" y="501445"/>
                </a:cubicBezTo>
                <a:cubicBezTo>
                  <a:pt x="223447" y="500256"/>
                  <a:pt x="288664" y="492538"/>
                  <a:pt x="304800" y="481781"/>
                </a:cubicBezTo>
                <a:cubicBezTo>
                  <a:pt x="316370" y="474068"/>
                  <a:pt x="323740" y="461333"/>
                  <a:pt x="334297" y="452284"/>
                </a:cubicBezTo>
                <a:cubicBezTo>
                  <a:pt x="346739" y="441619"/>
                  <a:pt x="362039" y="434374"/>
                  <a:pt x="373626" y="422787"/>
                </a:cubicBezTo>
                <a:cubicBezTo>
                  <a:pt x="439175" y="357238"/>
                  <a:pt x="344127" y="426067"/>
                  <a:pt x="422787" y="373626"/>
                </a:cubicBezTo>
                <a:cubicBezTo>
                  <a:pt x="426065" y="363794"/>
                  <a:pt x="426145" y="352222"/>
                  <a:pt x="432620" y="344129"/>
                </a:cubicBezTo>
                <a:cubicBezTo>
                  <a:pt x="440002" y="334902"/>
                  <a:pt x="453760" y="332821"/>
                  <a:pt x="462116" y="324465"/>
                </a:cubicBezTo>
                <a:cubicBezTo>
                  <a:pt x="470472" y="316109"/>
                  <a:pt x="475226" y="304800"/>
                  <a:pt x="481781" y="294968"/>
                </a:cubicBezTo>
                <a:cubicBezTo>
                  <a:pt x="506297" y="221419"/>
                  <a:pt x="524436" y="192104"/>
                  <a:pt x="491613" y="98323"/>
                </a:cubicBezTo>
                <a:cubicBezTo>
                  <a:pt x="482426" y="72074"/>
                  <a:pt x="455759" y="54755"/>
                  <a:pt x="432620" y="39329"/>
                </a:cubicBezTo>
                <a:lnTo>
                  <a:pt x="373626" y="0"/>
                </a:lnTo>
                <a:cubicBezTo>
                  <a:pt x="357239" y="3277"/>
                  <a:pt x="340112" y="3964"/>
                  <a:pt x="324465" y="9832"/>
                </a:cubicBezTo>
                <a:cubicBezTo>
                  <a:pt x="267178" y="31315"/>
                  <a:pt x="313736" y="29497"/>
                  <a:pt x="285136" y="29497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929880" y="37339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-73440" y="3581280"/>
            <a:ext cx="8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1L: Brea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InvSy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5316480" y="3044880"/>
            <a:ext cx="1409760" cy="1311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789000" y="3581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l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19080" y="22096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98600" y="4245120"/>
            <a:ext cx="529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bandstructure in 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ee also: Splendiani, A. et al, NanoLetter, 2010; Wickramaratne et al.JAP’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3108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2819520"/>
            <a:ext cx="91026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5T04:05:54Z</dcterms:modified>
  <cp:revision>488</cp:revision>
  <dc:subject>Physics 272H, Spring 2007</dc:subject>
  <dc:title>Lecture 2</dc:title>
</cp:coreProperties>
</file>