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3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BB8-ED33-4FA8-93E6-22D47EA3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BBC-5CE7-4768-A102-C80A83A9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39A-1E39-4801-AB17-ECA43683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13E-EAB8-4E51-84AC-A18A1376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6A8-81CA-4749-A191-85F13D9B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DB9-C566-4412-A410-67EF37C6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BE9-203B-4208-AFEC-FC378B6A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1FD8-F942-4A33-A15C-B2CFE276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BA13-1639-4DB1-AF31-5868734E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A947-083D-4337-8827-934A93CD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41E0-AED2-40D3-ACDE-207BC1CE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5FA-41AD-426E-BA78-CAF401B7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D8D6-5742-4D52-A3ED-9EEA8739B3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7F62-5E53-4B96-BFAD-2345834DC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2     (2/23/2016)       Slide </a:t>
            </a:r>
            <a:fld id="{DAD369B2-8CB8-4240-8C98-C2E2D49B5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2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ow dimensional) Quantum Confined Structures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uantum wells &amp; 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762120" y="676440"/>
            <a:ext cx="7924680" cy="57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457200" y="773280"/>
            <a:ext cx="8153280" cy="526248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167760" y="141768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00% spin polarization possib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34640" y="6035760"/>
            <a:ext cx="70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alence band holes can have much longer spin lifetime (than bul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533520" y="736560"/>
            <a:ext cx="8153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380880" y="836640"/>
            <a:ext cx="85345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0480" y="1143000"/>
            <a:ext cx="9023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i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 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QC Journal C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604800" y="1676520"/>
            <a:ext cx="8082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28600" y="858960"/>
            <a:ext cx="82296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04640" y="685800"/>
            <a:ext cx="835848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592200" y="750960"/>
            <a:ext cx="7866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380880" y="820800"/>
            <a:ext cx="792504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838080" y="703440"/>
            <a:ext cx="784872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685800" y="749160"/>
            <a:ext cx="8229600" cy="56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06-01-11T03:05:51Z</cp:lastPrinted>
  <dcterms:modified xsi:type="dcterms:W3CDTF">2016-02-23T19:51:18Z</dcterms:modified>
  <cp:revision>456</cp:revision>
  <dc:subject>Physics 272H, Spring 2007</dc:subject>
  <dc:title>Lecture 2</dc:title>
</cp:coreProperties>
</file>