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0C3-A936-4EC8-99CD-744F045A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C67-1FBF-430A-949B-A2E67B8E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524-122F-4253-9AD0-E4C08F70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0D7-4D28-4FDF-BC74-53789F88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B63-86F5-4B68-8138-570375C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5FB-47BC-4213-A3F8-3B209241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038-14ED-4154-A91D-E0978620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A96-9D9F-41D9-8D34-325BE8F0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71C-6847-4364-89BA-7FEBFC7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424-EADA-4483-82CC-84679BC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FA5-ADF2-447A-98CE-A67E975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1DF-A2DB-4B19-ABB4-66BB7A9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488-EBCD-409F-AB2B-077C28F3A7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6BA-BB3B-48D3-BFA2-CAB975A1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2     (2/23/2016)       Slide </a:t>
            </a:r>
            <a:fld id="{24613BC3-900A-4BB7-A952-848A90FC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 &amp;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62120" y="676440"/>
            <a:ext cx="792468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73280"/>
            <a:ext cx="8153280" cy="5262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67760" y="14176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0% spin polarization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4640" y="60357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alence band holes can have much longer spin lifetime (than b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33520" y="73656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80880" y="836640"/>
            <a:ext cx="8534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0480" y="1143000"/>
            <a:ext cx="9023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QC Journal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4800" y="1676520"/>
            <a:ext cx="808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04640" y="685800"/>
            <a:ext cx="83584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2200" y="750960"/>
            <a:ext cx="7866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80880" y="820800"/>
            <a:ext cx="79250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38080" y="703440"/>
            <a:ext cx="78487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85800" y="749160"/>
            <a:ext cx="822960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3T19:51:18Z</dcterms:modified>
  <cp:revision>456</cp:revision>
  <dc:subject>Physics 272H, Spring 2007</dc:subject>
  <dc:title>Lecture 2</dc:title>
</cp:coreProperties>
</file>