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5EB-4FB8-45BD-8D72-18BC15F4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C23-5818-4DA9-ABF3-4ADD02A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EC5-F4EC-4B16-B35A-0482995F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6A7-B53B-4A36-845E-A1D32036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AB8-F9A7-4736-910C-330AF7CF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19B-5450-4348-8FE1-49F41BFA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806-D034-4F7C-9D12-3184D3DF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E06-2FBE-4057-AD97-395B36D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531-E8F5-4318-8D03-5F083E6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1AC-E3F0-4659-A1E3-EE1F47C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CF7-8504-4627-8350-1F637C3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E37-1E96-43EB-BB66-88A7F8F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26A-5CF6-4C24-8339-C54D2A985F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BCB8-A5AF-4C8D-80F5-C51625109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2     (2/23/2016)       Slide </a:t>
            </a:r>
            <a:fld id="{B607207B-E67D-42D5-BDE9-E8511619D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 &amp;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62120" y="676440"/>
            <a:ext cx="792468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773280"/>
            <a:ext cx="8153280" cy="5262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67760" y="14176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0% spin polarization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34640" y="603576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alence band holes can have much longer spin lifetime (than b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33520" y="73656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80880" y="836640"/>
            <a:ext cx="8534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0480" y="1143000"/>
            <a:ext cx="9023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QC Journal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4800" y="1676520"/>
            <a:ext cx="808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04640" y="685800"/>
            <a:ext cx="83584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92200" y="750960"/>
            <a:ext cx="7866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80880" y="820800"/>
            <a:ext cx="79250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838080" y="703440"/>
            <a:ext cx="78487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85800" y="749160"/>
            <a:ext cx="822960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3T19:51:18Z</dcterms:modified>
  <cp:revision>456</cp:revision>
  <dc:subject>Physics 272H, Spring 2007</dc:subject>
  <dc:title>Lecture 2</dc:title>
</cp:coreProperties>
</file>