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0.png" ContentType="image/png"/>
  <Override PartName="/ppt/media/image51.png" ContentType="image/png"/>
  <Override PartName="/ppt/media/image49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43A02-FAE9-4B5A-9D7D-0B9FE8CA25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04989-7C3A-4307-8AD7-4ECAAE9D6DD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D7ED9-843B-4090-ADB1-0120C928D36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A5A3B-A913-420D-B179-924178BB8A6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6C11-8A83-4794-A075-05C3837E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BB98-1287-4A44-B43C-1422A993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EDE0-C424-41D4-B265-4C0C8C42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DCBA-3373-45FD-94EC-1CFEBB26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3BAF-11EA-47DF-9D38-36F636E9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137E-19AB-48C4-9C09-7570A4F2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3BC4-1C3C-4AB7-BBEA-64293AE0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2A52-976F-4BF4-BA1B-D23400EC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3F02-585B-4B0C-B3B5-A0FB2AF1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2085-01B4-4F9E-8E0F-5A7B9AB1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220E-DF37-4866-8F40-C8B517CF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2B5D-C3F9-4CD3-A59E-CE65C7AB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F6AC-AA46-4139-BC14-AC9C66BF923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5C79-DBDD-4738-9715-D0A7C11FB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Lecture 11     (2/18/2016)        Slide </a:t>
            </a:r>
            <a:fld id="{5818798C-14B1-483B-B05F-DC1E96752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Optics &amp; Quantum Photon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7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8.pn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png"/><Relationship Id="rId11" Type="http://schemas.openxmlformats.org/officeDocument/2006/relationships/image" Target="../media/image82.png"/><Relationship Id="rId12" Type="http://schemas.openxmlformats.org/officeDocument/2006/relationships/image" Target="../media/image8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image" Target="../media/image8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6480" y="1904760"/>
            <a:ext cx="8762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cture 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 Classical 2-level system (Light-Atom interaction): Rabi &amp; Bloch; atom, QD &amp; NM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l optical 2-level Rab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5840" y="1600200"/>
            <a:ext cx="2104920" cy="50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0" y="2514600"/>
            <a:ext cx="4711680" cy="1981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5014800" y="2468520"/>
            <a:ext cx="4129200" cy="2073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4"/>
          <a:stretch/>
        </p:blipFill>
        <p:spPr>
          <a:xfrm>
            <a:off x="5276880" y="4653000"/>
            <a:ext cx="3882960" cy="12906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3"/>
          <p:cNvSpPr/>
          <p:nvPr/>
        </p:nvSpPr>
        <p:spPr>
          <a:xfrm>
            <a:off x="6138720" y="22366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Mollow tripl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5"/>
          <a:stretch/>
        </p:blipFill>
        <p:spPr>
          <a:xfrm>
            <a:off x="441360" y="4491000"/>
            <a:ext cx="4270320" cy="15652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4"/>
          <p:cNvSpPr/>
          <p:nvPr/>
        </p:nvSpPr>
        <p:spPr>
          <a:xfrm>
            <a:off x="4428000" y="160020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l optical 2-level Rab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5840" y="1600200"/>
            <a:ext cx="2104920" cy="50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TextBox 4"/>
          <p:cNvSpPr/>
          <p:nvPr/>
        </p:nvSpPr>
        <p:spPr>
          <a:xfrm>
            <a:off x="3067920" y="1652760"/>
            <a:ext cx="543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Quantum Dot (artificial at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-15840" y="2268360"/>
            <a:ext cx="7467480" cy="2946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3"/>
          <a:stretch/>
        </p:blipFill>
        <p:spPr>
          <a:xfrm>
            <a:off x="6537240" y="3962520"/>
            <a:ext cx="26067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l optical 2-level Rab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5840" y="1600200"/>
            <a:ext cx="2104920" cy="50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TextBox 4"/>
          <p:cNvSpPr/>
          <p:nvPr/>
        </p:nvSpPr>
        <p:spPr>
          <a:xfrm>
            <a:off x="3067920" y="1652760"/>
            <a:ext cx="543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Quantum Dot (artificial at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30240" y="2438280"/>
            <a:ext cx="5816520" cy="4050000"/>
          </a:xfrm>
          <a:prstGeom prst="rect">
            <a:avLst/>
          </a:prstGeom>
          <a:ln w="0">
            <a:noFill/>
          </a:ln>
        </p:spPr>
      </p:pic>
      <p:sp>
        <p:nvSpPr>
          <p:cNvPr id="155" name="Rounded Rectangle 2"/>
          <p:cNvSpPr/>
          <p:nvPr/>
        </p:nvSpPr>
        <p:spPr>
          <a:xfrm>
            <a:off x="3048120" y="2971800"/>
            <a:ext cx="304560" cy="83808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838080"/>
              <a:gd name="textAreaBottom" fmla="*/ 823320 h 838080"/>
            </a:gdLst>
            <a:ahLst/>
            <a:rect l="textAreaLeft" t="textAreaTop" r="textAreaRight" b="textAreaBottom"/>
            <a:pathLst>
              <a:path w="21600" h="59394">
                <a:moveTo>
                  <a:pt x="3600" y="0"/>
                </a:moveTo>
                <a:arcTo wR="3600" hR="3600" stAng="16200000" swAng="-5400000"/>
                <a:lnTo>
                  <a:pt x="0" y="55794"/>
                </a:lnTo>
                <a:arcTo wR="3600" hR="3600" stAng="10800000" swAng="-5400000"/>
                <a:lnTo>
                  <a:pt x="18000" y="59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3"/>
          <a:stretch/>
        </p:blipFill>
        <p:spPr>
          <a:xfrm>
            <a:off x="5788080" y="2782800"/>
            <a:ext cx="326700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5000760" cy="1685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0" y="2590920"/>
            <a:ext cx="6257880" cy="3152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3"/>
          <a:stretch/>
        </p:blipFill>
        <p:spPr>
          <a:xfrm>
            <a:off x="5000760" y="2057400"/>
            <a:ext cx="3400200" cy="1762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4"/>
          <a:stretch/>
        </p:blipFill>
        <p:spPr>
          <a:xfrm>
            <a:off x="5181480" y="3971880"/>
            <a:ext cx="2733840" cy="3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2" name="Picture 6" descr=""/>
          <p:cNvPicPr/>
          <p:nvPr/>
        </p:nvPicPr>
        <p:blipFill>
          <a:blip r:embed="rId5"/>
          <a:stretch/>
        </p:blipFill>
        <p:spPr>
          <a:xfrm>
            <a:off x="5091120" y="4648320"/>
            <a:ext cx="2333520" cy="409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6"/>
          <a:stretch/>
        </p:blipFill>
        <p:spPr>
          <a:xfrm>
            <a:off x="3733920" y="5257800"/>
            <a:ext cx="5410080" cy="6541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4419720" y="5257800"/>
            <a:ext cx="2280960" cy="654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7711200" y="4691160"/>
            <a:ext cx="823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~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mor Prec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505320" cy="4648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2"/>
          <a:stretch/>
        </p:blipFill>
        <p:spPr>
          <a:xfrm>
            <a:off x="3641760" y="1574640"/>
            <a:ext cx="1390680" cy="466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3"/>
          <a:stretch/>
        </p:blipFill>
        <p:spPr>
          <a:xfrm>
            <a:off x="3610080" y="2055960"/>
            <a:ext cx="961920" cy="523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4"/>
          <a:stretch/>
        </p:blipFill>
        <p:spPr>
          <a:xfrm>
            <a:off x="5018040" y="2087640"/>
            <a:ext cx="2467080" cy="380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5"/>
          <a:stretch/>
        </p:blipFill>
        <p:spPr>
          <a:xfrm>
            <a:off x="3411360" y="2797200"/>
            <a:ext cx="4152960" cy="1000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6"/>
          <a:stretch/>
        </p:blipFill>
        <p:spPr>
          <a:xfrm>
            <a:off x="4030560" y="3478320"/>
            <a:ext cx="1771920" cy="63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3" name="Picture 8" descr=""/>
          <p:cNvPicPr/>
          <p:nvPr/>
        </p:nvPicPr>
        <p:blipFill>
          <a:blip r:embed="rId7"/>
          <a:stretch/>
        </p:blipFill>
        <p:spPr>
          <a:xfrm>
            <a:off x="6400800" y="3911760"/>
            <a:ext cx="1362240" cy="40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MR) Rotating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2314440" cy="390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3552840" cy="457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3"/>
          <a:stretch/>
        </p:blipFill>
        <p:spPr>
          <a:xfrm>
            <a:off x="9360" y="2576520"/>
            <a:ext cx="2752920" cy="170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4"/>
          <a:stretch/>
        </p:blipFill>
        <p:spPr>
          <a:xfrm>
            <a:off x="25560" y="4281480"/>
            <a:ext cx="2085840" cy="380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5"/>
          <a:stretch/>
        </p:blipFill>
        <p:spPr>
          <a:xfrm>
            <a:off x="380880" y="4952880"/>
            <a:ext cx="828720" cy="2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0" name="Picture 7" descr=""/>
          <p:cNvPicPr/>
          <p:nvPr/>
        </p:nvPicPr>
        <p:blipFill>
          <a:blip r:embed="rId6"/>
          <a:stretch/>
        </p:blipFill>
        <p:spPr>
          <a:xfrm>
            <a:off x="4495680" y="1536840"/>
            <a:ext cx="4237200" cy="2070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7"/>
          <a:stretch/>
        </p:blipFill>
        <p:spPr>
          <a:xfrm>
            <a:off x="7027920" y="1359000"/>
            <a:ext cx="2047680" cy="355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8"/>
          <a:stretch/>
        </p:blipFill>
        <p:spPr>
          <a:xfrm>
            <a:off x="3960720" y="1414440"/>
            <a:ext cx="2138400" cy="284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9"/>
          <a:stretch/>
        </p:blipFill>
        <p:spPr>
          <a:xfrm>
            <a:off x="2387520" y="3606840"/>
            <a:ext cx="2787840" cy="2886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10"/>
          <a:stretch/>
        </p:blipFill>
        <p:spPr>
          <a:xfrm>
            <a:off x="5410080" y="4398840"/>
            <a:ext cx="1838520" cy="40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Picture 12" descr=""/>
          <p:cNvPicPr/>
          <p:nvPr/>
        </p:nvPicPr>
        <p:blipFill>
          <a:blip r:embed="rId11"/>
          <a:stretch/>
        </p:blipFill>
        <p:spPr>
          <a:xfrm>
            <a:off x="5251320" y="4973760"/>
            <a:ext cx="1781280" cy="447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"/>
          <p:cNvPicPr/>
          <p:nvPr/>
        </p:nvPicPr>
        <p:blipFill>
          <a:blip r:embed="rId12"/>
          <a:stretch/>
        </p:blipFill>
        <p:spPr>
          <a:xfrm>
            <a:off x="5175360" y="5421240"/>
            <a:ext cx="2438280" cy="7714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3"/>
          <p:cNvSpPr/>
          <p:nvPr/>
        </p:nvSpPr>
        <p:spPr>
          <a:xfrm>
            <a:off x="5701680" y="612468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Rabi oscil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MR) Bloch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3952800" cy="20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1171440" y="4495680"/>
            <a:ext cx="6801120" cy="6955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3"/>
          <p:cNvSpPr/>
          <p:nvPr/>
        </p:nvSpPr>
        <p:spPr>
          <a:xfrm>
            <a:off x="245520" y="5791320"/>
            <a:ext cx="52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ptical analogue:  optical Bloch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uli Matrices (spin-1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&#10;\sigma_1 = \sigma_x =&#10;\begin{pmatrix}&#10;0&amp;1\\&#10;1&amp;0&#10;\end{pmatrix}&#10;"/>
          <p:cNvPicPr/>
          <p:nvPr/>
        </p:nvPicPr>
        <p:blipFill>
          <a:blip r:embed="rId1"/>
          <a:stretch/>
        </p:blipFill>
        <p:spPr>
          <a:xfrm>
            <a:off x="981000" y="1600200"/>
            <a:ext cx="14572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&#10;\sigma_2 = \sigma_y =&#10;\begin{pmatrix}&#10;0&amp;-i\\&#10;i&amp;0&#10;\end{pmatrix}&#10;"/>
          <p:cNvPicPr/>
          <p:nvPr/>
        </p:nvPicPr>
        <p:blipFill>
          <a:blip r:embed="rId2"/>
          <a:stretch/>
        </p:blipFill>
        <p:spPr>
          <a:xfrm>
            <a:off x="981000" y="2286000"/>
            <a:ext cx="1571760" cy="457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&#10;\sigma_3 = \sigma_z =&#10;\begin{pmatrix}&#10;1&amp;0\\&#10;0&amp;-1&#10;\end{pmatrix}&#10;"/>
          <p:cNvPicPr/>
          <p:nvPr/>
        </p:nvPicPr>
        <p:blipFill>
          <a:blip r:embed="rId3"/>
          <a:stretch/>
        </p:blipFill>
        <p:spPr>
          <a:xfrm>
            <a:off x="952560" y="3048120"/>
            <a:ext cx="1600200" cy="457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&#10;\begin{array}{lclc}&#10;\psi_{x+}=\displaystyle\frac{1}{\sqrt{2}}\!\!\!\!\! &amp; \begin{pmatrix}{1}\\{1}\end{pmatrix}, &amp; \psi_{x-}=\displaystyle\frac{1}{\sqrt{2}}\!\!\!\!\! &amp; \begin{pmatrix}{1}\\{-1}\end{pmatrix}, \\&#10;\psi_{y+}=\displaystyle\frac{1}{\sqrt{2}}\!\!\!\!\! &amp; \begin{pmatrix}{1}\\{i}\end{pmatrix}, &amp; \psi_{y-}=\displaystyle\frac{1}{\sqrt{2}}\!\!\!\!\! &amp; \begin{pmatrix}{1}\\{-i}\end{pmatrix}, \\&#10;\psi_{z+}=                                          &amp; \begin{pmatrix}{1}\\{0}\end{pmatrix}, &amp; \psi_{z-}=                                          &amp; \begin{pmatrix}{0}\\{1}\end{pmatrix}.&#10;\end{array}&#10;"/>
          <p:cNvPicPr/>
          <p:nvPr/>
        </p:nvPicPr>
        <p:blipFill>
          <a:blip r:embed="rId4"/>
          <a:stretch/>
        </p:blipFill>
        <p:spPr>
          <a:xfrm>
            <a:off x="3936960" y="1616040"/>
            <a:ext cx="3759120" cy="18288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3"/>
          <p:cNvSpPr/>
          <p:nvPr/>
        </p:nvSpPr>
        <p:spPr>
          <a:xfrm>
            <a:off x="3048480" y="15955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3048480" y="22813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3053880" y="297972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181800" y="4495680"/>
            <a:ext cx="84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implest way to understand 2-level TDSE (after rotating fr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essed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5943600" cy="23860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3"/>
          <p:cNvSpPr/>
          <p:nvPr/>
        </p:nvSpPr>
        <p:spPr>
          <a:xfrm>
            <a:off x="928080" y="4724280"/>
            <a:ext cx="366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diabatic pa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Landau Zener trans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1920" y="5638680"/>
            <a:ext cx="908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ad Chap 5 in Steck book:  http://atomoptics.uoregon.edu/~dsteck/teaching/quantum-optic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l optical 2-level Rab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15840" y="1600200"/>
            <a:ext cx="2104920" cy="50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0" y="2514600"/>
            <a:ext cx="4711680" cy="1981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3"/>
          <a:stretch/>
        </p:blipFill>
        <p:spPr>
          <a:xfrm>
            <a:off x="5014800" y="2468520"/>
            <a:ext cx="4129200" cy="2073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4"/>
          <a:stretch/>
        </p:blipFill>
        <p:spPr>
          <a:xfrm>
            <a:off x="5276880" y="4653000"/>
            <a:ext cx="3882960" cy="12906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3"/>
          <p:cNvSpPr/>
          <p:nvPr/>
        </p:nvSpPr>
        <p:spPr>
          <a:xfrm>
            <a:off x="6138720" y="22366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Mollow tripl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5"/>
          <a:stretch/>
        </p:blipFill>
        <p:spPr>
          <a:xfrm>
            <a:off x="441360" y="4491000"/>
            <a:ext cx="4270320" cy="15652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"/>
          <p:cNvSpPr/>
          <p:nvPr/>
        </p:nvSpPr>
        <p:spPr>
          <a:xfrm>
            <a:off x="4428000" y="160020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2-level system (Schordinger eq, Rabi, Blo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FQ  Chap 9; Blasing lecture 1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to NM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FQ Appendix 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MR/spin picture to understand 2-level system (Schordinger eq, Rabi etc) in Pauli matrices  [after rotating frame transformatio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036800" y="2057400"/>
            <a:ext cx="65815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5477040" cy="981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609480" y="1895400"/>
            <a:ext cx="1247760" cy="590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46080" y="2743200"/>
            <a:ext cx="2076480" cy="1104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4"/>
          <a:stretch/>
        </p:blipFill>
        <p:spPr>
          <a:xfrm>
            <a:off x="960480" y="3095640"/>
            <a:ext cx="866880" cy="333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5"/>
          <a:stretch/>
        </p:blipFill>
        <p:spPr>
          <a:xfrm>
            <a:off x="2784600" y="1962000"/>
            <a:ext cx="192384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6"/>
          <a:stretch/>
        </p:blipFill>
        <p:spPr>
          <a:xfrm>
            <a:off x="5715000" y="1865160"/>
            <a:ext cx="1476360" cy="638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7"/>
          <a:stretch/>
        </p:blipFill>
        <p:spPr>
          <a:xfrm>
            <a:off x="5586480" y="2581200"/>
            <a:ext cx="3525840" cy="1028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8"/>
          <a:stretch/>
        </p:blipFill>
        <p:spPr>
          <a:xfrm>
            <a:off x="1827360" y="4114800"/>
            <a:ext cx="5057640" cy="380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9"/>
          <a:stretch/>
        </p:blipFill>
        <p:spPr>
          <a:xfrm>
            <a:off x="1887480" y="4672080"/>
            <a:ext cx="4208400" cy="1585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/>
          <p:cNvPicPr/>
          <p:nvPr/>
        </p:nvPicPr>
        <p:blipFill>
          <a:blip r:embed="rId10"/>
          <a:stretch/>
        </p:blipFill>
        <p:spPr>
          <a:xfrm>
            <a:off x="1827360" y="5181480"/>
            <a:ext cx="4039920" cy="6001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1827360" y="4672080"/>
            <a:ext cx="4268520" cy="1109520"/>
          </a:xfrm>
          <a:prstGeom prst="rect">
            <a:avLst/>
          </a:prstGeom>
          <a:noFill/>
          <a:ln w="255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2" descr=""/>
          <p:cNvPicPr/>
          <p:nvPr/>
        </p:nvPicPr>
        <p:blipFill>
          <a:blip r:embed="rId11"/>
          <a:stretch/>
        </p:blipFill>
        <p:spPr>
          <a:xfrm>
            <a:off x="3193920" y="2624040"/>
            <a:ext cx="130680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pole tran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1447920"/>
            <a:ext cx="1828800" cy="466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0" y="2006640"/>
            <a:ext cx="2838600" cy="1104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3276720" y="1484280"/>
            <a:ext cx="4533840" cy="1104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4"/>
          <a:stretch/>
        </p:blipFill>
        <p:spPr>
          <a:xfrm>
            <a:off x="4038480" y="2619360"/>
            <a:ext cx="3276720" cy="64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5"/>
          <a:stretch/>
        </p:blipFill>
        <p:spPr>
          <a:xfrm>
            <a:off x="276120" y="3571920"/>
            <a:ext cx="1552680" cy="285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6"/>
          <a:stretch/>
        </p:blipFill>
        <p:spPr>
          <a:xfrm>
            <a:off x="228600" y="4038480"/>
            <a:ext cx="1190520" cy="285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76320" y="3571920"/>
            <a:ext cx="2133360" cy="8478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7"/>
          <a:stretch/>
        </p:blipFill>
        <p:spPr>
          <a:xfrm>
            <a:off x="2630520" y="3267000"/>
            <a:ext cx="4714920" cy="1266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8"/>
          <a:stretch/>
        </p:blipFill>
        <p:spPr>
          <a:xfrm>
            <a:off x="3629160" y="5029200"/>
            <a:ext cx="4600440" cy="121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7" name="TextBox 4"/>
          <p:cNvSpPr/>
          <p:nvPr/>
        </p:nvSpPr>
        <p:spPr>
          <a:xfrm>
            <a:off x="4588560" y="453384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DSE in c1,c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0" descr=""/>
          <p:cNvPicPr/>
          <p:nvPr/>
        </p:nvPicPr>
        <p:blipFill>
          <a:blip r:embed="rId9"/>
          <a:stretch/>
        </p:blipFill>
        <p:spPr>
          <a:xfrm>
            <a:off x="228600" y="5273640"/>
            <a:ext cx="28605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 Field Limit/Einstein Coeffic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1285920" cy="34308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264960" y="15238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~                      ~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2895480" y="1338120"/>
            <a:ext cx="4248360" cy="714600"/>
          </a:xfrm>
          <a:prstGeom prst="rect">
            <a:avLst/>
          </a:prstGeom>
          <a:ln w="0">
            <a:noFill/>
          </a:ln>
        </p:spPr>
      </p:pic>
      <p:sp>
        <p:nvSpPr>
          <p:cNvPr id="93" name="Straight Connector 5"/>
          <p:cNvSpPr/>
          <p:nvPr/>
        </p:nvSpPr>
        <p:spPr>
          <a:xfrm flipV="1">
            <a:off x="5791320" y="1337760"/>
            <a:ext cx="914400" cy="871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traight Connector 7"/>
          <p:cNvSpPr/>
          <p:nvPr/>
        </p:nvSpPr>
        <p:spPr>
          <a:xfrm>
            <a:off x="5791320" y="1338120"/>
            <a:ext cx="1143000" cy="871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6995520" y="21337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MS PGothic"/>
              </a:rPr>
              <a:t>R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2949480" y="2317680"/>
            <a:ext cx="3429000" cy="704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4"/>
          <a:stretch/>
        </p:blipFill>
        <p:spPr>
          <a:xfrm>
            <a:off x="1628640" y="3038400"/>
            <a:ext cx="5791320" cy="781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5"/>
          <a:stretch/>
        </p:blipFill>
        <p:spPr>
          <a:xfrm>
            <a:off x="1628640" y="4038480"/>
            <a:ext cx="2867040" cy="58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Picture 11" descr=""/>
          <p:cNvPicPr/>
          <p:nvPr/>
        </p:nvPicPr>
        <p:blipFill>
          <a:blip r:embed="rId6"/>
          <a:stretch/>
        </p:blipFill>
        <p:spPr>
          <a:xfrm>
            <a:off x="266760" y="5148360"/>
            <a:ext cx="4248000" cy="695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7"/>
          <a:stretch/>
        </p:blipFill>
        <p:spPr>
          <a:xfrm>
            <a:off x="5114880" y="4329000"/>
            <a:ext cx="181944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Picture 13" descr=""/>
          <p:cNvPicPr/>
          <p:nvPr/>
        </p:nvPicPr>
        <p:blipFill>
          <a:blip r:embed="rId8"/>
          <a:stretch/>
        </p:blipFill>
        <p:spPr>
          <a:xfrm>
            <a:off x="5219640" y="5070600"/>
            <a:ext cx="17146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bitrary/Strong Field –Rabi Fl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952640" cy="122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TextBox 3"/>
          <p:cNvSpPr/>
          <p:nvPr/>
        </p:nvSpPr>
        <p:spPr>
          <a:xfrm>
            <a:off x="55800" y="1123920"/>
            <a:ext cx="36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MS PGothic"/>
              </a:rPr>
              <a:t>resonant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MS PGothic"/>
              </a:rPr>
              <a:t> TDSE with R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3962520" y="1204920"/>
            <a:ext cx="4432320" cy="2171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0" y="3029040"/>
            <a:ext cx="2152800" cy="799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4"/>
          <a:stretch/>
        </p:blipFill>
        <p:spPr>
          <a:xfrm>
            <a:off x="2152800" y="3029040"/>
            <a:ext cx="2438280" cy="8571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5087160" y="3376440"/>
            <a:ext cx="32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MS PGothic"/>
              </a:rPr>
              <a:t>(resonant Rabi osci/flo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5"/>
          <a:stretch/>
        </p:blipFill>
        <p:spPr>
          <a:xfrm>
            <a:off x="233280" y="4648320"/>
            <a:ext cx="3478320" cy="16002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255600" y="4156200"/>
            <a:ext cx="64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MS PGothic"/>
              </a:rPr>
              <a:t>Non-resonant Rabi oscillation  (reduced amplitu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3244320" y="5786280"/>
            <a:ext cx="39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non-resonant Rabi frequ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413280" y="5321160"/>
            <a:ext cx="14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|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=1-|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6"/>
          <a:stretch/>
        </p:blipFill>
        <p:spPr>
          <a:xfrm>
            <a:off x="1200240" y="3838680"/>
            <a:ext cx="1923840" cy="1998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3977280" y="4784760"/>
            <a:ext cx="47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[not able to completely flop/drive to excited stat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7"/>
          <a:stretch/>
        </p:blipFill>
        <p:spPr>
          <a:xfrm>
            <a:off x="7172280" y="1147680"/>
            <a:ext cx="1379520" cy="41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840" y="6858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amped Rabi osci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1752480"/>
            <a:ext cx="5172120" cy="2867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152280" y="4724280"/>
            <a:ext cx="4610160" cy="13827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105120" y="6094440"/>
            <a:ext cx="42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resonant &amp; moderate damping [cf.Loudon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3"/>
          <a:stretch/>
        </p:blipFill>
        <p:spPr>
          <a:xfrm>
            <a:off x="5504040" y="2881440"/>
            <a:ext cx="1895400" cy="3045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5515920" y="225252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arge t behavi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454160" y="2830680"/>
            <a:ext cx="10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smal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4"/>
          <a:stretch/>
        </p:blipFill>
        <p:spPr>
          <a:xfrm>
            <a:off x="5334120" y="3352680"/>
            <a:ext cx="3309840" cy="6048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5120640" y="4524480"/>
            <a:ext cx="34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nnects to weak field/Ein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4735080" y="493560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~t (small 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5"/>
          <a:stretch/>
        </p:blipFill>
        <p:spPr>
          <a:xfrm>
            <a:off x="7302600" y="914400"/>
            <a:ext cx="1819080" cy="695160"/>
          </a:xfrm>
          <a:prstGeom prst="rect">
            <a:avLst/>
          </a:prstGeom>
          <a:ln w="0">
            <a:noFill/>
          </a:ln>
        </p:spPr>
      </p:pic>
      <p:cxnSp>
        <p:nvCxnSpPr>
          <p:cNvPr id="127" name="Straight Arrow Connector 9"/>
          <p:cNvCxnSpPr/>
          <p:nvPr/>
        </p:nvCxnSpPr>
        <p:spPr>
          <a:xfrm flipV="1">
            <a:off x="4038480" y="1447560"/>
            <a:ext cx="3361680" cy="14342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2-level (Rabi) on Bloch 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0" y="1709640"/>
            <a:ext cx="3133800" cy="3438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370640" y="1371600"/>
            <a:ext cx="1773360" cy="5486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3184560" y="2286000"/>
            <a:ext cx="1695240" cy="790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3133800" y="3200400"/>
            <a:ext cx="2562120" cy="7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TextBox 3"/>
          <p:cNvSpPr/>
          <p:nvPr/>
        </p:nvSpPr>
        <p:spPr>
          <a:xfrm>
            <a:off x="2868840" y="4037040"/>
            <a:ext cx="3080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pulse area”/rotation ang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qubit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-puls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/2-puls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6"/>
          <p:cNvGraphicFramePr/>
          <p:nvPr/>
        </p:nvGraphicFramePr>
        <p:xfrm>
          <a:off x="1905120" y="1725480"/>
          <a:ext cx="761760" cy="39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1725480"/>
                    <a:ext cx="761760" cy="390600"/>
                  </a:xfrm>
                  <a:prstGeom prst="rect">
                    <a:avLst/>
                  </a:prstGeom>
                  <a:ln w="9360">
                    <a:solidFill>
                      <a:srgbClr val="7575d1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36" name="Straight Arrow Connector 8"/>
          <p:cNvCxnSpPr/>
          <p:nvPr/>
        </p:nvCxnSpPr>
        <p:spPr>
          <a:xfrm>
            <a:off x="1676160" y="1980720"/>
            <a:ext cx="2293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37" name="TextBox 9"/>
          <p:cNvSpPr/>
          <p:nvPr/>
        </p:nvSpPr>
        <p:spPr>
          <a:xfrm>
            <a:off x="2668680" y="167148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MS PGothic"/>
              </a:rPr>
              <a:t>(“rotating fram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dc:language>en-US</dc:language>
  <cp:lastModifiedBy>Yong P. Chen</cp:lastModifiedBy>
  <cp:lastPrinted>2006-01-11T03:05:51Z</cp:lastPrinted>
  <dcterms:modified xsi:type="dcterms:W3CDTF">2016-02-18T14:04:39Z</dcterms:modified>
  <cp:revision>1077</cp:revision>
  <dc:subject>Physics 272H, Spring 2007</dc:subject>
  <dc:title>Lecture 2</dc:title>
</cp:coreProperties>
</file>