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C3AB-5331-4E37-9E4B-3ECC25783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7199A-8933-48CD-94DD-81B1BAACFBF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13D5-95F7-42E6-AFCC-A9BE78B3E5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D0965-DEDC-45E5-805F-6CA67A574C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F1B-054E-4612-8203-92CB1EF6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B65-CD7C-451D-9B8D-C69CFA25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A74-C938-445B-AAF8-A48C90CA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25F-B3BE-4A3B-A555-A497930F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359-02F6-42B6-B2E3-F5B2D08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C58-18C8-4A8B-96CB-E492731E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690-3499-422B-A737-09F94623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42A-A0F5-419E-AF7B-7C4962F0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944-6876-4B44-B274-F996E21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313-F0FC-4E29-88A5-5C2435F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CB5-4747-4476-9D03-BCAF2E8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16D-B5E8-420E-A9AC-2D87923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CF3-D207-4200-852A-D6EEDB95CB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AB1D-95CE-439F-A3A3-EF9F6707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Lecture 11     (2/18/2016)        Slide </a:t>
            </a:r>
            <a:fld id="{62FC4058-BC36-4665-AC32-AE1DC78D5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Optics &amp; Quantum Photon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6480" y="190476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 Classical 2-level system (Light-Atom interaction): Rabi &amp; Bloch; atom, QD &amp;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-15840" y="2268360"/>
            <a:ext cx="7467480" cy="2946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537240" y="3962520"/>
            <a:ext cx="2606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0240" y="2438280"/>
            <a:ext cx="5816520" cy="4050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le 2"/>
          <p:cNvSpPr/>
          <p:nvPr/>
        </p:nvSpPr>
        <p:spPr>
          <a:xfrm>
            <a:off x="3048120" y="2971800"/>
            <a:ext cx="304560" cy="83808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838080"/>
              <a:gd name="textAreaBottom" fmla="*/ 823320 h 838080"/>
            </a:gdLst>
            <a:ahLst/>
            <a:rect l="textAreaLeft" t="textAreaTop" r="textAreaRight" b="textAreaBottom"/>
            <a:pathLst>
              <a:path w="21600" h="59394">
                <a:moveTo>
                  <a:pt x="3600" y="0"/>
                </a:moveTo>
                <a:arcTo wR="3600" hR="3600" stAng="16200000" swAng="-5400000"/>
                <a:lnTo>
                  <a:pt x="0" y="55794"/>
                </a:lnTo>
                <a:arcTo wR="3600" hR="3600" stAng="10800000" swAng="-5400000"/>
                <a:lnTo>
                  <a:pt x="18000" y="59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5788080" y="2782800"/>
            <a:ext cx="3267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ed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928080" y="4724280"/>
            <a:ext cx="366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iabatic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ndau Zener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5638680"/>
            <a:ext cx="90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 Chap 5 in Steck book:  http://atomoptics.uoregon.edu/~dsteck/teaching/quantum-opt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-level system (Schordinger eq, Rabi, Blo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 Chap 9; Blasing lecture 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Appendix 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R/spin picture to understand 2-level system (Schordinger eq, Rabi etc) in Pauli matrices  [after rotating frame transform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36800" y="2057400"/>
            <a:ext cx="6581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47704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1247760" cy="5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6080" y="2743200"/>
            <a:ext cx="207648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60480" y="3095640"/>
            <a:ext cx="866880" cy="3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2784600" y="1962000"/>
            <a:ext cx="192384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5715000" y="1865160"/>
            <a:ext cx="14763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5586480" y="2581200"/>
            <a:ext cx="352584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8"/>
          <a:stretch/>
        </p:blipFill>
        <p:spPr>
          <a:xfrm>
            <a:off x="1827360" y="4114800"/>
            <a:ext cx="505764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9"/>
          <a:stretch/>
        </p:blipFill>
        <p:spPr>
          <a:xfrm>
            <a:off x="1887480" y="4672080"/>
            <a:ext cx="4208400" cy="15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10"/>
          <a:stretch/>
        </p:blipFill>
        <p:spPr>
          <a:xfrm>
            <a:off x="1827360" y="5181480"/>
            <a:ext cx="4039920" cy="6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827360" y="4672080"/>
            <a:ext cx="4268520" cy="1109520"/>
          </a:xfrm>
          <a:prstGeom prst="rect">
            <a:avLst/>
          </a:prstGeom>
          <a:noFill/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193920" y="2624040"/>
            <a:ext cx="1306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182880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2006640"/>
            <a:ext cx="283860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453384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038480" y="2619360"/>
            <a:ext cx="327672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276120" y="3571920"/>
            <a:ext cx="15526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190520" cy="285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76320" y="3571920"/>
            <a:ext cx="2133360" cy="847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2630520" y="3267000"/>
            <a:ext cx="471492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3629160" y="5029200"/>
            <a:ext cx="460044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Box 4"/>
          <p:cNvSpPr/>
          <p:nvPr/>
        </p:nvSpPr>
        <p:spPr>
          <a:xfrm>
            <a:off x="4588560" y="453384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DSE in c1,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9"/>
          <a:stretch/>
        </p:blipFill>
        <p:spPr>
          <a:xfrm>
            <a:off x="228600" y="5273640"/>
            <a:ext cx="2860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ield Limit/Einstein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28592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4960" y="15238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~                      ~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895480" y="1338120"/>
            <a:ext cx="424836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5"/>
          <p:cNvSpPr/>
          <p:nvPr/>
        </p:nvSpPr>
        <p:spPr>
          <a:xfrm flipV="1">
            <a:off x="5791320" y="1337760"/>
            <a:ext cx="9144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5791320" y="1338120"/>
            <a:ext cx="11430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995520" y="2133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949480" y="2317680"/>
            <a:ext cx="3429000" cy="70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628640" y="3038400"/>
            <a:ext cx="579132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5"/>
          <a:stretch/>
        </p:blipFill>
        <p:spPr>
          <a:xfrm>
            <a:off x="1628640" y="4038480"/>
            <a:ext cx="2867040" cy="5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266760" y="5148360"/>
            <a:ext cx="424800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114880" y="4329000"/>
            <a:ext cx="18194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3" descr=""/>
          <p:cNvPicPr/>
          <p:nvPr/>
        </p:nvPicPr>
        <p:blipFill>
          <a:blip r:embed="rId8"/>
          <a:stretch/>
        </p:blipFill>
        <p:spPr>
          <a:xfrm>
            <a:off x="5219640" y="5070600"/>
            <a:ext cx="1714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itrary/Strong Field –Rabi Fl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264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3"/>
          <p:cNvSpPr/>
          <p:nvPr/>
        </p:nvSpPr>
        <p:spPr>
          <a:xfrm>
            <a:off x="55800" y="1123920"/>
            <a:ext cx="36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esonant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 TDSE with R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962520" y="1204920"/>
            <a:ext cx="443232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0" y="3029040"/>
            <a:ext cx="215280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2152800" y="3029040"/>
            <a:ext cx="243828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87160" y="33764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resonant Rabi osci/f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3280" y="4648320"/>
            <a:ext cx="347832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55600" y="41562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Non-resonant Rabi oscillation  (reduced 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44320" y="57862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n-resonant Rabi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13280" y="5321160"/>
            <a:ext cx="14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-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1200240" y="3838680"/>
            <a:ext cx="1923840" cy="19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977280" y="47847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not able to completely flop/drive to excited st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7172280" y="1147680"/>
            <a:ext cx="137952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4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mped Rabi osc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72120" cy="286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4610160" cy="138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5120" y="60944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esonant &amp; moderate damping [cf.Loudon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504040" y="2881440"/>
            <a:ext cx="189540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515920" y="22525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rge t behavi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454160" y="2830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3309840" cy="604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120640" y="45244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nects to weak field/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35080" y="49356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t (small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7302600" y="914400"/>
            <a:ext cx="1819080" cy="69516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9"/>
          <p:cNvCxnSpPr/>
          <p:nvPr/>
        </p:nvCxnSpPr>
        <p:spPr>
          <a:xfrm flipV="1">
            <a:off x="4038480" y="1447560"/>
            <a:ext cx="3361680" cy="14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-level (Rabi) on Bloch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709640"/>
            <a:ext cx="313380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370640" y="1371600"/>
            <a:ext cx="1773360" cy="548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184560" y="228600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133800" y="3200400"/>
            <a:ext cx="25621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2868840" y="4037040"/>
            <a:ext cx="308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ulse area”/rotation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qubi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/2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905120" y="1725480"/>
          <a:ext cx="76176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725480"/>
                    <a:ext cx="761760" cy="390600"/>
                  </a:xfrm>
                  <a:prstGeom prst="rect">
                    <a:avLst/>
                  </a:prstGeom>
                  <a:ln w="9360">
                    <a:solidFill>
                      <a:srgbClr val="7575d1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36" name="Straight Arrow Connector 8"/>
          <p:cNvCxnSpPr/>
          <p:nvPr/>
        </p:nvCxnSpPr>
        <p:spPr>
          <a:xfrm>
            <a:off x="1676160" y="1980720"/>
            <a:ext cx="2293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9"/>
          <p:cNvSpPr/>
          <p:nvPr/>
        </p:nvSpPr>
        <p:spPr>
          <a:xfrm>
            <a:off x="2668680" y="1671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“rotating fram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dc:language>en-US</dc:language>
  <cp:lastModifiedBy>Yong P. Chen</cp:lastModifiedBy>
  <cp:lastPrinted>2006-01-11T03:05:51Z</cp:lastPrinted>
  <dcterms:modified xsi:type="dcterms:W3CDTF">2016-02-18T14:04:39Z</dcterms:modified>
  <cp:revision>1077</cp:revision>
  <dc:subject>Physics 272H, Spring 2007</dc:subject>
  <dc:title>Lecture 2</dc:title>
</cp:coreProperties>
</file>