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8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5.png" ContentType="image/png"/>
  <Override PartName="/ppt/media/image67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8.png" ContentType="image/png"/>
  <Override PartName="/ppt/media/image59.png" ContentType="image/png"/>
  <Override PartName="/ppt/media/image66.jpeg" ContentType="image/jpe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21.png" ContentType="image/png"/>
  <Override PartName="/ppt/media/image89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4.png" ContentType="image/png"/>
  <Override PartName="/ppt/media/image77.jpeg" ContentType="image/jpeg"/>
  <Override PartName="/ppt/media/image91.png" ContentType="image/png"/>
  <Override PartName="/ppt/media/image26.png" ContentType="image/png"/>
  <Override PartName="/ppt/media/image6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93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0C6B8-37B9-4AD3-A605-5E7C03D54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ene is a promising material for a variety of optoelectronics applications due to its unique electronic and optical properties. Graphene based photodetector (also known light sensor) have been attracted a lot of attention to the researchers in the recent years . The major advantages of the Graphene photodetector are .. Room T..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 types device architecture been proposed for fabricating graphene photodetectors which can be classify mainly two types . Category 1 where only pure graphene is used for fabricating devices and  extrinsic properties of pure graphene is used to get photoresponse from the devices. The types photodetector has shown a very high photoresponse time, however phoresponsivity is very low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 where  graphene mixture  other materials  such as quantum dot is used to get photoresponse from the devices and these   The types photodetector has shown a very slow photoresponse time, however phoresponsivity is very high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both type of devices are commonly fabricated on the doped silicon along with silicon dioxide which actually separates the graphene from the conducting silicon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C2EAC-7F42-4343-A10D-F602A687E2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53E-5FE8-475F-B18B-2430B323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D9D-1FC1-4251-8151-D239572C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467-1E15-4C86-BBA2-B4C7AE73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6C5-85E6-4A05-A1E5-7D302D9B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724-DDE3-4D62-9DA9-E913C9CD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984-FA57-4EB3-82FD-AF069AAB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FE3-FC73-40CC-BD5F-9E6E7C1C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71D-92FE-4D82-937C-E128F8A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AB6-760E-4121-BACB-FD241641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941-CEDA-4858-9F27-3421A04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DC4-2EF9-4729-B57A-32DAEEA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863-30F1-4008-AEF1-5303194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2533-C626-43C3-BB96-C8460D5865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046-C01A-405E-B27D-6DE913207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1/2016)         Slide </a:t>
            </a:r>
            <a:fld id="{9616655F-4EC1-4CB5-A56A-B80BA4ED8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wmf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e Broadening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s and Photodetector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-5; FS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://depts.washington.edu/cmditr/modules/lum/600px-Emspectrum_energy.jpg"/>
          <p:cNvPicPr/>
          <p:nvPr/>
        </p:nvPicPr>
        <p:blipFill>
          <a:blip r:embed="rId1"/>
          <a:stretch/>
        </p:blipFill>
        <p:spPr>
          <a:xfrm>
            <a:off x="-304920" y="59040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4952880" y="3967200"/>
            <a:ext cx="4191120" cy="2601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"/>
          <p:cNvCxnSpPr/>
          <p:nvPr/>
        </p:nvCxnSpPr>
        <p:spPr>
          <a:xfrm flipH="1" flipV="1">
            <a:off x="3123720" y="1980360"/>
            <a:ext cx="1829520" cy="2134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52" name="Picture 6" descr="http://upload.wikimedia.org/wikipedia/commons/thumb/f/f9/Yag-rod.jpg/220px-Yag-rod.jpg"/>
          <p:cNvPicPr/>
          <p:nvPr/>
        </p:nvPicPr>
        <p:blipFill>
          <a:blip r:embed="rId3"/>
          <a:stretch/>
        </p:blipFill>
        <p:spPr>
          <a:xfrm>
            <a:off x="7467480" y="2009880"/>
            <a:ext cx="1449360" cy="1447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7481520" y="3119400"/>
            <a:ext cx="146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 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414400" y="2089080"/>
            <a:ext cx="9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5200" y="4572000"/>
            <a:ext cx="416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ped or quantum confin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/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irect bandga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ed solid stat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hyperphysics.phy-astr.gsu.edu/hbase/optmod/imgopm/ruby2.gif"/>
          <p:cNvPicPr/>
          <p:nvPr/>
        </p:nvPicPr>
        <p:blipFill>
          <a:blip r:embed="rId1"/>
          <a:stretch/>
        </p:blipFill>
        <p:spPr>
          <a:xfrm>
            <a:off x="3165480" y="2438280"/>
            <a:ext cx="5978520" cy="373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tatic.ddmcdn.com/gif/laser5.gif"/>
          <p:cNvPicPr/>
          <p:nvPr/>
        </p:nvPicPr>
        <p:blipFill>
          <a:blip r:embed="rId2"/>
          <a:stretch/>
        </p:blipFill>
        <p:spPr>
          <a:xfrm>
            <a:off x="168120" y="3886200"/>
            <a:ext cx="2954520" cy="21337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20760" y="2438280"/>
            <a:ext cx="1203120" cy="12081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522080" y="2627280"/>
            <a:ext cx="126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r: Al2O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hyperphysics.phy-astr.gsu.edu/hbase/optmod/imgopm/Hene.gif"/>
          <p:cNvPicPr/>
          <p:nvPr/>
        </p:nvPicPr>
        <p:blipFill>
          <a:blip r:embed="rId1"/>
          <a:stretch/>
        </p:blipFill>
        <p:spPr>
          <a:xfrm>
            <a:off x="228600" y="1676520"/>
            <a:ext cx="466416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hyperphysics.phy-astr.gsu.edu/hbase/optmod/imgopm/Hene2.gif"/>
          <p:cNvPicPr/>
          <p:nvPr/>
        </p:nvPicPr>
        <p:blipFill>
          <a:blip r:embed="rId2"/>
          <a:stretch/>
        </p:blipFill>
        <p:spPr>
          <a:xfrm>
            <a:off x="838080" y="5486400"/>
            <a:ext cx="269568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worldoflasers.com/images/carbon-dioxide-laser-energy-levels.png"/>
          <p:cNvPicPr/>
          <p:nvPr/>
        </p:nvPicPr>
        <p:blipFill>
          <a:blip r:embed="rId3"/>
          <a:stretch/>
        </p:blipFill>
        <p:spPr>
          <a:xfrm>
            <a:off x="4795920" y="2733840"/>
            <a:ext cx="4348080" cy="36954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4"/>
          <a:stretch/>
        </p:blipFill>
        <p:spPr>
          <a:xfrm>
            <a:off x="7548480" y="1447920"/>
            <a:ext cx="1595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s://encrypted-tbn1.gstatic.com/images?q=tbn:ANd9GcQE_IyD6IQaN2nV_cRgZErmioH2mAgvth2sFHOhrLUveyypO1kR"/>
          <p:cNvPicPr/>
          <p:nvPr/>
        </p:nvPicPr>
        <p:blipFill>
          <a:blip r:embed="rId2"/>
          <a:stretch/>
        </p:blipFill>
        <p:spPr>
          <a:xfrm>
            <a:off x="533520" y="1981080"/>
            <a:ext cx="3429000" cy="388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483080" y="2570040"/>
            <a:ext cx="46767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83600" y="1346040"/>
            <a:ext cx="44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rst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 (hf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kind of Atomic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rophysical maser” in n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638680" y="1932120"/>
            <a:ext cx="2819520" cy="200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0" y="3657600"/>
            <a:ext cx="6629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me common types of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ic beam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mmonia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ee electro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idium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ispering-gallery modes iron-sapphire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 noble gas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4807080" y="4259160"/>
            <a:ext cx="1560240" cy="222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www.naic.edu/~astro/highlights/artistconcept.jpg"/>
          <p:cNvPicPr/>
          <p:nvPr/>
        </p:nvPicPr>
        <p:blipFill>
          <a:blip r:embed="rId3"/>
          <a:stretch/>
        </p:blipFill>
        <p:spPr>
          <a:xfrm>
            <a:off x="6172200" y="425916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Lefteri Gouliamakis talk and refer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62120" y="360504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643120" y="3591000"/>
            <a:ext cx="1285920" cy="88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105520" y="319104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periment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99440" y="60325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6774480" y="484200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me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PD theory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: photocond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98360" y="2484360"/>
            <a:ext cx="3100320" cy="2438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3676680" y="3103560"/>
            <a:ext cx="49449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ark current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curr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=I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itivity= photocurrent/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971800" y="4724280"/>
            <a:ext cx="5172120" cy="1798920"/>
            <a:chOff x="2971800" y="4724280"/>
            <a:chExt cx="5172120" cy="1798920"/>
          </a:xfrm>
        </p:grpSpPr>
        <p:pic>
          <p:nvPicPr>
            <p:cNvPr id="202" name="Picture 9" descr="https://encrypted-tbn0.gstatic.com/images?q=tbn:ANd9GcTTc-JaKavy2DtpxMdyzAcPA4JAWijFy-suvNoBSFb-Mrwrb3prSQ"/>
            <p:cNvPicPr/>
            <p:nvPr/>
          </p:nvPicPr>
          <p:blipFill>
            <a:blip r:embed="rId2"/>
            <a:stretch/>
          </p:blipFill>
          <p:spPr>
            <a:xfrm>
              <a:off x="2971800" y="4922280"/>
              <a:ext cx="5172120" cy="160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7"/>
            <p:cNvSpPr/>
            <p:nvPr/>
          </p:nvSpPr>
          <p:spPr>
            <a:xfrm>
              <a:off x="2971800" y="4724280"/>
              <a:ext cx="2286000" cy="160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Box 9"/>
          <p:cNvSpPr/>
          <p:nvPr/>
        </p:nvSpPr>
        <p:spPr>
          <a:xfrm>
            <a:off x="388440" y="5862600"/>
            <a:ext cx="48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electric or photothermoelect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(FQ Chap 4.7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l line shape/broadening (FQ Chap 4.4-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1752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044800" y="1219320"/>
            <a:ext cx="7145280" cy="483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1846080" cy="2236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50840" y="3827520"/>
            <a:ext cx="1697040" cy="1662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247880" y="1201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Box 2" descr=""/>
          <p:cNvPicPr/>
          <p:nvPr/>
        </p:nvPicPr>
        <p:blipFill>
          <a:blip r:embed="rId4"/>
          <a:stretch/>
        </p:blipFill>
        <p:spPr>
          <a:xfrm>
            <a:off x="182520" y="5931000"/>
            <a:ext cx="43768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www.ecse.rpi.edu/~schubert/Light-Emitting-Diodes-dot-org/chap21/F21-04%20Semiconduct%20converter.jpg"/>
          <p:cNvPicPr/>
          <p:nvPr/>
        </p:nvPicPr>
        <p:blipFill>
          <a:blip r:embed="rId2"/>
          <a:stretch/>
        </p:blipFill>
        <p:spPr>
          <a:xfrm>
            <a:off x="0" y="1019160"/>
            <a:ext cx="8839080" cy="4591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0" y="6248520"/>
            <a:ext cx="92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cse.rpi.edu/~schubert/Light-Emitting-Diodes-dot-org/chap21/F21-04%20Semiconduct%20converter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tf.uni-kiel.de/matwis/amat/semi_en/kap_5/illustr/bandgap_misfit.gif"/>
          <p:cNvPicPr/>
          <p:nvPr/>
        </p:nvPicPr>
        <p:blipFill>
          <a:blip r:embed="rId2"/>
          <a:stretch/>
        </p:blipFill>
        <p:spPr>
          <a:xfrm>
            <a:off x="168120" y="792000"/>
            <a:ext cx="8163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5133960" y="1114560"/>
            <a:ext cx="3324240" cy="33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343400" cy="4233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108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4"/>
          <a:stretch/>
        </p:blipFill>
        <p:spPr>
          <a:xfrm>
            <a:off x="-27000" y="4230720"/>
            <a:ext cx="2895480" cy="2627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3"/>
          <p:cNvSpPr/>
          <p:nvPr/>
        </p:nvSpPr>
        <p:spPr>
          <a:xfrm>
            <a:off x="5334120" y="4648320"/>
            <a:ext cx="33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uild-in electric field at the interface between QD layer and graphene due to the balance in Fermi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732720" y="357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bS: Electron do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553440" y="93492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.Konstantatos et al. ‘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5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>
            <a:off x="4710240" y="3576600"/>
            <a:ext cx="28440" cy="9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7"/>
          <a:stretch/>
        </p:blipFill>
        <p:spPr>
          <a:xfrm>
            <a:off x="2868480" y="4417920"/>
            <a:ext cx="2265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8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711ae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aphene Photodetectors and Photo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38120" y="2577960"/>
            <a:ext cx="3140280" cy="27925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-54000" y="5334120"/>
            <a:ext cx="4664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Graphene Ph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ast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ower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ue to “Intrinsic” properties of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carriers generated and transported in graphen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hotoelectric vs photothermoelectri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2"/>
          <a:stretch/>
        </p:blipFill>
        <p:spPr>
          <a:xfrm>
            <a:off x="4834080" y="2603520"/>
            <a:ext cx="3243240" cy="2925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4808520" y="5560920"/>
            <a:ext cx="4156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Hybrid Graphene-QD Photo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low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arriers generated external to graphene b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ransferred to /transported by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80960" y="371520"/>
            <a:ext cx="2871720" cy="201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3517920" y="380880"/>
            <a:ext cx="5092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Advantage of Graphene Pht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oom temperature  and broadband operation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spe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raphene is flexible, light, and visually transpar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wavelength can be tu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592440" y="1682640"/>
            <a:ext cx="35704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Potential Appl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-speed optical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erahertz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emote sensing  and Spect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7288560" y="5315040"/>
            <a:ext cx="17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Nano. 7, 363, (20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86400" y="494172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Photonics. 4, 297, (20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9"/>
          <p:cNvSpPr/>
          <p:nvPr/>
        </p:nvSpPr>
        <p:spPr>
          <a:xfrm>
            <a:off x="6553080" y="6195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FD94-4FE9-4E82-99A8-E8CF17103D9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ingle photon) photo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947880" y="1827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407280" y="1760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https://encrypted-tbn3.gstatic.com/images?q=tbn:ANd9GcSpQBnAXWCqwA-Nz2WJpgLrznVnhrgMc8y6Fou3rvTST8qn4WOCsa_kXzfM"/>
          <p:cNvPicPr/>
          <p:nvPr/>
        </p:nvPicPr>
        <p:blipFill>
          <a:blip r:embed="rId1"/>
          <a:stretch/>
        </p:blipFill>
        <p:spPr>
          <a:xfrm>
            <a:off x="19080" y="2590920"/>
            <a:ext cx="4248000" cy="2697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Avalanche Photodiode (APD)"/>
          <p:cNvPicPr/>
          <p:nvPr/>
        </p:nvPicPr>
        <p:blipFill>
          <a:blip r:embed="rId2"/>
          <a:stretch/>
        </p:blipFill>
        <p:spPr>
          <a:xfrm>
            <a:off x="5181480" y="2382840"/>
            <a:ext cx="2772000" cy="3159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477800" y="27417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M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Line shape/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1866960" cy="61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286000" y="1569960"/>
            <a:ext cx="2438280" cy="7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42920" y="2649600"/>
            <a:ext cx="3591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793040" y="4919760"/>
            <a:ext cx="41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omogeneous (Lorentzian, 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Inhomoeneous (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5730840" y="1644480"/>
            <a:ext cx="3554640" cy="2880000"/>
            <a:chOff x="5730840" y="1644480"/>
            <a:chExt cx="3554640" cy="2880000"/>
          </a:xfrm>
        </p:grpSpPr>
        <p:pic>
          <p:nvPicPr>
            <p:cNvPr id="72" name="Picture 5" descr=""/>
            <p:cNvPicPr/>
            <p:nvPr/>
          </p:nvPicPr>
          <p:blipFill>
            <a:blip r:embed="rId4"/>
            <a:stretch/>
          </p:blipFill>
          <p:spPr>
            <a:xfrm>
              <a:off x="5730840" y="1676520"/>
              <a:ext cx="33904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4"/>
            <p:cNvSpPr/>
            <p:nvPr/>
          </p:nvSpPr>
          <p:spPr>
            <a:xfrm>
              <a:off x="6462000" y="1644480"/>
              <a:ext cx="282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atural/radiative broade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7" descr=""/>
            <p:cNvPicPr/>
            <p:nvPr/>
          </p:nvPicPr>
          <p:blipFill>
            <a:blip r:embed="rId5"/>
            <a:stretch/>
          </p:blipFill>
          <p:spPr>
            <a:xfrm>
              <a:off x="6283440" y="4084920"/>
              <a:ext cx="2480760" cy="4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7812000" y="3017520"/>
              <a:ext cx="952200" cy="3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9" descr=""/>
          <p:cNvPicPr/>
          <p:nvPr/>
        </p:nvPicPr>
        <p:blipFill>
          <a:blip r:embed="rId7"/>
          <a:stretch/>
        </p:blipFill>
        <p:spPr>
          <a:xfrm>
            <a:off x="3759120" y="2827440"/>
            <a:ext cx="1959120" cy="4730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"/>
          <p:cNvGrpSpPr/>
          <p:nvPr/>
        </p:nvGrpSpPr>
        <p:grpSpPr>
          <a:xfrm>
            <a:off x="30240" y="3886200"/>
            <a:ext cx="4483080" cy="2617920"/>
            <a:chOff x="30240" y="3886200"/>
            <a:chExt cx="4483080" cy="2617920"/>
          </a:xfrm>
        </p:grpSpPr>
        <p:pic>
          <p:nvPicPr>
            <p:cNvPr id="78" name="Picture 10" descr=""/>
            <p:cNvPicPr/>
            <p:nvPr/>
          </p:nvPicPr>
          <p:blipFill>
            <a:blip r:embed="rId8"/>
            <a:stretch/>
          </p:blipFill>
          <p:spPr>
            <a:xfrm>
              <a:off x="143280" y="5104800"/>
              <a:ext cx="4370040" cy="139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"/>
            <p:cNvPicPr/>
            <p:nvPr/>
          </p:nvPicPr>
          <p:blipFill>
            <a:blip r:embed="rId9"/>
            <a:stretch/>
          </p:blipFill>
          <p:spPr>
            <a:xfrm>
              <a:off x="30240" y="6120000"/>
              <a:ext cx="12189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2" descr=""/>
            <p:cNvPicPr/>
            <p:nvPr/>
          </p:nvPicPr>
          <p:blipFill>
            <a:blip r:embed="rId10"/>
            <a:stretch/>
          </p:blipFill>
          <p:spPr>
            <a:xfrm>
              <a:off x="113040" y="3886200"/>
              <a:ext cx="4014360" cy="132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81" name="TextBox 5"/>
          <p:cNvSpPr/>
          <p:nvPr/>
        </p:nvSpPr>
        <p:spPr>
          <a:xfrm>
            <a:off x="2520360" y="318276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nonradiative/environmental (sol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11"/>
          <a:stretch/>
        </p:blipFill>
        <p:spPr>
          <a:xfrm>
            <a:off x="4403880" y="3543480"/>
            <a:ext cx="11016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“oscil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593424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2280" y="5288040"/>
            <a:ext cx="346716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89080" y="3733920"/>
            <a:ext cx="3835080" cy="136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3019320" y="5602320"/>
            <a:ext cx="1200240" cy="50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903040" y="610704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no satu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6383160" y="2771640"/>
            <a:ext cx="2524320" cy="49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840360" y="3456000"/>
            <a:ext cx="1171800" cy="590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6315480" y="40464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ut of equilibra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5554800" y="4734000"/>
            <a:ext cx="1819080" cy="571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3"/>
          <p:cNvSpPr/>
          <p:nvPr/>
        </p:nvSpPr>
        <p:spPr>
          <a:xfrm>
            <a:off x="5454000" y="438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opulation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8"/>
          <a:stretch/>
        </p:blipFill>
        <p:spPr>
          <a:xfrm>
            <a:off x="5442120" y="5540400"/>
            <a:ext cx="24285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8134200" y="6240600"/>
            <a:ext cx="1009800" cy="266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6"/>
          <p:cNvSpPr/>
          <p:nvPr/>
        </p:nvSpPr>
        <p:spPr>
          <a:xfrm>
            <a:off x="1078560" y="283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ump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658960" cy="747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3665160" y="13669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ble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952160" y="2438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o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5"/>
          <p:cNvCxnSpPr/>
          <p:nvPr/>
        </p:nvCxnSpPr>
        <p:spPr>
          <a:xfrm flipV="1">
            <a:off x="5333760" y="2361600"/>
            <a:ext cx="10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Oval 8"/>
          <p:cNvSpPr/>
          <p:nvPr/>
        </p:nvSpPr>
        <p:spPr>
          <a:xfrm>
            <a:off x="5210280" y="1981080"/>
            <a:ext cx="1998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3137040" y="3143160"/>
            <a:ext cx="2619360" cy="571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620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ing”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pulation Inversion for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6242040" cy="26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28600" y="4349880"/>
            <a:ext cx="3457440" cy="438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952640" y="5197320"/>
            <a:ext cx="212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ork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952880" y="3524400"/>
            <a:ext cx="3897360" cy="2824920"/>
            <a:chOff x="4952880" y="3524400"/>
            <a:chExt cx="3897360" cy="2824920"/>
          </a:xfrm>
        </p:grpSpPr>
        <p:pic>
          <p:nvPicPr>
            <p:cNvPr id="122" name="Picture 5" descr="http://upload.wikimedia.org/wikipedia/commons/4/41/Population-inversion-3level.png"/>
            <p:cNvPicPr/>
            <p:nvPr/>
          </p:nvPicPr>
          <p:blipFill>
            <a:blip r:embed="rId3"/>
            <a:stretch/>
          </p:blipFill>
          <p:spPr>
            <a:xfrm>
              <a:off x="4952880" y="3524400"/>
              <a:ext cx="38973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5570640" y="598104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higher thresho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1554120"/>
            <a:ext cx="65530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76320" y="3892680"/>
            <a:ext cx="519084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314280" y="4454640"/>
            <a:ext cx="3629160" cy="26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76320" y="4903920"/>
            <a:ext cx="4724280" cy="682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517400" y="34830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Transvers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5884920" y="3852720"/>
            <a:ext cx="3286080" cy="536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6477120" y="4473720"/>
            <a:ext cx="2498760" cy="49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7"/>
          <a:stretch/>
        </p:blipFill>
        <p:spPr>
          <a:xfrm>
            <a:off x="6553080" y="4970520"/>
            <a:ext cx="1724040" cy="49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8"/>
          <a:stretch/>
        </p:blipFill>
        <p:spPr>
          <a:xfrm>
            <a:off x="6781680" y="5586480"/>
            <a:ext cx="2248200" cy="25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9"/>
          <a:stretch/>
        </p:blipFill>
        <p:spPr>
          <a:xfrm>
            <a:off x="5961240" y="5602320"/>
            <a:ext cx="628560" cy="24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6562800" y="5591160"/>
            <a:ext cx="218880" cy="200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5884920" y="5586480"/>
            <a:ext cx="3144960" cy="26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1"/>
          <a:stretch/>
        </p:blipFill>
        <p:spPr>
          <a:xfrm>
            <a:off x="6754680" y="1490760"/>
            <a:ext cx="2389320" cy="187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6"/>
          <p:cNvSpPr/>
          <p:nvPr/>
        </p:nvSpPr>
        <p:spPr>
          <a:xfrm>
            <a:off x="6487560" y="339264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Longitudin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834360" y="202716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38560" y="149076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ny roundtrip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916360" cy="595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038400" y="4495680"/>
            <a:ext cx="6029280" cy="1857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710160" y="2600280"/>
            <a:ext cx="23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Multi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Singl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“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mode lock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84760" y="61228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mode locked laser –time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483960" y="2708280"/>
            <a:ext cx="14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MS PGothic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ulsed (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078000" y="600120"/>
            <a:ext cx="5948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2-23T19:47:12Z</cp:lastPrinted>
  <dcterms:modified xsi:type="dcterms:W3CDTF">2016-02-23T19:47:22Z</dcterms:modified>
  <cp:revision>450</cp:revision>
  <dc:subject>Physics 272H, Spring 2007</dc:subject>
  <dc:title>Lecture 2</dc:title>
</cp:coreProperties>
</file>