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2.jpeg" ContentType="image/jpe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0.png" ContentType="image/png"/>
  <Override PartName="/ppt/media/image58.png" ContentType="image/png"/>
  <Override PartName="/ppt/media/image22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5.png" ContentType="image/png"/>
  <Override PartName="/ppt/media/image67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8.png" ContentType="image/png"/>
  <Override PartName="/ppt/media/image59.png" ContentType="image/png"/>
  <Override PartName="/ppt/media/image66.jpeg" ContentType="image/jpe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21.png" ContentType="image/png"/>
  <Override PartName="/ppt/media/image89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4.png" ContentType="image/png"/>
  <Override PartName="/ppt/media/image77.jpeg" ContentType="image/jpeg"/>
  <Override PartName="/ppt/media/image91.png" ContentType="image/png"/>
  <Override PartName="/ppt/media/image26.png" ContentType="image/png"/>
  <Override PartName="/ppt/media/image6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93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6BAFA-4310-4E4B-B96B-945577F95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ene is a promising material for a variety of optoelectronics applications due to its unique electronic and optical properties. Graphene based photodetector (also known light sensor) have been attracted a lot of attention to the researchers in the recent years . The major advantages of the Graphene photodetector are .. Room T..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 types device architecture been proposed for fabricating graphene photodetectors which can be classify mainly two types . Category 1 where only pure graphene is used for fabricating devices and  extrinsic properties of pure graphene is used to get photoresponse from the devices. The types photodetector has shown a very high photoresponse time, however phoresponsivity is very low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2 where  graphene mixture  other materials  such as quantum dot is used to get photoresponse from the devices and these   The types photodetector has shown a very slow photoresponse time, however phoresponsivity is very high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both type of devices are commonly fabricated on the doped silicon along with silicon dioxide which actually separates the graphene from the conducting silicon subst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4A70D-4A34-4E07-A4F4-621B7B7E0F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FC0-4CB8-4DD9-ADA3-7F90B036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C7F-A7F4-4212-8D5C-6B80BACC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75A-D7AA-4BC5-B750-C64CDB85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93D-450B-4141-B635-1B22AF8E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3D2-218E-40D0-BB09-D73F5EEE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7D7-7680-4DD5-9008-C460BC22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33D-3A86-4B5C-93E0-6739DD9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702-E836-452C-A0D8-51EC1F8A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7A2-5404-4EE4-AC85-E480C5B1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11A-1F06-428C-B873-EEA3C40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B0A-7F22-45A7-B579-6CFE001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3EA-C89F-4E69-96A4-53A470D7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E97E-5465-4B79-B1AC-948CDB20DB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FD39-4F86-4E70-A95C-DFD344D28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9     (2/11/2016)         Slide </a:t>
            </a:r>
            <a:fld id="{446B6943-B617-4688-8F91-5A1C6FA84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wmf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e Broadening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ers and Photodetector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 4-5; FS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http://depts.washington.edu/cmditr/modules/lum/600px-Emspectrum_energy.jpg"/>
          <p:cNvPicPr/>
          <p:nvPr/>
        </p:nvPicPr>
        <p:blipFill>
          <a:blip r:embed="rId1"/>
          <a:stretch/>
        </p:blipFill>
        <p:spPr>
          <a:xfrm>
            <a:off x="-304920" y="59040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4952880" y="3967200"/>
            <a:ext cx="4191120" cy="2601720"/>
          </a:xfrm>
          <a:prstGeom prst="rect">
            <a:avLst/>
          </a:prstGeom>
          <a:ln w="0">
            <a:noFill/>
          </a:ln>
        </p:spPr>
      </p:pic>
      <p:cxnSp>
        <p:nvCxnSpPr>
          <p:cNvPr id="151" name="Straight Arrow Connector 4"/>
          <p:cNvCxnSpPr/>
          <p:nvPr/>
        </p:nvCxnSpPr>
        <p:spPr>
          <a:xfrm flipH="1" flipV="1">
            <a:off x="3123720" y="1980360"/>
            <a:ext cx="1829520" cy="2134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52" name="Picture 6" descr="http://upload.wikimedia.org/wikipedia/commons/thumb/f/f9/Yag-rod.jpg/220px-Yag-rod.jpg"/>
          <p:cNvPicPr/>
          <p:nvPr/>
        </p:nvPicPr>
        <p:blipFill>
          <a:blip r:embed="rId3"/>
          <a:stretch/>
        </p:blipFill>
        <p:spPr>
          <a:xfrm>
            <a:off x="7467480" y="2009880"/>
            <a:ext cx="1449360" cy="1447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7481520" y="3119400"/>
            <a:ext cx="1463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A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 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414400" y="2089080"/>
            <a:ext cx="9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5200" y="4572000"/>
            <a:ext cx="416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ped or quantum confin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or/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irect bandga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ed solid stat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ttp://hyperphysics.phy-astr.gsu.edu/hbase/optmod/imgopm/ruby2.gif"/>
          <p:cNvPicPr/>
          <p:nvPr/>
        </p:nvPicPr>
        <p:blipFill>
          <a:blip r:embed="rId1"/>
          <a:stretch/>
        </p:blipFill>
        <p:spPr>
          <a:xfrm>
            <a:off x="3165480" y="2438280"/>
            <a:ext cx="5978520" cy="3733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static.ddmcdn.com/gif/laser5.gif"/>
          <p:cNvPicPr/>
          <p:nvPr/>
        </p:nvPicPr>
        <p:blipFill>
          <a:blip r:embed="rId2"/>
          <a:stretch/>
        </p:blipFill>
        <p:spPr>
          <a:xfrm>
            <a:off x="168120" y="3886200"/>
            <a:ext cx="2954520" cy="213372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20760" y="2438280"/>
            <a:ext cx="1203120" cy="12081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522080" y="2627280"/>
            <a:ext cx="126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y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r: Al2O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hyperphysics.phy-astr.gsu.edu/hbase/optmod/imgopm/Hene.gif"/>
          <p:cNvPicPr/>
          <p:nvPr/>
        </p:nvPicPr>
        <p:blipFill>
          <a:blip r:embed="rId1"/>
          <a:stretch/>
        </p:blipFill>
        <p:spPr>
          <a:xfrm>
            <a:off x="228600" y="1676520"/>
            <a:ext cx="466416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hyperphysics.phy-astr.gsu.edu/hbase/optmod/imgopm/Hene2.gif"/>
          <p:cNvPicPr/>
          <p:nvPr/>
        </p:nvPicPr>
        <p:blipFill>
          <a:blip r:embed="rId2"/>
          <a:stretch/>
        </p:blipFill>
        <p:spPr>
          <a:xfrm>
            <a:off x="838080" y="5486400"/>
            <a:ext cx="269568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worldoflasers.com/images/carbon-dioxide-laser-energy-levels.png"/>
          <p:cNvPicPr/>
          <p:nvPr/>
        </p:nvPicPr>
        <p:blipFill>
          <a:blip r:embed="rId3"/>
          <a:stretch/>
        </p:blipFill>
        <p:spPr>
          <a:xfrm>
            <a:off x="4795920" y="2733840"/>
            <a:ext cx="4348080" cy="36954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4"/>
          <a:stretch/>
        </p:blipFill>
        <p:spPr>
          <a:xfrm>
            <a:off x="7548480" y="1447920"/>
            <a:ext cx="1595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d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s://encrypted-tbn1.gstatic.com/images?q=tbn:ANd9GcQE_IyD6IQaN2nV_cRgZErmioH2mAgvth2sFHOhrLUveyypO1kR"/>
          <p:cNvPicPr/>
          <p:nvPr/>
        </p:nvPicPr>
        <p:blipFill>
          <a:blip r:embed="rId2"/>
          <a:stretch/>
        </p:blipFill>
        <p:spPr>
          <a:xfrm>
            <a:off x="533520" y="1981080"/>
            <a:ext cx="3429000" cy="388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4483080" y="2570040"/>
            <a:ext cx="46767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83600" y="1346040"/>
            <a:ext cx="446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rst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Maser (hf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kind of Atomic c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trophysical maser” in na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5638680" y="1932120"/>
            <a:ext cx="2819520" cy="2008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0" y="3657600"/>
            <a:ext cx="6629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me common types of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ic beam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mmonia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ee electron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idium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 state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y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ispering-gallery modes iron-sapphire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 noble gas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4807080" y="4259160"/>
            <a:ext cx="1560240" cy="2229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www.naic.edu/~astro/highlights/artistconcept.jpg"/>
          <p:cNvPicPr/>
          <p:nvPr/>
        </p:nvPicPr>
        <p:blipFill>
          <a:blip r:embed="rId3"/>
          <a:stretch/>
        </p:blipFill>
        <p:spPr>
          <a:xfrm>
            <a:off x="6172200" y="425916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Lefteri Gouliamakis talk and refer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62120" y="360504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2643120" y="3591000"/>
            <a:ext cx="1285920" cy="885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5105520" y="319104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todetectors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periment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&amp; the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quantum optics/pho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hotodetection process: Quantum ligh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ntum response of photodet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common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conductor &amp; photo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hoton/counting detector: PMT &amp; 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lassical theory (Poi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/quantum noise, fan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99440" y="603252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’Chap 3.7; FQ Chap 5.8-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6774480" y="4842000"/>
            <a:ext cx="24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me 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PD theory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views on Photo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228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tter, R.A.; Wilson, D.M. “A Review of Photodetectors for Sensing Light-Emitting Reporters in Biological Systems”, IEEE SENSORS JOURNAL, 3,288,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rizan and Samo Korpar, “Photodetectors in Particle Physics Experiments”, Annu. Rev. Nucl. Part. Sci. 2013. 63:329–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hi et al. “Nanowire Photodetectors”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 Nanosci Nanotechnol. 2010 Mar;10(3):1430-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H.Rieke, Detection of Light (2ed. 2003) --- astro ap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 Knoll, ‘Radiation detection and measurement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holas Tsoulfanidis,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AND DETECTION OF RADI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, 3-ed 2010  [onli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p. higher energy radiation/ph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238880" y="434340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8734320" cy="4219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457200" y="5286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tter, R.A.; Wilson, D.M. “A Review of Photodetectors for Sensing Light-Emitting Reporters in Biological Systems”, IEEE SENSORS JOURNAL, 3,288, (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detector: photocond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98360" y="2484360"/>
            <a:ext cx="3100320" cy="2438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3676680" y="3103560"/>
            <a:ext cx="49449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ark current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curr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=I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ponsitivity= photocurrent/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2971800" y="4724280"/>
            <a:ext cx="5172120" cy="1798920"/>
            <a:chOff x="2971800" y="4724280"/>
            <a:chExt cx="5172120" cy="1798920"/>
          </a:xfrm>
        </p:grpSpPr>
        <p:pic>
          <p:nvPicPr>
            <p:cNvPr id="202" name="Picture 9" descr="https://encrypted-tbn0.gstatic.com/images?q=tbn:ANd9GcTTc-JaKavy2DtpxMdyzAcPA4JAWijFy-suvNoBSFb-Mrwrb3prSQ"/>
            <p:cNvPicPr/>
            <p:nvPr/>
          </p:nvPicPr>
          <p:blipFill>
            <a:blip r:embed="rId2"/>
            <a:stretch/>
          </p:blipFill>
          <p:spPr>
            <a:xfrm>
              <a:off x="2971800" y="4922280"/>
              <a:ext cx="5172120" cy="160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7"/>
            <p:cNvSpPr/>
            <p:nvPr/>
          </p:nvSpPr>
          <p:spPr>
            <a:xfrm>
              <a:off x="2971800" y="4724280"/>
              <a:ext cx="2286000" cy="1600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Box 9"/>
          <p:cNvSpPr/>
          <p:nvPr/>
        </p:nvSpPr>
        <p:spPr>
          <a:xfrm>
            <a:off x="388440" y="5862600"/>
            <a:ext cx="48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electric or photothermoelect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828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(FQ Chap 4.7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al line shape/broadening (FQ Chap 4.4-4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7000" y="4678200"/>
            <a:ext cx="19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learn m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vailable P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b on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1752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044800" y="1219320"/>
            <a:ext cx="7145280" cy="483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76320" y="1219320"/>
            <a:ext cx="1846080" cy="2236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150840" y="3827520"/>
            <a:ext cx="1697040" cy="16621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247880" y="1201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Box 2" descr=""/>
          <p:cNvPicPr/>
          <p:nvPr/>
        </p:nvPicPr>
        <p:blipFill>
          <a:blip r:embed="rId4"/>
          <a:stretch/>
        </p:blipFill>
        <p:spPr>
          <a:xfrm>
            <a:off x="182520" y="5931000"/>
            <a:ext cx="43768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://www.ecse.rpi.edu/~schubert/Light-Emitting-Diodes-dot-org/chap21/F21-04%20Semiconduct%20converter.jpg"/>
          <p:cNvPicPr/>
          <p:nvPr/>
        </p:nvPicPr>
        <p:blipFill>
          <a:blip r:embed="rId2"/>
          <a:stretch/>
        </p:blipFill>
        <p:spPr>
          <a:xfrm>
            <a:off x="0" y="1019160"/>
            <a:ext cx="8839080" cy="4591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0" y="6248520"/>
            <a:ext cx="929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ecse.rpi.edu/~schubert/Light-Emitting-Diodes-dot-org/chap21/F21-04%20Semiconduct%20converter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www.tf.uni-kiel.de/matwis/amat/semi_en/kap_5/illustr/bandgap_misfit.gif"/>
          <p:cNvPicPr/>
          <p:nvPr/>
        </p:nvPicPr>
        <p:blipFill>
          <a:blip r:embed="rId2"/>
          <a:stretch/>
        </p:blipFill>
        <p:spPr>
          <a:xfrm>
            <a:off x="168120" y="792000"/>
            <a:ext cx="8163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5133960" y="1114560"/>
            <a:ext cx="3324240" cy="3381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343400" cy="4233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108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4"/>
          <a:stretch/>
        </p:blipFill>
        <p:spPr>
          <a:xfrm>
            <a:off x="-27000" y="4230720"/>
            <a:ext cx="2895480" cy="2627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3"/>
          <p:cNvSpPr/>
          <p:nvPr/>
        </p:nvSpPr>
        <p:spPr>
          <a:xfrm>
            <a:off x="5334120" y="4648320"/>
            <a:ext cx="334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Build-in electric field at the interface between QD layer and graphene due to the balance in Fermi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732720" y="357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bS: Electron do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553440" y="934920"/>
            <a:ext cx="21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G.Konstantatos et al. ‘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5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6"/>
          <a:stretch/>
        </p:blipFill>
        <p:spPr>
          <a:xfrm>
            <a:off x="4710240" y="3576600"/>
            <a:ext cx="28440" cy="9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7"/>
          <a:stretch/>
        </p:blipFill>
        <p:spPr>
          <a:xfrm>
            <a:off x="2868480" y="4417920"/>
            <a:ext cx="22654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8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711ae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raphene Photodetectors and Photo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38120" y="2577960"/>
            <a:ext cx="3140280" cy="27925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-54000" y="5334120"/>
            <a:ext cx="4664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Graphene Photo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ast photo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ower photoresponsiv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Due to “Intrinsic” properties of Graph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(carriers generated and transported in graphen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hotoelectric vs photothermoelectric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2"/>
          <a:stretch/>
        </p:blipFill>
        <p:spPr>
          <a:xfrm>
            <a:off x="4834080" y="2603520"/>
            <a:ext cx="3243240" cy="2925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4808520" y="5560920"/>
            <a:ext cx="4156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Hybrid Graphene-QD Photo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 photoresponsiv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low photo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arriers generated external to graphene b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ransferred to /transported by graph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480960" y="371520"/>
            <a:ext cx="2871720" cy="2011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9"/>
          <p:cNvSpPr/>
          <p:nvPr/>
        </p:nvSpPr>
        <p:spPr>
          <a:xfrm>
            <a:off x="3517920" y="380880"/>
            <a:ext cx="5092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Advantage of Graphene Phtoto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Room temperature  and broadband operation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 spe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Graphene is flexible, light, and visually transpar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 wavelength can be tu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592440" y="1682640"/>
            <a:ext cx="35704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Potential Applic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-speed optical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erahertz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Remote sensing  and Spect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7288560" y="5315040"/>
            <a:ext cx="178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ature Nano. 7, 363, (20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86400" y="4941720"/>
            <a:ext cx="20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ature Photonics. 4, 297, (20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9"/>
          <p:cNvSpPr/>
          <p:nvPr/>
        </p:nvSpPr>
        <p:spPr>
          <a:xfrm>
            <a:off x="6553080" y="6195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BA31-29FD-4B0F-87ED-AB4EEC9F89A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ingle photon) photo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947880" y="1827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6407280" y="1760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https://encrypted-tbn3.gstatic.com/images?q=tbn:ANd9GcSpQBnAXWCqwA-Nz2WJpgLrznVnhrgMc8y6Fou3rvTST8qn4WOCsa_kXzfM"/>
          <p:cNvPicPr/>
          <p:nvPr/>
        </p:nvPicPr>
        <p:blipFill>
          <a:blip r:embed="rId1"/>
          <a:stretch/>
        </p:blipFill>
        <p:spPr>
          <a:xfrm>
            <a:off x="19080" y="2590920"/>
            <a:ext cx="4248000" cy="2697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Avalanche Photodiode (APD)"/>
          <p:cNvPicPr/>
          <p:nvPr/>
        </p:nvPicPr>
        <p:blipFill>
          <a:blip r:embed="rId2"/>
          <a:stretch/>
        </p:blipFill>
        <p:spPr>
          <a:xfrm>
            <a:off x="5181480" y="2382840"/>
            <a:ext cx="2772000" cy="3159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1477800" y="27417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g. M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Line shape/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1866960" cy="61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286000" y="1569960"/>
            <a:ext cx="2438280" cy="7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42920" y="2649600"/>
            <a:ext cx="35910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4793040" y="4919760"/>
            <a:ext cx="41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Homogeneous (Lorentzian, 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Inhomoeneous (Gaus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5730840" y="1644480"/>
            <a:ext cx="3554640" cy="2880000"/>
            <a:chOff x="5730840" y="1644480"/>
            <a:chExt cx="3554640" cy="2880000"/>
          </a:xfrm>
        </p:grpSpPr>
        <p:pic>
          <p:nvPicPr>
            <p:cNvPr id="72" name="Picture 5" descr=""/>
            <p:cNvPicPr/>
            <p:nvPr/>
          </p:nvPicPr>
          <p:blipFill>
            <a:blip r:embed="rId4"/>
            <a:stretch/>
          </p:blipFill>
          <p:spPr>
            <a:xfrm>
              <a:off x="5730840" y="1676520"/>
              <a:ext cx="339048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4"/>
            <p:cNvSpPr/>
            <p:nvPr/>
          </p:nvSpPr>
          <p:spPr>
            <a:xfrm>
              <a:off x="6462000" y="1644480"/>
              <a:ext cx="282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atural/radiative broade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7" descr=""/>
            <p:cNvPicPr/>
            <p:nvPr/>
          </p:nvPicPr>
          <p:blipFill>
            <a:blip r:embed="rId5"/>
            <a:stretch/>
          </p:blipFill>
          <p:spPr>
            <a:xfrm>
              <a:off x="6283440" y="4084920"/>
              <a:ext cx="2480760" cy="4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" descr=""/>
            <p:cNvPicPr/>
            <p:nvPr/>
          </p:nvPicPr>
          <p:blipFill>
            <a:blip r:embed="rId6"/>
            <a:stretch/>
          </p:blipFill>
          <p:spPr>
            <a:xfrm>
              <a:off x="7812000" y="3017520"/>
              <a:ext cx="952200" cy="33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9" descr=""/>
          <p:cNvPicPr/>
          <p:nvPr/>
        </p:nvPicPr>
        <p:blipFill>
          <a:blip r:embed="rId7"/>
          <a:stretch/>
        </p:blipFill>
        <p:spPr>
          <a:xfrm>
            <a:off x="3759120" y="2827440"/>
            <a:ext cx="1959120" cy="4730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6"/>
          <p:cNvGrpSpPr/>
          <p:nvPr/>
        </p:nvGrpSpPr>
        <p:grpSpPr>
          <a:xfrm>
            <a:off x="30240" y="3886200"/>
            <a:ext cx="4483080" cy="2617920"/>
            <a:chOff x="30240" y="3886200"/>
            <a:chExt cx="4483080" cy="2617920"/>
          </a:xfrm>
        </p:grpSpPr>
        <p:pic>
          <p:nvPicPr>
            <p:cNvPr id="78" name="Picture 10" descr=""/>
            <p:cNvPicPr/>
            <p:nvPr/>
          </p:nvPicPr>
          <p:blipFill>
            <a:blip r:embed="rId8"/>
            <a:stretch/>
          </p:blipFill>
          <p:spPr>
            <a:xfrm>
              <a:off x="143280" y="5104800"/>
              <a:ext cx="4370040" cy="139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"/>
            <p:cNvPicPr/>
            <p:nvPr/>
          </p:nvPicPr>
          <p:blipFill>
            <a:blip r:embed="rId9"/>
            <a:stretch/>
          </p:blipFill>
          <p:spPr>
            <a:xfrm>
              <a:off x="30240" y="6120000"/>
              <a:ext cx="121896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2" descr=""/>
            <p:cNvPicPr/>
            <p:nvPr/>
          </p:nvPicPr>
          <p:blipFill>
            <a:blip r:embed="rId10"/>
            <a:stretch/>
          </p:blipFill>
          <p:spPr>
            <a:xfrm>
              <a:off x="113040" y="3886200"/>
              <a:ext cx="4014360" cy="132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81" name="TextBox 5"/>
          <p:cNvSpPr/>
          <p:nvPr/>
        </p:nvSpPr>
        <p:spPr>
          <a:xfrm>
            <a:off x="2520360" y="318276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amp; nonradiative/environmental (sol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11"/>
          <a:stretch/>
        </p:blipFill>
        <p:spPr>
          <a:xfrm>
            <a:off x="4403880" y="3543480"/>
            <a:ext cx="11016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iclassical Light-Matter interaction: Einstei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6077160" cy="240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57440" cy="39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244440" y="4800600"/>
            <a:ext cx="2352600" cy="70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142920" y="5649840"/>
            <a:ext cx="2789280" cy="723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21320" y="6183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lanck black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4038480" y="4630680"/>
            <a:ext cx="194328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6"/>
          <a:stretch/>
        </p:blipFill>
        <p:spPr>
          <a:xfrm>
            <a:off x="5334120" y="3197160"/>
            <a:ext cx="3333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7"/>
          <a:stretch/>
        </p:blipFill>
        <p:spPr>
          <a:xfrm>
            <a:off x="1816200" y="3048120"/>
            <a:ext cx="1155600" cy="322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6450480" y="606744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Q Ch4/FS App-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6831000" y="4508640"/>
            <a:ext cx="858960" cy="61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9"/>
          <a:stretch/>
        </p:blipFill>
        <p:spPr>
          <a:xfrm>
            <a:off x="6703920" y="4319640"/>
            <a:ext cx="19717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er “oscill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593424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52280" y="5288040"/>
            <a:ext cx="346716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289080" y="3733920"/>
            <a:ext cx="3835080" cy="1365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3019320" y="5602320"/>
            <a:ext cx="1200240" cy="50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903040" y="610704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f no satu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6383160" y="2771640"/>
            <a:ext cx="2524320" cy="49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6840360" y="3456000"/>
            <a:ext cx="1171800" cy="590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6315480" y="40464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ut of equilibrai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7"/>
          <a:stretch/>
        </p:blipFill>
        <p:spPr>
          <a:xfrm>
            <a:off x="5554800" y="4734000"/>
            <a:ext cx="1819080" cy="571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3"/>
          <p:cNvSpPr/>
          <p:nvPr/>
        </p:nvSpPr>
        <p:spPr>
          <a:xfrm>
            <a:off x="5454000" y="438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opulation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8"/>
          <a:stretch/>
        </p:blipFill>
        <p:spPr>
          <a:xfrm>
            <a:off x="5442120" y="5540400"/>
            <a:ext cx="24285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10" descr=""/>
          <p:cNvPicPr/>
          <p:nvPr/>
        </p:nvPicPr>
        <p:blipFill>
          <a:blip r:embed="rId9"/>
          <a:stretch/>
        </p:blipFill>
        <p:spPr>
          <a:xfrm>
            <a:off x="8134200" y="6240600"/>
            <a:ext cx="1009800" cy="266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6"/>
          <p:cNvSpPr/>
          <p:nvPr/>
        </p:nvSpPr>
        <p:spPr>
          <a:xfrm>
            <a:off x="1078560" y="283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ump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581280" cy="553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658960" cy="747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3665160" y="13669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ble 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952160" y="2438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o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Straight Arrow Connector 5"/>
          <p:cNvCxnSpPr/>
          <p:nvPr/>
        </p:nvCxnSpPr>
        <p:spPr>
          <a:xfrm flipV="1">
            <a:off x="5333760" y="2361600"/>
            <a:ext cx="108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Oval 8"/>
          <p:cNvSpPr/>
          <p:nvPr/>
        </p:nvSpPr>
        <p:spPr>
          <a:xfrm>
            <a:off x="5210280" y="1981080"/>
            <a:ext cx="1998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3137040" y="3143160"/>
            <a:ext cx="2619360" cy="571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620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ing”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pulation Inversion for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6242040" cy="26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28600" y="4349880"/>
            <a:ext cx="3457440" cy="438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952640" y="5197320"/>
            <a:ext cx="212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ork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952880" y="3524400"/>
            <a:ext cx="3897360" cy="2824920"/>
            <a:chOff x="4952880" y="3524400"/>
            <a:chExt cx="3897360" cy="2824920"/>
          </a:xfrm>
        </p:grpSpPr>
        <p:pic>
          <p:nvPicPr>
            <p:cNvPr id="122" name="Picture 5" descr="http://upload.wikimedia.org/wikipedia/commons/4/41/Population-inversion-3level.png"/>
            <p:cNvPicPr/>
            <p:nvPr/>
          </p:nvPicPr>
          <p:blipFill>
            <a:blip r:embed="rId3"/>
            <a:stretch/>
          </p:blipFill>
          <p:spPr>
            <a:xfrm>
              <a:off x="4952880" y="3524400"/>
              <a:ext cx="389736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4"/>
            <p:cNvSpPr/>
            <p:nvPr/>
          </p:nvSpPr>
          <p:spPr>
            <a:xfrm>
              <a:off x="5570640" y="598104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higher threshol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er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1554120"/>
            <a:ext cx="655308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76320" y="3892680"/>
            <a:ext cx="5190840" cy="581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314280" y="4454640"/>
            <a:ext cx="3629160" cy="26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76320" y="4903920"/>
            <a:ext cx="4724280" cy="682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517400" y="34830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Transvers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5"/>
          <a:stretch/>
        </p:blipFill>
        <p:spPr>
          <a:xfrm>
            <a:off x="5884920" y="3852720"/>
            <a:ext cx="3286080" cy="536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6"/>
          <a:stretch/>
        </p:blipFill>
        <p:spPr>
          <a:xfrm>
            <a:off x="6477120" y="4473720"/>
            <a:ext cx="2498760" cy="496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7"/>
          <a:stretch/>
        </p:blipFill>
        <p:spPr>
          <a:xfrm>
            <a:off x="6553080" y="4970520"/>
            <a:ext cx="1724040" cy="496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8"/>
          <a:stretch/>
        </p:blipFill>
        <p:spPr>
          <a:xfrm>
            <a:off x="6781680" y="5586480"/>
            <a:ext cx="2248200" cy="257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9"/>
          <a:stretch/>
        </p:blipFill>
        <p:spPr>
          <a:xfrm>
            <a:off x="5961240" y="5602320"/>
            <a:ext cx="628560" cy="24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10"/>
          <a:stretch/>
        </p:blipFill>
        <p:spPr>
          <a:xfrm>
            <a:off x="6562800" y="5591160"/>
            <a:ext cx="218880" cy="200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5884920" y="5586480"/>
            <a:ext cx="3144960" cy="26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11"/>
          <a:stretch/>
        </p:blipFill>
        <p:spPr>
          <a:xfrm>
            <a:off x="6754680" y="1490760"/>
            <a:ext cx="2389320" cy="187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6"/>
          <p:cNvSpPr/>
          <p:nvPr/>
        </p:nvSpPr>
        <p:spPr>
          <a:xfrm>
            <a:off x="6487560" y="339264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Longitudina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834360" y="202716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e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538560" y="149076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ny roundtrip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916360" cy="595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3038400" y="4495680"/>
            <a:ext cx="6029280" cy="18576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3710160" y="2600280"/>
            <a:ext cx="23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Multi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Singl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“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mode lock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84760" y="61228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mode locked laser –time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483960" y="2708280"/>
            <a:ext cx="14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MS PGothic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Pulsed (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3078000" y="600120"/>
            <a:ext cx="5948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16-02-23T19:47:12Z</cp:lastPrinted>
  <dcterms:modified xsi:type="dcterms:W3CDTF">2016-02-23T19:47:22Z</dcterms:modified>
  <cp:revision>450</cp:revision>
  <dc:subject>Physics 272H, Spring 2007</dc:subject>
  <dc:title>Lecture 2</dc:title>
</cp:coreProperties>
</file>